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FCE-66ED-4148-BEFD-E65BACCA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52A-88C2-4438-96B7-5ED907E8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552-4D52-4822-92C1-7F60A906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D73-C984-4C96-A2CE-DB159F25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195-45A7-4702-99CA-298529F1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852-FB7F-4F64-B9F8-7A00A322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93E-C7C3-4F23-9F61-7DED4794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E2D-CAF6-45EF-8339-F1828D6E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A62-F11F-4FEE-88A7-DD6BA2EE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995-6061-4BEC-9249-B435BBE7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CDA-03D3-4C94-B2AD-45C3792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D78-F839-4E49-9370-D558EB97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52428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5B53-78E2-40F7-A2EB-8A79B36B6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aling of Max and Min Q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sli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3429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azuo Sugimoto, Shun-ichi Sekigu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2064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F1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270-94BA-4322-858D-D801079D9B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3800" y="692280"/>
            <a:ext cx="6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41371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14000" y="39402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7240" y="1700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uncated Golomb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A4E-FDCC-413B-968F-5D99AC28D8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3800" y="692280"/>
            <a:ext cx="68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41497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14000" y="3952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30000" y="423720"/>
            <a:ext cx="300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uncated Golomb of Max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1F9-8F11-445A-AA18-19F949551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3800" y="692280"/>
            <a:ext cx="68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41497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14000" y="3952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66400" y="2046240"/>
            <a:ext cx="68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FEE-F46D-4678-8F0E-C676FF1DFB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3800" y="692280"/>
            <a:ext cx="68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66400" y="2046240"/>
            <a:ext cx="68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68360" y="765000"/>
          <a:ext cx="6588360" cy="5083200"/>
        </p:xfrm>
        <a:graphic>
          <a:graphicData uri="http://schemas.openxmlformats.org/drawingml/2006/table">
            <a:tbl>
              <a:tblPr/>
              <a:tblGrid>
                <a:gridCol w="790920"/>
                <a:gridCol w="1028520"/>
                <a:gridCol w="1047600"/>
                <a:gridCol w="1146240"/>
                <a:gridCol w="1578240"/>
                <a:gridCol w="996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Q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tional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 for Conventional 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 with only change of index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 for proposed me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1D3-B18E-4072-95B8-5DBE67ABCD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ftware for CE4 (with TM5 step 3)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xCuDQPDepth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23C-E1AD-40F7-A1A5-3988A176CB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2920" y="2125800"/>
            <a:ext cx="8893080" cy="23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C01-A070-4520-8591-AB883E0DCC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2920" y="2205000"/>
            <a:ext cx="8893080" cy="23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B9F-9DDE-4811-967F-6E05F49768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920" y="2243160"/>
            <a:ext cx="8893080" cy="23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EDE-1870-4850-B85A-AB49158E17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gnal Maximum and Minimum QP within a slice at the slice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QP Indexing is done by assigning smaller index value to possible smaller absolut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LC table or binarization of the size of dQP dynamic range in a slice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sults (delta QP bit red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6%, 3.5% and 4.4% for AI/RA/LD(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.2%,10.3% and 11.0% for AI/RA/LD(L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opose signaling MaxQP and MinQP at the slic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7C1-7A1E-4BF2-9217-7710048320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ignal Maximum and Minimum QP within a slice at the slic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QP Indexing is done by assigning smaller index value to possible smaller absolu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LC table or binarization of the size of dQP dynamic range in a slice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sults (delta QP bit redu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6%, 3.5% and 4.4% for AI/RA/LD(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.2%,10.3% and 11.0% for AI/RA/LD(L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BA2-6317-4632-8CFA-0E75FA2C1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ignal Maximum and Minimum QP within a slice at the slic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ignal d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w indexing exploiting dynamic range of dQP specified by MaxQP and Min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xQP – MinQP = dQP_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urrent_QP = Ref_QP + d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LC table or binarization table with maximum index is dQP_range is u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C7B-B2A0-46DE-BA22-F70A164C82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Indexing exploiting dynamic range of dQP in a sl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ample: Max QP=37, Min QP = 25, Ref_QP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92360" y="2052720"/>
          <a:ext cx="5199120" cy="4689360"/>
        </p:xfrm>
        <a:graphic>
          <a:graphicData uri="http://schemas.openxmlformats.org/drawingml/2006/table">
            <a:tbl>
              <a:tblPr/>
              <a:tblGrid>
                <a:gridCol w="1131840"/>
                <a:gridCol w="2190600"/>
                <a:gridCol w="187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QP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ntional Index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Index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B65-2116-451D-9E3C-7A5256F09C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BAC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se Trancated Unary binarization instead of Unary binar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x value = MaxQP-Min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372-E434-43F9-8C5D-7B50E6AA02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LC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se concatenated truncated Golomb code instead of SV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E76-28E5-4B8D-B222-14732538F8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5240" y="692280"/>
            <a:ext cx="1319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1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41371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4000" y="39402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549360"/>
            <a:ext cx="70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Concatinated Truncated Golomb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AA4-8C7C-4F83-AC19-F74F08AF67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637000"/>
            <a:ext cx="1655640" cy="35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240" y="692280"/>
            <a:ext cx="1319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1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5589360"/>
            <a:ext cx="1368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8360" y="52484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delete thi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41371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4000" y="39402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583-4951-47E6-AD8A-CB5F97C4B0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1640" y="1557360"/>
            <a:ext cx="712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4160" y="692280"/>
            <a:ext cx="81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213000"/>
            <a:ext cx="23050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8360" y="5248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41371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4000" y="39402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DAF-800D-4E57-919D-22827323CB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>GB72714</dc:creator>
  <dc:description/>
  <dc:language>en-US</dc:language>
  <cp:lastModifiedBy>Kazuo Sugimoto</cp:lastModifiedBy>
  <dcterms:modified xsi:type="dcterms:W3CDTF">2011-07-15T16:50:02Z</dcterms:modified>
  <cp:revision>103</cp:revision>
  <dc:subject/>
  <dc:title>ドレスデン会合準備について</dc:title>
</cp:coreProperties>
</file>