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7C25A-949D-495F-9054-97898F3B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D1360-0FAC-48B1-9E42-5DC55419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7FB1-3A6A-4242-9969-8FB8BFAF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68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32640"/>
            <a:ext cx="2502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AF39D-9A76-4949-82BB-EE1868E8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15655-645B-4B31-8B3A-F951517EA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77CF9-673B-4DF2-B763-93AB9B19E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9B845-7BE8-42F5-8B54-A1F1B731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EB45D-DCF3-4020-A810-C5C43347A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-9000"/>
            <a:ext cx="7772400" cy="326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C34A4-810C-4E07-B003-0B4514CAE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F58D2-2A1B-409D-9ED7-5033E7354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3264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A8A77-A947-4AFD-A055-D26DDF1F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680"/>
            <a:ext cx="37926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32640"/>
            <a:ext cx="7772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DDD4-5164-47A4-92CE-4796E315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-900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cc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8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正方形/長方形 7"/>
          <p:cNvSpPr/>
          <p:nvPr/>
        </p:nvSpPr>
        <p:spPr>
          <a:xfrm>
            <a:off x="0" y="6566040"/>
            <a:ext cx="9144000" cy="291960"/>
          </a:xfrm>
          <a:prstGeom prst="rect">
            <a:avLst/>
          </a:prstGeom>
          <a:gradFill rotWithShape="0">
            <a:gsLst>
              <a:gs pos="0">
                <a:srgbClr val="5962a1"/>
              </a:gs>
              <a:gs pos="100000">
                <a:srgbClr val="a4a9cc">
                  <a:alpha val="9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" name="図 8" descr="sony_w.png"/>
          <p:cNvPicPr/>
          <p:nvPr/>
        </p:nvPicPr>
        <p:blipFill>
          <a:blip r:embed="rId2"/>
          <a:stretch/>
        </p:blipFill>
        <p:spPr>
          <a:xfrm>
            <a:off x="158760" y="6637320"/>
            <a:ext cx="925560" cy="1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400800" y="65606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600" spc="-1" strike="noStrike">
                <a:solidFill>
                  <a:srgbClr val="ffffff"/>
                </a:solidFill>
                <a:latin typeface="Tahoma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CD1C7-D155-47CF-924A-2B0075E9291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2763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218960" y="655272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43C54-C549-4A39-B8BB-4563F9EEE553}" type="datetime">
              <a:rPr b="0" lang="en-US" sz="1400" spc="-1" strike="noStrike">
                <a:solidFill>
                  <a:srgbClr val="000000"/>
                </a:solidFill>
                <a:latin typeface="Times New Roman"/>
                <a:ea typeface="SimSu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45680" y="1031760"/>
            <a:ext cx="7604280" cy="255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66"/>
                </a:solidFill>
                <a:latin typeface="Tahoma"/>
              </a:rPr>
              <a:t>CE11: Cross checking of  JCTVC-C227 and proposal on semantic, syntax, and implementa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9716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heung Auyeung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ony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July 7, 2011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5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5922-F34B-4BAD-9C62-5B60CD19CD1D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TextBox 4"/>
          <p:cNvSpPr/>
          <p:nvPr/>
        </p:nvSpPr>
        <p:spPr>
          <a:xfrm>
            <a:off x="539640" y="376200"/>
            <a:ext cx="20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CTVC-F13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p-right scan from TI JCTVC-F129 for HE significance map coding resulted in coding gain and better parallel processing for H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 to adopt JCTVC-F129 for HM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JTCVC-F129 implementation, syntax and semantics for HE do not harmonize with LC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is contribution supplements JCTVC-F129 by providing harmonization between HE and LC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 to adopt JCTVC-F134 software for HM4 software and JCTVC-F134 syntax and semantics for WD4 and HM4 tex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D8440-5934-4D21-A085-E020D982F9ED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5800" y="685440"/>
            <a:ext cx="7772400" cy="58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bjectiv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armonize the contribution JCTVC-F129 on “Parallelization of HHI_TRANSORM_CODING (Fixed Diagonal Scan from C227)” for High Efficiency and Low Complexity co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tatu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e TI software CE11-C227-TI and contribution JCTVC-F129 proposed to use up-right scan to replace zig-zag scan for HE cod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6633"/>
                </a:solidFill>
                <a:latin typeface="Tahoma"/>
              </a:rPr>
              <a:t>A side effect of CE11-C227-TI and JCTVC-F129 is that the zig-zag scan for LC case is also replaced by up-right scan.</a:t>
            </a:r>
            <a:endParaRPr b="0" lang="en-US" sz="1800" spc="-1" strike="noStrike">
              <a:solidFill>
                <a:srgbClr val="996633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contribution provides alternate implementations, semantics, and syntax for TI’s contribution JCTVC-F129 for harmonizing the HE and LC coding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ross-Check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 kindly provided cross check in JCTVC-F671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996633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33"/>
                </a:solidFill>
                <a:latin typeface="Tahoma"/>
              </a:rPr>
              <a:t>Thank you</a:t>
            </a:r>
            <a:endParaRPr b="0" lang="en-US" sz="2800" spc="-1" strike="noStrike">
              <a:solidFill>
                <a:srgbClr val="996633"/>
              </a:solidFill>
              <a:latin typeface="Tahoma"/>
            </a:endParaRPr>
          </a:p>
        </p:txBody>
      </p:sp>
      <p:sp>
        <p:nvSpPr>
          <p:cNvPr id="49" name="Slide Number Placeholder 1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86E8-9F13-4FB4-AEB1-A259C899414A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114480" y="-11520"/>
            <a:ext cx="9258480" cy="70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Summary of JCTVC-F129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I contribution JCTVC-F129 and software CE11-C227-TI replaced zig-zag scan by up-right scan for HE significance map coding of 4x4, 8x8, 16x16, 32x32 blocks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side effect is that the zig-zag scan for transform coefficients coding in LC is also been replaced by up-right scan.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2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CBB98-E2A1-45FE-8DA2-E30B4D2AD9D0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4" name="Object 5"/>
          <p:cNvGraphicFramePr/>
          <p:nvPr/>
        </p:nvGraphicFramePr>
        <p:xfrm>
          <a:off x="1600200" y="2979720"/>
          <a:ext cx="5486400" cy="136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979720"/>
                    <a:ext cx="5486400" cy="13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Up-Right Scan for All Block Size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 parallel processing of significance map in HE, it is sufficient to replace zig-zag scan by up-right scan for 16x16 and 32x32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p-right scan is only applied to 16x16 and 32x32, coding gain is low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up-right scan is applied to all block sizes, coding gain is hig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 parallel processing and higher coding efficiency, apply up-right scan to all block sizes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0A04A-45B6-4B4D-8503-6B6C7015BEAD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of Right-Up Scan for HE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0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6AFFE-A92D-46EA-86B2-F1FAEB6BD8F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914400" y="755640"/>
          <a:ext cx="3200400" cy="5302440"/>
        </p:xfrm>
        <a:graphic>
          <a:graphicData uri="http://schemas.openxmlformats.org/drawingml/2006/table">
            <a:tbl>
              <a:tblPr/>
              <a:tblGrid>
                <a:gridCol w="1174680"/>
                <a:gridCol w="676440"/>
                <a:gridCol w="674640"/>
                <a:gridCol w="674640"/>
              </a:tblGrid>
              <a:tr h="16524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029200" y="755640"/>
          <a:ext cx="3200400" cy="5302440"/>
        </p:xfrm>
        <a:graphic>
          <a:graphicData uri="http://schemas.openxmlformats.org/drawingml/2006/table">
            <a:tbl>
              <a:tblPr/>
              <a:tblGrid>
                <a:gridCol w="1174680"/>
                <a:gridCol w="676440"/>
                <a:gridCol w="674640"/>
                <a:gridCol w="674640"/>
              </a:tblGrid>
              <a:tr h="16524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om acces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 BD-r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TextBox 8"/>
          <p:cNvSpPr/>
          <p:nvPr/>
        </p:nvSpPr>
        <p:spPr>
          <a:xfrm>
            <a:off x="702360" y="6172200"/>
            <a:ext cx="381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-right scan applied to all block siz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4668120" y="6172200"/>
            <a:ext cx="413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-right scan applied to 16x16 and 32x3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Cross Checking of JCTVC-F129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F630-99C6-4451-80E3-A7374B21B134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TextBox 6"/>
          <p:cNvSpPr/>
          <p:nvPr/>
        </p:nvSpPr>
        <p:spPr>
          <a:xfrm>
            <a:off x="857520" y="6058080"/>
            <a:ext cx="762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ing loss is observed for RA_LC and LD_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743200" y="800280"/>
          <a:ext cx="3498840" cy="5302080"/>
        </p:xfrm>
        <a:graphic>
          <a:graphicData uri="http://schemas.openxmlformats.org/drawingml/2006/table">
            <a:tbl>
              <a:tblPr/>
              <a:tblGrid>
                <a:gridCol w="787320"/>
                <a:gridCol w="451080"/>
                <a:gridCol w="452160"/>
                <a:gridCol w="452520"/>
                <a:gridCol w="452520"/>
                <a:gridCol w="450720"/>
                <a:gridCol w="452520"/>
              </a:tblGrid>
              <a:tr h="1648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3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#NUM!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-319320"/>
            <a:ext cx="9144000" cy="132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BDR of JCTVC-F134 Implementation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0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C3770-6402-451B-A66D-CE631E055CE2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743200" y="800280"/>
          <a:ext cx="3498840" cy="5302080"/>
        </p:xfrm>
        <a:graphic>
          <a:graphicData uri="http://schemas.openxmlformats.org/drawingml/2006/table">
            <a:tbl>
              <a:tblPr/>
              <a:tblGrid>
                <a:gridCol w="787320"/>
                <a:gridCol w="451080"/>
                <a:gridCol w="452160"/>
                <a:gridCol w="452520"/>
                <a:gridCol w="452520"/>
                <a:gridCol w="450720"/>
                <a:gridCol w="452520"/>
              </a:tblGrid>
              <a:tr h="1648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 intra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 rowSpan="2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ndom access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H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w delay (B) 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0c0c0"/>
                    </a:solidFill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8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 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8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veral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0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66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524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Time[%]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2" name="TextBox 4"/>
          <p:cNvSpPr/>
          <p:nvPr/>
        </p:nvSpPr>
        <p:spPr>
          <a:xfrm>
            <a:off x="595800" y="6058080"/>
            <a:ext cx="81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oding loss is observed for RA_LC and LD_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12840"/>
            <a:ext cx="77724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Proposed Changes to Semantics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0666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HM3 has three Scan Orders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Order[0] is ZigZag S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Order[1] is Horizontal S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Order[2] is Vertical S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Add a new Scan Order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Order[3] is UpRight Sc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Slide Number Placeholder 2"/>
          <p:cNvSpPr/>
          <p:nvPr/>
        </p:nvSpPr>
        <p:spPr>
          <a:xfrm>
            <a:off x="6400800" y="6561000"/>
            <a:ext cx="1905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10501-197B-447E-9FB7-F3796EAD4281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-828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66"/>
                </a:solidFill>
                <a:latin typeface="Tahoma"/>
              </a:rPr>
              <a:t>Proposed Changes to Syntax</a:t>
            </a:r>
            <a:endParaRPr b="0" lang="en-US" sz="4000" spc="-1" strike="noStrike">
              <a:solidFill>
                <a:srgbClr val="cc0066"/>
              </a:solidFill>
              <a:latin typeface="Tahoma"/>
            </a:endParaRPr>
          </a:p>
        </p:txBody>
      </p:sp>
      <p:sp>
        <p:nvSpPr>
          <p:cNvPr id="77" name="Slide Number Placeholder 2"/>
          <p:cNvSpPr/>
          <p:nvPr/>
        </p:nvSpPr>
        <p:spPr>
          <a:xfrm>
            <a:off x="6286680" y="6561000"/>
            <a:ext cx="1904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4EE8B-09E1-4148-A98E-8D3D997A1198}" type="slidenum">
              <a:rPr b="0" lang="zh-CN" sz="1600" spc="-1" strike="noStrike">
                <a:solidFill>
                  <a:srgbClr val="ffffff"/>
                </a:solidFill>
                <a:latin typeface="Tahoma"/>
                <a:ea typeface="SimSu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Table 4" descr=""/>
          <p:cNvPicPr/>
          <p:nvPr/>
        </p:nvPicPr>
        <p:blipFill>
          <a:blip r:embed="rId1"/>
          <a:stretch/>
        </p:blipFill>
        <p:spPr>
          <a:xfrm>
            <a:off x="1163520" y="706320"/>
            <a:ext cx="7499520" cy="498816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8"/>
          <p:cNvGrpSpPr/>
          <p:nvPr/>
        </p:nvGrpSpPr>
        <p:grpSpPr>
          <a:xfrm>
            <a:off x="2563920" y="5637240"/>
            <a:ext cx="3522600" cy="914400"/>
            <a:chOff x="2563920" y="5637240"/>
            <a:chExt cx="3522600" cy="914400"/>
          </a:xfrm>
        </p:grpSpPr>
        <p:sp>
          <p:nvSpPr>
            <p:cNvPr id="80" name="Rectangle 2"/>
            <p:cNvSpPr/>
            <p:nvPr/>
          </p:nvSpPr>
          <p:spPr>
            <a:xfrm>
              <a:off x="2563920" y="5931720"/>
              <a:ext cx="194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apZZtoUR( scanIdx ) = 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aphicFrame>
          <p:nvGraphicFramePr>
            <p:cNvPr id="81" name="Object 1"/>
            <p:cNvGraphicFramePr/>
            <p:nvPr/>
          </p:nvGraphicFramePr>
          <p:xfrm>
            <a:off x="4392720" y="5637240"/>
            <a:ext cx="1693800" cy="914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2" name="Object 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392720" y="5637240"/>
                      <a:ext cx="169380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3" name="Rectangle 3"/>
          <p:cNvSpPr/>
          <p:nvPr/>
        </p:nvSpPr>
        <p:spPr>
          <a:xfrm>
            <a:off x="4455000" y="585360"/>
            <a:ext cx="23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2T01:05:12Z</dcterms:created>
  <dc:creator>Mohammad Gharavi</dc:creator>
  <dc:description/>
  <dc:language>en-US</dc:language>
  <cp:lastModifiedBy>Cheung Auyeung</cp:lastModifiedBy>
  <dcterms:modified xsi:type="dcterms:W3CDTF">2011-07-08T01:11:41Z</dcterms:modified>
  <cp:revision>5075</cp:revision>
  <dc:subject/>
  <dc:title>PowerPoint Presentation</dc:title>
</cp:coreProperties>
</file>