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10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4.wmf" ContentType="image/x-wmf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2B9C-A29B-4115-A802-62F6B71CCD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418A-988D-433A-A0A9-8087686B7E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043A-1838-479E-A289-296EA2626D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D98F-94D0-40D4-A740-3B04B4B081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7AF13-7B3B-4B74-9C22-EF1FD3B67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8E0D3-A777-45EB-9870-376DE7B7E40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6B66C7-5F67-4D1B-902E-588BE844365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A4E597-9D97-40E3-B40D-E148240F08D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414123-DD00-42C5-B373-E46EB8F7B6E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0C785C-6B1F-4CCF-8FEA-A997EF9C673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60F6B9-9398-4546-8419-640BDF7175A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0B891E-02EB-42BB-ADA8-02479B3B025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DA7B14-6BAE-41B3-83A9-44C07A541C6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58A408-A1DD-4311-99DB-D1EA77DE32B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5F3A9C-1F3E-476A-A2C2-467D56C66EC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1B60C-60DA-4600-9D4A-ED209EB16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25227-E269-456E-8A80-B28D213227E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345DC-3586-4135-8C9F-DBC40C6D1DE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51EB9-126A-45F2-A231-85ABA207B06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67E21-F611-45CF-91AE-9AFE4C44F21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6D914-9ECF-432D-8379-2C30F9EDF57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6EA54-82E3-424D-8618-AB45289E640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B4971-B192-4E34-BBC0-B4190D0D427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16E50-1FA9-496B-B693-FA29D6A6DD2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0FD11-5020-4B30-9ECF-3010DB040B6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09D9B-757C-4DD6-AE93-4FE912E3393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75AF5-00A9-4BB3-AFC8-00FE463C9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933F5-515E-48C0-B428-6F026982E9F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DF918-806C-43DA-9AE8-9FF92755B85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EA228F-BBC5-4141-B253-7FC83740768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1B5B0C-8432-4C58-BD17-332F687CCEA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E7D89C-0906-4863-AC61-343BED621C9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A8B4F4-2CD5-4E2E-B37A-2E9DA46882F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6761F6-F7FE-4C42-AC9A-11434338153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89B4D2-95FC-49AE-A5C8-2306CAC7352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D352F8-752E-43A6-AD66-A904162A033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5C4B6C-E07B-4FC5-9237-A6A561BC860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2ADC2-ACF5-4DB2-9CF5-4B55DD62E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FEB707-C984-4D0F-9193-04BAA36F817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5A5CAA-8B18-44F8-9654-FBAE2BC3297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C12DEF-1EE6-4288-8719-4D08BBCABC0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1714DF-4528-4530-9F8F-D517B01051B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E50E2F-DE64-4BE3-8AA3-4C09EEAC446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9BFF7C-5AAA-4217-8560-7170925A7E8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5FE58E-5637-49F6-AA3D-1FA7E4825D9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1BC3E9-9416-42DF-80C7-F303E5E88F6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578C65-F116-4A14-85A4-C3EF0B66D94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C97650-8DE6-4881-BEB0-1CADC75928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871A7A-9853-4514-AE3E-D79B68E81B2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31192C-D614-4501-A5D8-B553A572801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CFD100-3F46-42E0-93E8-F5031A532B2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609FA1-D3D7-4695-A029-418B144DFA2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D5CD95-54D8-4515-9FB6-4D84EA77FD0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9E808-DD24-4971-A5A8-402229B301F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A23CD-9B19-4EC8-9ACD-D74D48CF215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7B113-6E92-4CC4-83B6-FB110C381DA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05A65-0925-4B8B-AA2A-FF90C8D1E55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DEEC2-54EC-4EC7-8ADE-066B4E53E7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3D493-725A-40DA-AC1E-AC4529C4890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BAA48-E6EA-4EF7-8851-52184E7E38C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EDAFB-C82D-43B8-A7E5-986F2742AD5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65B4C-42C9-40AF-850B-44A580FD08D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FCC10-0B6D-478F-88A3-D218F5727A5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9AEF3-2EBE-415F-9601-29A0FBB426B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9E7DC-FFEC-48CA-9CC4-D34A261293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349A9-6C11-49A9-B522-280D3E4BD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5A944-E25B-46AB-B007-D976DE3369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219BE-F97B-4FFE-93D7-F9E7B5B01F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85D72-6B4B-4278-8832-183192D7BF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8A803-E06E-45BB-BC0D-08F9B7D871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59000-3F7C-45CE-9AF6-C25C2F07C0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EC6DE-687E-48A3-AF13-28DB86C85B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3B2D9-4A37-4952-82FF-30C97DEB6E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7533F-46F0-43AD-AD0D-FFDC4009FC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342AE-D714-4379-ADC1-22F76D22E5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DC192-89AE-49EB-B9DF-7FC418C53C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2DBDF-BFCB-4BC0-91D3-4644DA3579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3AA9B-BDD6-4E7B-B7CA-5CC09D97EA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DEB4C-3A8A-4060-A8BA-2FCC98D2A9F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31B9-B544-4307-80C2-85D36F57D6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5F81-97F1-4E02-B8DC-FAC1E9DD37B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BE27-A734-41C1-B32E-E7773A444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AC343-0AEC-40C9-87D9-BB99A4D9BC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EB0E-F061-4805-81D0-87A0099D97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D2D7-8E55-4E4E-BF3C-507497F574D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9502-8382-484F-B7F1-E118C5A161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64C3-C659-4056-A7DA-660E395F56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A6EA-32EB-4721-9AD4-8B049FB6273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F4F1-88A7-48C3-A9F2-31B9983721F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ACC9-6FEA-4383-A3FA-4E0F2993C9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2A5A-A428-4203-9038-1F1BE491EC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B0D8-7EBF-4A14-8ADE-14645C173DC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CB0CF9-2B69-47D0-83BA-C2A370672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1B343-1ADB-4128-928F-B3C1BB4C8CF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1ED078-F328-4978-9528-0B3A4582E1C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1083E5-E41A-478F-B606-64F6475899D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712C83-B3CB-4642-975E-A62ED134B72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4583C-BB6E-4332-8D50-DAFDEFF0DC0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E8CF66-3686-4EB7-B4AB-E2AB0852C80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8018F-646A-4D90-9B99-14B4B8893F4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98E90-ECC5-44BF-8D61-A2AAA71FBCC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6D8EA-E6EE-49DA-ABDF-DA3ABE0B3B1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3600E7-2366-49CE-AF63-15FF7D43324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980FEE-20CF-457C-AA6A-FF5356DDD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457C5-363C-4170-9701-7CDEB0166B6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D3148-F6E6-41DF-BF6C-9DE9006F23B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295157-80F4-4DEA-AE16-C5D098170A2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6194F5-9599-4ECF-85B1-4E88D92417B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61C1D1-CF54-475B-B5CD-99DAA96263D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810BA0-2EB3-413F-9CC9-799F75552AA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334BE7-A6EF-4561-971D-D0BECFCE10A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8D75AE-8B90-412E-BB7A-6BC43E77269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DF47D0-84EF-4FA0-A85A-767568E76CC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422438-8D5F-4E93-804C-5DD760AC666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CB87C8-49EE-464B-ABC5-AF3B7FCFA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00132-A540-4B0E-BB51-6C3F2FCA38C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A404CB-7F60-449F-A789-6EE8FB8E09D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19DA88-0707-4B04-9E1B-1B2BB504FB0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3EA99B-EB5F-4AA7-A842-A2D974865B4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9A5AF-C3A7-4E39-9515-36DB43D3996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827B5-D353-4FC0-B65C-085137A58D7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26E58-F00F-491B-A88E-CC100FEFACC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B73B1-9C33-445A-A77B-5A655FA2636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EBC2F-42F0-4FAE-8098-3C926EF3228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91580-E118-407F-B24B-EE799062645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D7048-0575-40BD-969C-CD685B5384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EE67E-1F24-49C7-A3EF-4197E8F975E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45FA6-7F43-4517-9057-9E1FC70E6A6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2A1CE-31DE-4737-AB4A-F3FDDC1FB79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25276-8754-4599-AE65-4341BDEDE07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F1748-2FC7-4DA8-887E-3C23B1913D8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B439E-AE52-413B-88A1-F289ACF89A8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89C214-F54F-488B-80E5-A1B93FC9CF5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46061F-E1E8-4DD7-B7ED-CAA075C227C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FACE35-1CB8-435B-9A1C-CCCEC3FEE15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5F94DF-4BDD-48C7-A2A4-AF7DF30EC58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9C170B-F482-432A-922D-4594FB989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613B1-7B7A-46D7-B025-441D1D537C0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CF5758-3375-4CCC-AF1C-55D638B0177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01A887-4D11-491D-AA8F-904BA583A2D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4B10B8-11F6-4A7B-AF76-EE6C95D1D04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85666A-E6D8-4FB1-82BF-3915B8E45F7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6269EC-B7D7-4BFF-9BBA-8055074CFEB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F74725-E81E-44A1-A2EA-0860E2DB901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72308E-C2E1-4303-B7EB-477D06BC878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E446D4-174F-43D5-8831-B4DA2C98119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AE46F9-4AF7-4172-BBD1-C42EE9A76D5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745623-755C-41CB-BA04-E1ED05C2F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0E73-52C3-4567-9D8E-D64F17E1AC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F1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F1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17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18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7A38-B87F-446A-89D3-B10EF67D2E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F1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19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0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E503-B9EF-4236-8E3D-9426A83792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F1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ftr" idx="2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6E60-D8A1-4ECF-ACF9-4637379655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F1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ftr" idx="23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sldNum" idx="24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9D23-4C0C-40EA-BB44-0781BFD4CD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F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F1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3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5BCE-448E-45C6-9605-9D879F29EA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F1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5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6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639D-D924-4CDE-A4B9-AA0D2E14E1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F1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7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8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BABE-807D-4BEF-A407-1AEC4B3682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F1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9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0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11C5-D3DC-4FC1-A4D8-547F59D8BE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F1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7AEB-5B82-4147-A693-7B2A84CA20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F1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ftr" idx="13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14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B358-52A7-4E8F-96FE-6C48024F7F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F1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15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16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7714-ACBE-460A-B744-CF2BA7A070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7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6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-9360" y="2347920"/>
            <a:ext cx="91533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essive MV Re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309600" y="3933720"/>
            <a:ext cx="86630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Jicheng An, Xiang Li, Xun Guo and Shawmin L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7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8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F1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11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13"/>
          <p:cNvSpPr/>
          <p:nvPr/>
        </p:nvSpPr>
        <p:spPr>
          <a:xfrm>
            <a:off x="5724360" y="5621400"/>
            <a:ext cx="3110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Presented by X.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 JCT-VC Meeting in To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14-22 July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23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4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5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6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7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ive MV resolution (PMVR) is proposed. MV resolution is progressively adjusted based on the magnitude of MV differ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of PMV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datory tests (RA-HE, RA-LC, LB-HE, and LB-L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 luma BD-rate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 encoding time sa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% decoding time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al tests (LP-HE, and LP-L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8 luma BD-rate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% encoding time sa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% decoding time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DFF9-4FE9-4A69-8C60-EEFC8C256AD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21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6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8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9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15"/>
          <p:cNvSpPr/>
          <p:nvPr/>
        </p:nvSpPr>
        <p:spPr>
          <a:xfrm>
            <a:off x="3228840" y="3282840"/>
            <a:ext cx="302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SimHei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22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23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24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25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26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D407-FB5C-472E-973C-79B86A0FFF7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1071720" y="428760"/>
          <a:ext cx="6643440" cy="5699160"/>
        </p:xfrm>
        <a:graphic>
          <a:graphicData uri="http://schemas.openxmlformats.org/drawingml/2006/table">
            <a:tbl>
              <a:tblPr/>
              <a:tblGrid>
                <a:gridCol w="6643440"/>
              </a:tblGrid>
              <a:tr h="1677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lgorithm 1: MVD enco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01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p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: MVD</a:t>
                      </a:r>
                      <a:r>
                        <a:rPr b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MVP</a:t>
                      </a:r>
                      <a:r>
                        <a:rPr b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CTR</a:t>
                      </a:r>
                      <a:r>
                        <a:rPr b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CTR</a:t>
                      </a:r>
                      <a:r>
                        <a:rPr b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TH</a:t>
                      </a:r>
                      <a:r>
                        <a:rPr b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and TH</a:t>
                      </a:r>
                      <a:r>
                        <a:rPr b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up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: MVD</a:t>
                      </a:r>
                      <a:r>
                        <a:rPr b="1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f |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-CTR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|&lt;=TH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and |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-CTR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|&lt;=TH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 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 = 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lse if the |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-CTR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 |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=TH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and |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-CTR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 |&lt;=TH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f |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-CTR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|&gt;TH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f 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-CTR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&gt;=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 =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+CTR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+TH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/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l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 = (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+CTR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-TH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/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 = (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-CTR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)/2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ls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f 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-CTR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&gt;=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 (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+CTR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+TH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/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l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 = (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+CTR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-TH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/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 = (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-CTR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)/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l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f |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-CTR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|&gt;TH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f 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-CTR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&gt;=0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 = (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+2(CTR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+TH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+CTR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+TH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/4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l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 = (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+2(CTR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-TH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+CTR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-TH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/4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 = (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-CTR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)/4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ls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f 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-CTR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&gt;=0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 = (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+2(CTR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+TH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+CTR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+TH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/4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l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 = (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+2(CTR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-TH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+CTR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y-TH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/4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 = (MVD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-CTR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_x)/4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oter Placeholder 1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2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C5FB-6CA8-4027-BA77-9BC9FD49DFD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785880" y="571680"/>
          <a:ext cx="6892920" cy="5546520"/>
        </p:xfrm>
        <a:graphic>
          <a:graphicData uri="http://schemas.openxmlformats.org/drawingml/2006/table">
            <a:tbl>
              <a:tblPr/>
              <a:tblGrid>
                <a:gridCol w="6892920"/>
              </a:tblGrid>
              <a:tr h="21348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lgorithm 2: MV Resolution Threshold Adaptation at Slice 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44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put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DCos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RDCos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RDCos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RDCos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utput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T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f the first inter s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et (T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T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 to (4,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et (T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T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 to that of the previously coded s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DCRedu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(RDCos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RDCos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/RDCos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DCRedu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(RDCos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RDCos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/RDCos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DCRedu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(RDCos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RDCos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/RDCos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f (T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T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 of the previously coded slice is (4, 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DTH = max(RDCRedu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*0.2,0.5%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f RDCRedu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RDTH &amp;&amp; RDCRedu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et (T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T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 to (0, 0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et RDTH= RDCRedu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*min(RDTH/ RDCRedu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1.5); //used for following inter sl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lse if (RDCRedu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6%) || (RDCRedu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3% &amp;&amp; RDCRedu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RDCRedu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*0.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et (T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T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 to (4, 2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lse if (T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T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 of the previously coded slice is (0, 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f RDCRedu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min(RDTH, 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et (T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T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 to (4, 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lse if (T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T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 of the previously coded slice is (4,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f (RDCRedu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1%) || ((RDCRedu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2% &amp;&amp; RDCRedu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 RDCRedu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*0.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et (T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T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 to (4, 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2440" y="28584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MVR with Fixed Threshold (4, 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71AA-B136-4AFA-B44E-E54C2A4F3A7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626760" y="1123560"/>
            <a:ext cx="8055000" cy="49546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6" descr=""/>
          <p:cNvPicPr/>
          <p:nvPr/>
        </p:nvPicPr>
        <p:blipFill>
          <a:blip r:embed="rId2"/>
          <a:stretch/>
        </p:blipFill>
        <p:spPr>
          <a:xfrm>
            <a:off x="2062080" y="928800"/>
            <a:ext cx="458172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2440" y="28584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MVR with Fixed Threshold (4, 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A379-6864-4DAD-A29A-7E8E1F92413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626760" y="1123560"/>
            <a:ext cx="8055000" cy="49546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7" descr=""/>
          <p:cNvPicPr/>
          <p:nvPr/>
        </p:nvPicPr>
        <p:blipFill>
          <a:blip r:embed="rId2"/>
          <a:stretch/>
        </p:blipFill>
        <p:spPr>
          <a:xfrm>
            <a:off x="2214720" y="961920"/>
            <a:ext cx="458136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MVR with Fixed Threshold (0, 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F049-D035-469B-B019-BF8B0F7777C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2" descr=""/>
          <p:cNvPicPr/>
          <p:nvPr/>
        </p:nvPicPr>
        <p:blipFill>
          <a:blip r:embed="rId1"/>
          <a:stretch/>
        </p:blipFill>
        <p:spPr>
          <a:xfrm>
            <a:off x="1357200" y="1143000"/>
            <a:ext cx="638676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MVR without 1/8-Pixel Resolution and Threshold Adaptation (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4AB1-6455-4D17-8E62-3925D63AAEA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2" descr=""/>
          <p:cNvPicPr/>
          <p:nvPr/>
        </p:nvPicPr>
        <p:blipFill>
          <a:blip r:embed="rId1"/>
          <a:stretch/>
        </p:blipFill>
        <p:spPr>
          <a:xfrm>
            <a:off x="1357200" y="1298520"/>
            <a:ext cx="62532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71680" y="1123560"/>
            <a:ext cx="81072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er MV resolution is employed when MV is close to MV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 resolution is adaptively selected among 1/2 , 1/4, and 1/8-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efined thresholds are used to delimit regions with different MV resol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resholds can be adaptively adjusted for each reference picture at slice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857A-61D8-4B8B-A310-5B234BD9FE6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857160" y="3732120"/>
          <a:ext cx="7591680" cy="2346480"/>
        </p:xfrm>
        <a:graphic>
          <a:graphicData uri="http://schemas.openxmlformats.org/drawingml/2006/table">
            <a:tbl>
              <a:tblPr/>
              <a:tblGrid>
                <a:gridCol w="843120"/>
                <a:gridCol w="844560"/>
                <a:gridCol w="842760"/>
                <a:gridCol w="843120"/>
                <a:gridCol w="844560"/>
                <a:gridCol w="842760"/>
                <a:gridCol w="843120"/>
                <a:gridCol w="844560"/>
                <a:gridCol w="843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datory Te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al Te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P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. 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. 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Centers of Different MV Re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 resolution adaptation based on thres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olation for 1/8-pixel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 adaptation at slic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3DEB-8BDC-4584-8961-CFB54824859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 Id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EDC0-D40D-4241-843B-4393E1A9689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1"/>
          <p:cNvSpPr/>
          <p:nvPr/>
        </p:nvSpPr>
        <p:spPr>
          <a:xfrm>
            <a:off x="4024440" y="2936880"/>
            <a:ext cx="109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2"/>
          <p:cNvSpPr/>
          <p:nvPr/>
        </p:nvSpPr>
        <p:spPr>
          <a:xfrm>
            <a:off x="0" y="55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29"/>
          <p:cNvGrpSpPr/>
          <p:nvPr/>
        </p:nvGrpSpPr>
        <p:grpSpPr>
          <a:xfrm>
            <a:off x="1071720" y="1265400"/>
            <a:ext cx="6715080" cy="3735360"/>
            <a:chOff x="1071720" y="1265400"/>
            <a:chExt cx="6715080" cy="3735360"/>
          </a:xfrm>
        </p:grpSpPr>
        <p:graphicFrame>
          <p:nvGraphicFramePr>
            <p:cNvPr id="589" name="Object 15"/>
            <p:cNvGraphicFramePr/>
            <p:nvPr/>
          </p:nvGraphicFramePr>
          <p:xfrm>
            <a:off x="1071720" y="1296720"/>
            <a:ext cx="3303000" cy="3355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0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71720" y="1296720"/>
                      <a:ext cx="3303000" cy="33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1" name="Object 14"/>
            <p:cNvGraphicFramePr/>
            <p:nvPr/>
          </p:nvGraphicFramePr>
          <p:xfrm>
            <a:off x="4435200" y="1265400"/>
            <a:ext cx="3351600" cy="3355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2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35200" y="1265400"/>
                      <a:ext cx="3351600" cy="33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3" name="Object 13"/>
            <p:cNvGraphicFramePr/>
            <p:nvPr/>
          </p:nvGraphicFramePr>
          <p:xfrm>
            <a:off x="1912680" y="4671720"/>
            <a:ext cx="4694400" cy="32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4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12680" y="4671720"/>
                      <a:ext cx="4694400" cy="32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5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4024440" y="2936880"/>
            <a:ext cx="109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8"/>
          <p:cNvSpPr/>
          <p:nvPr/>
        </p:nvSpPr>
        <p:spPr>
          <a:xfrm>
            <a:off x="0" y="55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內容版面配置區 2"/>
          <p:cNvSpPr/>
          <p:nvPr/>
        </p:nvSpPr>
        <p:spPr>
          <a:xfrm>
            <a:off x="428760" y="5000760"/>
            <a:ext cx="825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MV resolution is employed when MV is close to MV predi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l 1/8-pixel and 1/4-pixel positions for MVD have to be coded. Thus more efficient MVD representation can be obta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gion Centers of Different MV Resolut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26760" y="5072040"/>
            <a:ext cx="8055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 centers of different MV resolutions are derived from MV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the centers may not coincide with MV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0B49-A697-4070-9D61-43149365187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1"/>
          <p:cNvGrpSpPr/>
          <p:nvPr/>
        </p:nvGrpSpPr>
        <p:grpSpPr>
          <a:xfrm>
            <a:off x="857160" y="1214280"/>
            <a:ext cx="7429680" cy="3571920"/>
            <a:chOff x="857160" y="1214280"/>
            <a:chExt cx="7429680" cy="3571920"/>
          </a:xfrm>
        </p:grpSpPr>
        <p:graphicFrame>
          <p:nvGraphicFramePr>
            <p:cNvPr id="604" name="Object 8"/>
            <p:cNvGraphicFramePr/>
            <p:nvPr/>
          </p:nvGraphicFramePr>
          <p:xfrm>
            <a:off x="857160" y="1214280"/>
            <a:ext cx="3654360" cy="328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5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7160" y="1214280"/>
                      <a:ext cx="3654360" cy="328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6" name="Object 7"/>
            <p:cNvGraphicFramePr/>
            <p:nvPr/>
          </p:nvGraphicFramePr>
          <p:xfrm>
            <a:off x="4581720" y="1220040"/>
            <a:ext cx="3705120" cy="3285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7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81720" y="1220040"/>
                      <a:ext cx="3705120" cy="328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8" name="Object 6"/>
            <p:cNvGraphicFramePr/>
            <p:nvPr/>
          </p:nvGraphicFramePr>
          <p:xfrm>
            <a:off x="2455200" y="4535640"/>
            <a:ext cx="4036320" cy="250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09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55200" y="4535640"/>
                      <a:ext cx="403632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0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0"/>
          <p:cNvSpPr/>
          <p:nvPr/>
        </p:nvSpPr>
        <p:spPr>
          <a:xfrm>
            <a:off x="4429080" y="3031920"/>
            <a:ext cx="28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1"/>
          <p:cNvSpPr/>
          <p:nvPr/>
        </p:nvSpPr>
        <p:spPr>
          <a:xfrm>
            <a:off x="0" y="578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1280" y="341280"/>
            <a:ext cx="90014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V Resolution Adaptation based on Threshold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285840" y="928440"/>
            <a:ext cx="857232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p and merge modes always have the highest MV resolution (1/8-pixel) since MVD is always 0 and doesn’t need to be s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V resolution based on threshold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T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8-pixel resolution for skip and merge m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2-pixel resolution for normal inter m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VP of normal inter mode has to be converted to 1/2-pixel accuracy if the MVP has higher MV accu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8-pixel resolution for skip and merge m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 to 1/4-pixel resolution for normal inter m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VP of normal inter mode has to be converted to 1/4-pixel accuracy if the MVP has higher MV accu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8-pixel resolution for skip and merge m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 to 1/8-pixel resolution for normal inter m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No accuracy conversion is needed for MVP of normal int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3FBB-DD2B-47A6-B8FB-67569F87DB1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polation for 1/8-Pixel Re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tap 6-bit DCT-IF for 1/8-pixel luma interp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tap 6-bit DCT-IF for 1/16-pixel chroma interp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lters are similar to the current interpolation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D5DF-761B-4460-89F4-54BE486C700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1071720" y="1714680"/>
          <a:ext cx="6833880" cy="1171440"/>
        </p:xfrm>
        <a:graphic>
          <a:graphicData uri="http://schemas.openxmlformats.org/drawingml/2006/table">
            <a:tbl>
              <a:tblPr/>
              <a:tblGrid>
                <a:gridCol w="1143000"/>
                <a:gridCol w="607680"/>
                <a:gridCol w="727200"/>
                <a:gridCol w="725400"/>
                <a:gridCol w="725760"/>
                <a:gridCol w="726840"/>
                <a:gridCol w="725760"/>
                <a:gridCol w="725400"/>
                <a:gridCol w="726840"/>
              </a:tblGrid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si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Filter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efficie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/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{-1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3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-6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62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9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-4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2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-1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/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{-2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12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0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10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1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1071720" y="3538440"/>
          <a:ext cx="6833880" cy="1676520"/>
        </p:xfrm>
        <a:graphic>
          <a:graphicData uri="http://schemas.openxmlformats.org/drawingml/2006/table">
            <a:tbl>
              <a:tblPr/>
              <a:tblGrid>
                <a:gridCol w="1143000"/>
                <a:gridCol w="1334880"/>
                <a:gridCol w="1451160"/>
                <a:gridCol w="1452600"/>
                <a:gridCol w="1452240"/>
              </a:tblGrid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si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Filter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efficie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/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{-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/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{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5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9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3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/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{-6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5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/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{-7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4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6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85840" y="384120"/>
            <a:ext cx="857232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reshold Adaptation at Slice Level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urther improve the coding efficiency, threshold pair (T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adaptively selected among (4, 2), (4, 0) and (0, 0) for each reference picture at slice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ow-delay configurations, reference pictures whose QPs are larger than that of the current slice, the threshold pair is always set to (0, 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other cases, R-D cost reduction by sub-pixel ME of previously coded same-type slice is employed as selection crite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the larger the RD cost reduction by sub-pixel ME, the larger the MV resolution threshold pair is sel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JCTVC-F125.doc for detai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FD99-ADDA-4F72-AACB-6F3F329C32A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2440" y="28584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6BC6-3CF6-433D-A4EB-4C1E1D683B7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223" descr=""/>
          <p:cNvPicPr/>
          <p:nvPr/>
        </p:nvPicPr>
        <p:blipFill>
          <a:blip r:embed="rId1"/>
          <a:stretch/>
        </p:blipFill>
        <p:spPr>
          <a:xfrm>
            <a:off x="2281320" y="944640"/>
            <a:ext cx="45813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>Chia-Yang Tsai (MediaTek)</dc:creator>
  <dc:description>Confidential A</dc:description>
  <cp:keywords>Confidential A</cp:keywords>
  <dc:language>en-US</dc:language>
  <cp:lastModifiedBy>Xiang Li</cp:lastModifiedBy>
  <dcterms:modified xsi:type="dcterms:W3CDTF">2011-07-12T02:48:06Z</dcterms:modified>
  <cp:revision>1429</cp:revision>
  <dc:subject/>
  <dc:title>Title: Arial Bold 32pt</dc:title>
</cp:coreProperties>
</file>