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8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6.wmf" ContentType="image/x-wmf"/>
  <Override PartName="/ppt/media/image15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D907-6FEC-40FB-BAAA-1B6545B3AA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5F3F-F31E-4D59-934E-289FC864E3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9E70-3D36-4051-A9AE-F3D0570432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5AE7-8E2E-4055-8734-983ED96AAA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84F0-9FD0-4DA0-B20E-5D7A5795CC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8661-BE7D-4A88-A380-5FB6863D93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238F-B222-4B46-9830-F0B238547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BAF3D-EA9E-4D0A-96A1-CB52ED949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AFEA-EDF9-4295-A7B1-3EFF3B8E7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E8BC-A8D1-496C-881A-B679995AF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FAA6-710F-42BA-A960-8E23B371B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EB6C-2AEF-4A52-9D03-3957EF549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3101-4DA0-441E-8980-69FA00EC5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6702-BF02-4EA4-BED3-43A4680AA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5CA3-D1AA-4BE2-9AF2-137B0E2E0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9771-A662-483D-BC5C-D89181638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9E21-2081-48BA-9428-D1568A15D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B9C4-0411-477A-982A-7D7DC8568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D9EC-4BAC-4412-AF76-1899F32D60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F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F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黑体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1640" y="2347920"/>
            <a:ext cx="7224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ed Mode-Dependent Coefficient Sca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in Zhao, Xun Guo, Mei Guo, Shawmin Lei, Siwei Ma and Wen G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diaTek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logo"/>
          <p:cNvPicPr/>
          <p:nvPr/>
        </p:nvPicPr>
        <p:blipFill>
          <a:blip r:embed="rId3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黑体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bar_white_bot"/>
          <p:cNvPicPr/>
          <p:nvPr/>
        </p:nvPicPr>
        <p:blipFill>
          <a:blip r:embed="rId4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 JCT-VC Meeting in To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14-22 July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3" descr="icon_1"/>
          <p:cNvPicPr/>
          <p:nvPr/>
        </p:nvPicPr>
        <p:blipFill>
          <a:blip r:embed="rId5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icon_5"/>
          <p:cNvPicPr/>
          <p:nvPr/>
        </p:nvPicPr>
        <p:blipFill>
          <a:blip r:embed="rId6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icon_2"/>
          <p:cNvPicPr/>
          <p:nvPr/>
        </p:nvPicPr>
        <p:blipFill>
          <a:blip r:embed="rId7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icon_3"/>
          <p:cNvPicPr/>
          <p:nvPr/>
        </p:nvPicPr>
        <p:blipFill>
          <a:blip r:embed="rId8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icon_4"/>
          <p:cNvPicPr/>
          <p:nvPr/>
        </p:nvPicPr>
        <p:blipFill>
          <a:blip r:embed="rId9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canning Orders for 16x16 T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scanning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canning order is the transposition of horizontal scanning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471A-0850-4671-BCA2-E159372363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1"/>
          <p:cNvGraphicFramePr/>
          <p:nvPr/>
        </p:nvGraphicFramePr>
        <p:xfrm>
          <a:off x="1214280" y="1857240"/>
          <a:ext cx="673128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857240"/>
                    <a:ext cx="673128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canning Order for 32x32 T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scanning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canning order is the transposition of horizontal scanning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873F-7F96-4DE3-A859-53781BA41A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1"/>
          <p:cNvGraphicFramePr/>
          <p:nvPr/>
        </p:nvGraphicFramePr>
        <p:xfrm>
          <a:off x="142920" y="1714680"/>
          <a:ext cx="8835840" cy="35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714680"/>
                    <a:ext cx="883584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zigz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modified horizontal scanning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modified vertical scanning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apping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BC1A-5EC7-4542-A3ED-400BF5A4A3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5"/>
          <p:cNvGrpSpPr/>
          <p:nvPr/>
        </p:nvGrpSpPr>
        <p:grpSpPr>
          <a:xfrm>
            <a:off x="401760" y="2997360"/>
            <a:ext cx="8496000" cy="2360520"/>
            <a:chOff x="401760" y="2997360"/>
            <a:chExt cx="8496000" cy="2360520"/>
          </a:xfrm>
        </p:grpSpPr>
        <p:pic>
          <p:nvPicPr>
            <p:cNvPr id="363" name="Picture 71" descr=""/>
            <p:cNvPicPr/>
            <p:nvPr/>
          </p:nvPicPr>
          <p:blipFill>
            <a:blip r:embed="rId1"/>
            <a:stretch/>
          </p:blipFill>
          <p:spPr>
            <a:xfrm>
              <a:off x="627120" y="2997360"/>
              <a:ext cx="79912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AutoShape 72"/>
            <p:cNvSpPr/>
            <p:nvPr/>
          </p:nvSpPr>
          <p:spPr>
            <a:xfrm>
              <a:off x="401760" y="3824280"/>
              <a:ext cx="84960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4"/>
            <p:cNvSpPr/>
            <p:nvPr/>
          </p:nvSpPr>
          <p:spPr>
            <a:xfrm>
              <a:off x="1785960" y="5018400"/>
              <a:ext cx="6832440" cy="339480"/>
            </a:xfrm>
            <a:prstGeom prst="rect">
              <a:avLst/>
            </a:prstGeom>
            <a:solidFill>
              <a:srgbClr val="cccccc">
                <a:alpha val="79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4x4 sub-block partition for absolute value is k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4x4 MDCS is applied for each sub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 2 – MDCS for CABA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CE11-E346-4465-A9C4-9A586AE95F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6"/>
          <p:cNvGrpSpPr/>
          <p:nvPr/>
        </p:nvGrpSpPr>
        <p:grpSpPr>
          <a:xfrm>
            <a:off x="971280" y="2642760"/>
            <a:ext cx="2182680" cy="2181600"/>
            <a:chOff x="971280" y="2642760"/>
            <a:chExt cx="2182680" cy="2181600"/>
          </a:xfrm>
        </p:grpSpPr>
        <p:grpSp>
          <p:nvGrpSpPr>
            <p:cNvPr id="378" name="Group 7"/>
            <p:cNvGrpSpPr/>
            <p:nvPr/>
          </p:nvGrpSpPr>
          <p:grpSpPr>
            <a:xfrm>
              <a:off x="971280" y="2642760"/>
              <a:ext cx="2182680" cy="2181600"/>
              <a:chOff x="971280" y="2642760"/>
              <a:chExt cx="2182680" cy="2181600"/>
            </a:xfrm>
          </p:grpSpPr>
          <p:sp>
            <p:nvSpPr>
              <p:cNvPr id="379" name="Rectangle 8"/>
              <p:cNvSpPr/>
              <p:nvPr/>
            </p:nvSpPr>
            <p:spPr>
              <a:xfrm>
                <a:off x="989280" y="2643120"/>
                <a:ext cx="2164680" cy="2181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0" name="AutoShape 9"/>
              <p:cNvCxnSpPr/>
              <p:nvPr/>
            </p:nvCxnSpPr>
            <p:spPr>
              <a:xfrm>
                <a:off x="988920" y="3718800"/>
                <a:ext cx="21654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1" name="AutoShape 10"/>
              <p:cNvCxnSpPr/>
              <p:nvPr/>
            </p:nvCxnSpPr>
            <p:spPr>
              <a:xfrm>
                <a:off x="2067840" y="2642760"/>
                <a:ext cx="1080" cy="2181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2" name="AutoShape 11"/>
              <p:cNvCxnSpPr/>
              <p:nvPr/>
            </p:nvCxnSpPr>
            <p:spPr>
              <a:xfrm>
                <a:off x="988920" y="3168720"/>
                <a:ext cx="2165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AutoShape 12"/>
              <p:cNvCxnSpPr/>
              <p:nvPr/>
            </p:nvCxnSpPr>
            <p:spPr>
              <a:xfrm>
                <a:off x="988920" y="2914200"/>
                <a:ext cx="2165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AutoShape 13"/>
              <p:cNvCxnSpPr/>
              <p:nvPr/>
            </p:nvCxnSpPr>
            <p:spPr>
              <a:xfrm>
                <a:off x="979920" y="3436920"/>
                <a:ext cx="2165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5" name="AutoShape 14"/>
              <p:cNvCxnSpPr/>
              <p:nvPr/>
            </p:nvCxnSpPr>
            <p:spPr>
              <a:xfrm>
                <a:off x="979920" y="4255200"/>
                <a:ext cx="2165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6" name="AutoShape 15"/>
              <p:cNvCxnSpPr/>
              <p:nvPr/>
            </p:nvCxnSpPr>
            <p:spPr>
              <a:xfrm>
                <a:off x="979920" y="4000680"/>
                <a:ext cx="2165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7" name="AutoShape 16"/>
              <p:cNvCxnSpPr/>
              <p:nvPr/>
            </p:nvCxnSpPr>
            <p:spPr>
              <a:xfrm>
                <a:off x="971280" y="4523400"/>
                <a:ext cx="2165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8" name="AutoShape 17"/>
              <p:cNvCxnSpPr/>
              <p:nvPr/>
            </p:nvCxnSpPr>
            <p:spPr>
              <a:xfrm>
                <a:off x="1514520" y="2642760"/>
                <a:ext cx="1080" cy="21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9" name="AutoShape 18"/>
              <p:cNvCxnSpPr/>
              <p:nvPr/>
            </p:nvCxnSpPr>
            <p:spPr>
              <a:xfrm>
                <a:off x="2586600" y="2642760"/>
                <a:ext cx="1080" cy="21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0" name="AutoShape 19"/>
              <p:cNvCxnSpPr/>
              <p:nvPr/>
            </p:nvCxnSpPr>
            <p:spPr>
              <a:xfrm>
                <a:off x="1234440" y="2642760"/>
                <a:ext cx="1080" cy="21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1" name="AutoShape 20"/>
              <p:cNvCxnSpPr/>
              <p:nvPr/>
            </p:nvCxnSpPr>
            <p:spPr>
              <a:xfrm>
                <a:off x="1773720" y="2642760"/>
                <a:ext cx="1080" cy="21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2" name="AutoShape 21"/>
              <p:cNvCxnSpPr/>
              <p:nvPr/>
            </p:nvCxnSpPr>
            <p:spPr>
              <a:xfrm>
                <a:off x="2333520" y="2642760"/>
                <a:ext cx="1080" cy="21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3" name="AutoShape 22"/>
              <p:cNvCxnSpPr/>
              <p:nvPr/>
            </p:nvCxnSpPr>
            <p:spPr>
              <a:xfrm>
                <a:off x="2859480" y="2642760"/>
                <a:ext cx="1080" cy="21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94" name="Group 23"/>
            <p:cNvGrpSpPr/>
            <p:nvPr/>
          </p:nvGrpSpPr>
          <p:grpSpPr>
            <a:xfrm>
              <a:off x="1108080" y="2772720"/>
              <a:ext cx="806400" cy="819360"/>
              <a:chOff x="1108080" y="2772720"/>
              <a:chExt cx="806400" cy="819360"/>
            </a:xfrm>
          </p:grpSpPr>
          <p:cxnSp>
            <p:nvCxnSpPr>
              <p:cNvPr id="395" name="AutoShape 24"/>
              <p:cNvCxnSpPr/>
              <p:nvPr/>
            </p:nvCxnSpPr>
            <p:spPr>
              <a:xfrm>
                <a:off x="1108440" y="2779920"/>
                <a:ext cx="25308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96" name="AutoShape 25"/>
              <p:cNvCxnSpPr/>
              <p:nvPr/>
            </p:nvCxnSpPr>
            <p:spPr>
              <a:xfrm flipH="1">
                <a:off x="1108080" y="2780280"/>
                <a:ext cx="253080" cy="2548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97" name="AutoShape 26"/>
              <p:cNvCxnSpPr/>
              <p:nvPr/>
            </p:nvCxnSpPr>
            <p:spPr>
              <a:xfrm>
                <a:off x="1108440" y="3034080"/>
                <a:ext cx="1080" cy="26892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98" name="AutoShape 27"/>
              <p:cNvCxnSpPr/>
              <p:nvPr/>
            </p:nvCxnSpPr>
            <p:spPr>
              <a:xfrm flipV="1">
                <a:off x="1108800" y="2772720"/>
                <a:ext cx="526320" cy="5302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99" name="AutoShape 28"/>
              <p:cNvCxnSpPr/>
              <p:nvPr/>
            </p:nvCxnSpPr>
            <p:spPr>
              <a:xfrm>
                <a:off x="1634040" y="2779920"/>
                <a:ext cx="280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00" name="AutoShape 29"/>
              <p:cNvCxnSpPr/>
              <p:nvPr/>
            </p:nvCxnSpPr>
            <p:spPr>
              <a:xfrm flipH="1">
                <a:off x="1108080" y="2780280"/>
                <a:ext cx="806040" cy="8121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01" name="AutoShape 30"/>
              <p:cNvCxnSpPr/>
              <p:nvPr/>
            </p:nvCxnSpPr>
            <p:spPr>
              <a:xfrm>
                <a:off x="1108440" y="3591360"/>
                <a:ext cx="25308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02" name="AutoShape 31"/>
              <p:cNvCxnSpPr/>
              <p:nvPr/>
            </p:nvCxnSpPr>
            <p:spPr>
              <a:xfrm flipV="1">
                <a:off x="1361160" y="3033720"/>
                <a:ext cx="553680" cy="55764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03" name="AutoShape 32"/>
              <p:cNvCxnSpPr/>
              <p:nvPr/>
            </p:nvCxnSpPr>
            <p:spPr>
              <a:xfrm>
                <a:off x="1913760" y="3034080"/>
                <a:ext cx="1080" cy="26892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04" name="AutoShape 33"/>
              <p:cNvCxnSpPr/>
              <p:nvPr/>
            </p:nvCxnSpPr>
            <p:spPr>
              <a:xfrm flipH="1">
                <a:off x="1633680" y="3302640"/>
                <a:ext cx="280440" cy="282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05" name="AutoShape 34"/>
              <p:cNvCxnSpPr/>
              <p:nvPr/>
            </p:nvCxnSpPr>
            <p:spPr>
              <a:xfrm>
                <a:off x="1634040" y="3584520"/>
                <a:ext cx="280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  <p:grpSp>
          <p:nvGrpSpPr>
            <p:cNvPr id="406" name="Group 35"/>
            <p:cNvGrpSpPr/>
            <p:nvPr/>
          </p:nvGrpSpPr>
          <p:grpSpPr>
            <a:xfrm>
              <a:off x="2198160" y="2773440"/>
              <a:ext cx="806400" cy="819360"/>
              <a:chOff x="2198160" y="2773440"/>
              <a:chExt cx="806400" cy="819360"/>
            </a:xfrm>
          </p:grpSpPr>
          <p:cxnSp>
            <p:nvCxnSpPr>
              <p:cNvPr id="407" name="AutoShape 36"/>
              <p:cNvCxnSpPr/>
              <p:nvPr/>
            </p:nvCxnSpPr>
            <p:spPr>
              <a:xfrm>
                <a:off x="2198520" y="2780640"/>
                <a:ext cx="25308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08" name="AutoShape 37"/>
              <p:cNvCxnSpPr/>
              <p:nvPr/>
            </p:nvCxnSpPr>
            <p:spPr>
              <a:xfrm flipH="1">
                <a:off x="2198160" y="2781000"/>
                <a:ext cx="253080" cy="2548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09" name="AutoShape 38"/>
              <p:cNvCxnSpPr/>
              <p:nvPr/>
            </p:nvCxnSpPr>
            <p:spPr>
              <a:xfrm>
                <a:off x="2198520" y="3034800"/>
                <a:ext cx="1080" cy="26892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10" name="AutoShape 39"/>
              <p:cNvCxnSpPr/>
              <p:nvPr/>
            </p:nvCxnSpPr>
            <p:spPr>
              <a:xfrm flipV="1">
                <a:off x="2198880" y="2773440"/>
                <a:ext cx="526320" cy="5302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11" name="AutoShape 40"/>
              <p:cNvCxnSpPr/>
              <p:nvPr/>
            </p:nvCxnSpPr>
            <p:spPr>
              <a:xfrm>
                <a:off x="2724120" y="2780640"/>
                <a:ext cx="280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12" name="AutoShape 41"/>
              <p:cNvCxnSpPr/>
              <p:nvPr/>
            </p:nvCxnSpPr>
            <p:spPr>
              <a:xfrm flipH="1">
                <a:off x="2198160" y="2781000"/>
                <a:ext cx="806040" cy="8121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13" name="AutoShape 42"/>
              <p:cNvCxnSpPr/>
              <p:nvPr/>
            </p:nvCxnSpPr>
            <p:spPr>
              <a:xfrm>
                <a:off x="2198520" y="3592080"/>
                <a:ext cx="25308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14" name="AutoShape 43"/>
              <p:cNvCxnSpPr/>
              <p:nvPr/>
            </p:nvCxnSpPr>
            <p:spPr>
              <a:xfrm flipV="1">
                <a:off x="2451240" y="3034440"/>
                <a:ext cx="553680" cy="55764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15" name="AutoShape 44"/>
              <p:cNvCxnSpPr/>
              <p:nvPr/>
            </p:nvCxnSpPr>
            <p:spPr>
              <a:xfrm>
                <a:off x="3003840" y="3034800"/>
                <a:ext cx="1080" cy="26892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16" name="AutoShape 45"/>
              <p:cNvCxnSpPr/>
              <p:nvPr/>
            </p:nvCxnSpPr>
            <p:spPr>
              <a:xfrm flipH="1">
                <a:off x="2723760" y="3303360"/>
                <a:ext cx="280440" cy="282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17" name="AutoShape 46"/>
              <p:cNvCxnSpPr/>
              <p:nvPr/>
            </p:nvCxnSpPr>
            <p:spPr>
              <a:xfrm>
                <a:off x="2724120" y="3585240"/>
                <a:ext cx="280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  <p:grpSp>
          <p:nvGrpSpPr>
            <p:cNvPr id="418" name="Group 47"/>
            <p:cNvGrpSpPr/>
            <p:nvPr/>
          </p:nvGrpSpPr>
          <p:grpSpPr>
            <a:xfrm>
              <a:off x="1114200" y="3868560"/>
              <a:ext cx="806400" cy="819360"/>
              <a:chOff x="1114200" y="3868560"/>
              <a:chExt cx="806400" cy="819360"/>
            </a:xfrm>
          </p:grpSpPr>
          <p:cxnSp>
            <p:nvCxnSpPr>
              <p:cNvPr id="419" name="AutoShape 48"/>
              <p:cNvCxnSpPr/>
              <p:nvPr/>
            </p:nvCxnSpPr>
            <p:spPr>
              <a:xfrm>
                <a:off x="1114560" y="3875760"/>
                <a:ext cx="25308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20" name="AutoShape 49"/>
              <p:cNvCxnSpPr/>
              <p:nvPr/>
            </p:nvCxnSpPr>
            <p:spPr>
              <a:xfrm flipH="1">
                <a:off x="1114200" y="3876120"/>
                <a:ext cx="253080" cy="2548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21" name="AutoShape 50"/>
              <p:cNvCxnSpPr/>
              <p:nvPr/>
            </p:nvCxnSpPr>
            <p:spPr>
              <a:xfrm>
                <a:off x="1114560" y="4129920"/>
                <a:ext cx="1080" cy="26892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22" name="AutoShape 51"/>
              <p:cNvCxnSpPr/>
              <p:nvPr/>
            </p:nvCxnSpPr>
            <p:spPr>
              <a:xfrm flipV="1">
                <a:off x="1114920" y="3868560"/>
                <a:ext cx="526320" cy="5302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23" name="AutoShape 52"/>
              <p:cNvCxnSpPr/>
              <p:nvPr/>
            </p:nvCxnSpPr>
            <p:spPr>
              <a:xfrm>
                <a:off x="1640160" y="3875760"/>
                <a:ext cx="280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24" name="AutoShape 53"/>
              <p:cNvCxnSpPr/>
              <p:nvPr/>
            </p:nvCxnSpPr>
            <p:spPr>
              <a:xfrm flipH="1">
                <a:off x="1114200" y="3876120"/>
                <a:ext cx="806040" cy="8121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25" name="AutoShape 54"/>
              <p:cNvCxnSpPr/>
              <p:nvPr/>
            </p:nvCxnSpPr>
            <p:spPr>
              <a:xfrm>
                <a:off x="1114560" y="4687200"/>
                <a:ext cx="25308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26" name="AutoShape 55"/>
              <p:cNvCxnSpPr/>
              <p:nvPr/>
            </p:nvCxnSpPr>
            <p:spPr>
              <a:xfrm flipV="1">
                <a:off x="1367280" y="4129560"/>
                <a:ext cx="553680" cy="55764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27" name="AutoShape 56"/>
              <p:cNvCxnSpPr/>
              <p:nvPr/>
            </p:nvCxnSpPr>
            <p:spPr>
              <a:xfrm>
                <a:off x="1919880" y="4129920"/>
                <a:ext cx="1080" cy="26892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28" name="AutoShape 57"/>
              <p:cNvCxnSpPr/>
              <p:nvPr/>
            </p:nvCxnSpPr>
            <p:spPr>
              <a:xfrm flipH="1">
                <a:off x="1639800" y="4398480"/>
                <a:ext cx="280440" cy="282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29" name="AutoShape 58"/>
              <p:cNvCxnSpPr/>
              <p:nvPr/>
            </p:nvCxnSpPr>
            <p:spPr>
              <a:xfrm>
                <a:off x="1640160" y="4680360"/>
                <a:ext cx="280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  <p:grpSp>
          <p:nvGrpSpPr>
            <p:cNvPr id="430" name="Group 59"/>
            <p:cNvGrpSpPr/>
            <p:nvPr/>
          </p:nvGrpSpPr>
          <p:grpSpPr>
            <a:xfrm>
              <a:off x="2204280" y="3868920"/>
              <a:ext cx="806400" cy="819360"/>
              <a:chOff x="2204280" y="3868920"/>
              <a:chExt cx="806400" cy="819360"/>
            </a:xfrm>
          </p:grpSpPr>
          <p:cxnSp>
            <p:nvCxnSpPr>
              <p:cNvPr id="431" name="AutoShape 60"/>
              <p:cNvCxnSpPr/>
              <p:nvPr/>
            </p:nvCxnSpPr>
            <p:spPr>
              <a:xfrm>
                <a:off x="2204640" y="3876120"/>
                <a:ext cx="25308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32" name="AutoShape 61"/>
              <p:cNvCxnSpPr/>
              <p:nvPr/>
            </p:nvCxnSpPr>
            <p:spPr>
              <a:xfrm flipH="1">
                <a:off x="2204280" y="3876480"/>
                <a:ext cx="253080" cy="2548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33" name="AutoShape 62"/>
              <p:cNvCxnSpPr/>
              <p:nvPr/>
            </p:nvCxnSpPr>
            <p:spPr>
              <a:xfrm>
                <a:off x="2204640" y="4130280"/>
                <a:ext cx="1080" cy="26892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34" name="AutoShape 63"/>
              <p:cNvCxnSpPr/>
              <p:nvPr/>
            </p:nvCxnSpPr>
            <p:spPr>
              <a:xfrm flipV="1">
                <a:off x="2205000" y="3868920"/>
                <a:ext cx="526320" cy="5302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35" name="AutoShape 64"/>
              <p:cNvCxnSpPr/>
              <p:nvPr/>
            </p:nvCxnSpPr>
            <p:spPr>
              <a:xfrm>
                <a:off x="2730240" y="3876120"/>
                <a:ext cx="280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36" name="AutoShape 65"/>
              <p:cNvCxnSpPr/>
              <p:nvPr/>
            </p:nvCxnSpPr>
            <p:spPr>
              <a:xfrm flipH="1">
                <a:off x="2204280" y="3876480"/>
                <a:ext cx="806040" cy="8121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37" name="AutoShape 66"/>
              <p:cNvCxnSpPr/>
              <p:nvPr/>
            </p:nvCxnSpPr>
            <p:spPr>
              <a:xfrm>
                <a:off x="2204640" y="4687560"/>
                <a:ext cx="25308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38" name="AutoShape 67"/>
              <p:cNvCxnSpPr/>
              <p:nvPr/>
            </p:nvCxnSpPr>
            <p:spPr>
              <a:xfrm flipV="1">
                <a:off x="2457360" y="4129920"/>
                <a:ext cx="553680" cy="55764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39" name="AutoShape 68"/>
              <p:cNvCxnSpPr/>
              <p:nvPr/>
            </p:nvCxnSpPr>
            <p:spPr>
              <a:xfrm>
                <a:off x="3009960" y="4130280"/>
                <a:ext cx="1080" cy="26892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40" name="AutoShape 69"/>
              <p:cNvCxnSpPr/>
              <p:nvPr/>
            </p:nvCxnSpPr>
            <p:spPr>
              <a:xfrm flipH="1">
                <a:off x="2729880" y="4398840"/>
                <a:ext cx="280440" cy="282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441" name="AutoShape 70"/>
              <p:cNvCxnSpPr/>
              <p:nvPr/>
            </p:nvCxnSpPr>
            <p:spPr>
              <a:xfrm>
                <a:off x="2730240" y="4680720"/>
                <a:ext cx="2804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</p:grpSp>
      <p:grpSp>
        <p:nvGrpSpPr>
          <p:cNvPr id="442" name="Group 71"/>
          <p:cNvGrpSpPr/>
          <p:nvPr/>
        </p:nvGrpSpPr>
        <p:grpSpPr>
          <a:xfrm>
            <a:off x="3492360" y="2636640"/>
            <a:ext cx="2183040" cy="2183040"/>
            <a:chOff x="3492360" y="2636640"/>
            <a:chExt cx="2183040" cy="2183040"/>
          </a:xfrm>
        </p:grpSpPr>
        <p:grpSp>
          <p:nvGrpSpPr>
            <p:cNvPr id="443" name="Group 72"/>
            <p:cNvGrpSpPr/>
            <p:nvPr/>
          </p:nvGrpSpPr>
          <p:grpSpPr>
            <a:xfrm>
              <a:off x="3492360" y="2636640"/>
              <a:ext cx="2183040" cy="2183040"/>
              <a:chOff x="3492360" y="2636640"/>
              <a:chExt cx="2183040" cy="2183040"/>
            </a:xfrm>
          </p:grpSpPr>
          <p:sp>
            <p:nvSpPr>
              <p:cNvPr id="444" name="Rectangle 73"/>
              <p:cNvSpPr/>
              <p:nvPr/>
            </p:nvSpPr>
            <p:spPr>
              <a:xfrm>
                <a:off x="3510000" y="2637000"/>
                <a:ext cx="2165040" cy="2182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5" name="AutoShape 74"/>
              <p:cNvCxnSpPr/>
              <p:nvPr/>
            </p:nvCxnSpPr>
            <p:spPr>
              <a:xfrm>
                <a:off x="3510000" y="3713400"/>
                <a:ext cx="21657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446" name="AutoShape 75"/>
              <p:cNvCxnSpPr/>
              <p:nvPr/>
            </p:nvCxnSpPr>
            <p:spPr>
              <a:xfrm>
                <a:off x="4588920" y="2636640"/>
                <a:ext cx="1080" cy="2183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447" name="AutoShape 76"/>
              <p:cNvCxnSpPr/>
              <p:nvPr/>
            </p:nvCxnSpPr>
            <p:spPr>
              <a:xfrm>
                <a:off x="3510000" y="3162960"/>
                <a:ext cx="2165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8" name="AutoShape 77"/>
              <p:cNvCxnSpPr/>
              <p:nvPr/>
            </p:nvCxnSpPr>
            <p:spPr>
              <a:xfrm>
                <a:off x="3510000" y="2908440"/>
                <a:ext cx="2165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49" name="AutoShape 78"/>
              <p:cNvCxnSpPr/>
              <p:nvPr/>
            </p:nvCxnSpPr>
            <p:spPr>
              <a:xfrm>
                <a:off x="3501000" y="3431160"/>
                <a:ext cx="2165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0" name="AutoShape 79"/>
              <p:cNvCxnSpPr/>
              <p:nvPr/>
            </p:nvCxnSpPr>
            <p:spPr>
              <a:xfrm>
                <a:off x="3501000" y="4250160"/>
                <a:ext cx="2165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1" name="AutoShape 80"/>
              <p:cNvCxnSpPr/>
              <p:nvPr/>
            </p:nvCxnSpPr>
            <p:spPr>
              <a:xfrm>
                <a:off x="3501000" y="3995640"/>
                <a:ext cx="2165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2" name="AutoShape 81"/>
              <p:cNvCxnSpPr/>
              <p:nvPr/>
            </p:nvCxnSpPr>
            <p:spPr>
              <a:xfrm>
                <a:off x="3492360" y="4518360"/>
                <a:ext cx="2165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3" name="AutoShape 82"/>
              <p:cNvCxnSpPr/>
              <p:nvPr/>
            </p:nvCxnSpPr>
            <p:spPr>
              <a:xfrm>
                <a:off x="4035240" y="2636640"/>
                <a:ext cx="1080" cy="218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4" name="AutoShape 83"/>
              <p:cNvCxnSpPr/>
              <p:nvPr/>
            </p:nvCxnSpPr>
            <p:spPr>
              <a:xfrm>
                <a:off x="5107680" y="2636640"/>
                <a:ext cx="1080" cy="218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5" name="AutoShape 84"/>
              <p:cNvCxnSpPr/>
              <p:nvPr/>
            </p:nvCxnSpPr>
            <p:spPr>
              <a:xfrm>
                <a:off x="3755160" y="2636640"/>
                <a:ext cx="1080" cy="218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6" name="AutoShape 85"/>
              <p:cNvCxnSpPr/>
              <p:nvPr/>
            </p:nvCxnSpPr>
            <p:spPr>
              <a:xfrm>
                <a:off x="4294440" y="2636640"/>
                <a:ext cx="1080" cy="218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7" name="AutoShape 86"/>
              <p:cNvCxnSpPr/>
              <p:nvPr/>
            </p:nvCxnSpPr>
            <p:spPr>
              <a:xfrm>
                <a:off x="4854600" y="2636640"/>
                <a:ext cx="1080" cy="218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8" name="AutoShape 87"/>
              <p:cNvCxnSpPr/>
              <p:nvPr/>
            </p:nvCxnSpPr>
            <p:spPr>
              <a:xfrm>
                <a:off x="5380560" y="2636640"/>
                <a:ext cx="1080" cy="218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459" name="Group 88"/>
            <p:cNvGrpSpPr/>
            <p:nvPr/>
          </p:nvGrpSpPr>
          <p:grpSpPr>
            <a:xfrm>
              <a:off x="3629160" y="2790000"/>
              <a:ext cx="829080" cy="779760"/>
              <a:chOff x="3629160" y="2790000"/>
              <a:chExt cx="829080" cy="779760"/>
            </a:xfrm>
          </p:grpSpPr>
          <p:grpSp>
            <p:nvGrpSpPr>
              <p:cNvPr id="460" name="Group 89"/>
              <p:cNvGrpSpPr/>
              <p:nvPr/>
            </p:nvGrpSpPr>
            <p:grpSpPr>
              <a:xfrm>
                <a:off x="3629160" y="2790000"/>
                <a:ext cx="829080" cy="779400"/>
                <a:chOff x="3629160" y="2790000"/>
                <a:chExt cx="829080" cy="779400"/>
              </a:xfrm>
            </p:grpSpPr>
            <p:cxnSp>
              <p:nvCxnSpPr>
                <p:cNvPr id="461" name="AutoShape 90"/>
                <p:cNvCxnSpPr/>
                <p:nvPr/>
              </p:nvCxnSpPr>
              <p:spPr>
                <a:xfrm>
                  <a:off x="3629160" y="2790000"/>
                  <a:ext cx="822600" cy="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62" name="AutoShape 91"/>
                <p:cNvCxnSpPr/>
                <p:nvPr/>
              </p:nvCxnSpPr>
              <p:spPr>
                <a:xfrm flipH="1">
                  <a:off x="3634920" y="2790000"/>
                  <a:ext cx="822600" cy="24732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63" name="AutoShape 92"/>
                <p:cNvCxnSpPr/>
                <p:nvPr/>
              </p:nvCxnSpPr>
              <p:spPr>
                <a:xfrm>
                  <a:off x="3635280" y="3036600"/>
                  <a:ext cx="822600" cy="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64" name="AutoShape 93"/>
                <p:cNvCxnSpPr/>
                <p:nvPr/>
              </p:nvCxnSpPr>
              <p:spPr>
                <a:xfrm flipH="1">
                  <a:off x="3635640" y="3045600"/>
                  <a:ext cx="822600" cy="24732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65" name="AutoShape 94"/>
                <p:cNvCxnSpPr/>
                <p:nvPr/>
              </p:nvCxnSpPr>
              <p:spPr>
                <a:xfrm>
                  <a:off x="3636000" y="3292560"/>
                  <a:ext cx="822600" cy="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66" name="AutoShape 95"/>
                <p:cNvCxnSpPr/>
                <p:nvPr/>
              </p:nvCxnSpPr>
              <p:spPr>
                <a:xfrm flipH="1">
                  <a:off x="3635640" y="3299040"/>
                  <a:ext cx="822600" cy="27072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</p:grpSp>
          <p:cxnSp>
            <p:nvCxnSpPr>
              <p:cNvPr id="467" name="AutoShape 96"/>
              <p:cNvCxnSpPr/>
              <p:nvPr/>
            </p:nvCxnSpPr>
            <p:spPr>
              <a:xfrm>
                <a:off x="3636000" y="3569040"/>
                <a:ext cx="82260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  <p:grpSp>
          <p:nvGrpSpPr>
            <p:cNvPr id="468" name="Group 97"/>
            <p:cNvGrpSpPr/>
            <p:nvPr/>
          </p:nvGrpSpPr>
          <p:grpSpPr>
            <a:xfrm>
              <a:off x="4711680" y="2790000"/>
              <a:ext cx="829080" cy="779760"/>
              <a:chOff x="4711680" y="2790000"/>
              <a:chExt cx="829080" cy="779760"/>
            </a:xfrm>
          </p:grpSpPr>
          <p:grpSp>
            <p:nvGrpSpPr>
              <p:cNvPr id="469" name="Group 98"/>
              <p:cNvGrpSpPr/>
              <p:nvPr/>
            </p:nvGrpSpPr>
            <p:grpSpPr>
              <a:xfrm>
                <a:off x="4711680" y="2790000"/>
                <a:ext cx="829080" cy="779400"/>
                <a:chOff x="4711680" y="2790000"/>
                <a:chExt cx="829080" cy="779400"/>
              </a:xfrm>
            </p:grpSpPr>
            <p:cxnSp>
              <p:nvCxnSpPr>
                <p:cNvPr id="470" name="AutoShape 99"/>
                <p:cNvCxnSpPr/>
                <p:nvPr/>
              </p:nvCxnSpPr>
              <p:spPr>
                <a:xfrm>
                  <a:off x="4711680" y="2790000"/>
                  <a:ext cx="822600" cy="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71" name="AutoShape 100"/>
                <p:cNvCxnSpPr/>
                <p:nvPr/>
              </p:nvCxnSpPr>
              <p:spPr>
                <a:xfrm flipH="1">
                  <a:off x="4717440" y="2790000"/>
                  <a:ext cx="822600" cy="24732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72" name="AutoShape 101"/>
                <p:cNvCxnSpPr/>
                <p:nvPr/>
              </p:nvCxnSpPr>
              <p:spPr>
                <a:xfrm>
                  <a:off x="4717800" y="3036600"/>
                  <a:ext cx="822600" cy="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73" name="AutoShape 102"/>
                <p:cNvCxnSpPr/>
                <p:nvPr/>
              </p:nvCxnSpPr>
              <p:spPr>
                <a:xfrm flipH="1">
                  <a:off x="4718160" y="3045600"/>
                  <a:ext cx="822600" cy="24732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74" name="AutoShape 103"/>
                <p:cNvCxnSpPr/>
                <p:nvPr/>
              </p:nvCxnSpPr>
              <p:spPr>
                <a:xfrm>
                  <a:off x="4718520" y="3292560"/>
                  <a:ext cx="822600" cy="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75" name="AutoShape 104"/>
                <p:cNvCxnSpPr/>
                <p:nvPr/>
              </p:nvCxnSpPr>
              <p:spPr>
                <a:xfrm flipH="1">
                  <a:off x="4718160" y="3299040"/>
                  <a:ext cx="822600" cy="27072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</p:grpSp>
          <p:cxnSp>
            <p:nvCxnSpPr>
              <p:cNvPr id="476" name="AutoShape 105"/>
              <p:cNvCxnSpPr/>
              <p:nvPr/>
            </p:nvCxnSpPr>
            <p:spPr>
              <a:xfrm>
                <a:off x="4718520" y="3569040"/>
                <a:ext cx="82260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  <p:grpSp>
          <p:nvGrpSpPr>
            <p:cNvPr id="477" name="Group 106"/>
            <p:cNvGrpSpPr/>
            <p:nvPr/>
          </p:nvGrpSpPr>
          <p:grpSpPr>
            <a:xfrm>
              <a:off x="3634560" y="3880080"/>
              <a:ext cx="829080" cy="780120"/>
              <a:chOff x="3634560" y="3880080"/>
              <a:chExt cx="829080" cy="780120"/>
            </a:xfrm>
          </p:grpSpPr>
          <p:grpSp>
            <p:nvGrpSpPr>
              <p:cNvPr id="478" name="Group 107"/>
              <p:cNvGrpSpPr/>
              <p:nvPr/>
            </p:nvGrpSpPr>
            <p:grpSpPr>
              <a:xfrm>
                <a:off x="3634560" y="3880080"/>
                <a:ext cx="829080" cy="779760"/>
                <a:chOff x="3634560" y="3880080"/>
                <a:chExt cx="829080" cy="779760"/>
              </a:xfrm>
            </p:grpSpPr>
            <p:cxnSp>
              <p:nvCxnSpPr>
                <p:cNvPr id="479" name="AutoShape 108"/>
                <p:cNvCxnSpPr/>
                <p:nvPr/>
              </p:nvCxnSpPr>
              <p:spPr>
                <a:xfrm>
                  <a:off x="3634560" y="3880080"/>
                  <a:ext cx="822600" cy="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80" name="AutoShape 109"/>
                <p:cNvCxnSpPr/>
                <p:nvPr/>
              </p:nvCxnSpPr>
              <p:spPr>
                <a:xfrm flipH="1">
                  <a:off x="3640320" y="3880080"/>
                  <a:ext cx="822600" cy="24732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81" name="AutoShape 110"/>
                <p:cNvCxnSpPr/>
                <p:nvPr/>
              </p:nvCxnSpPr>
              <p:spPr>
                <a:xfrm>
                  <a:off x="3640680" y="4126680"/>
                  <a:ext cx="822600" cy="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82" name="AutoShape 111"/>
                <p:cNvCxnSpPr/>
                <p:nvPr/>
              </p:nvCxnSpPr>
              <p:spPr>
                <a:xfrm flipH="1">
                  <a:off x="3641040" y="4136040"/>
                  <a:ext cx="822600" cy="24732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83" name="AutoShape 112"/>
                <p:cNvCxnSpPr/>
                <p:nvPr/>
              </p:nvCxnSpPr>
              <p:spPr>
                <a:xfrm>
                  <a:off x="3641400" y="4382640"/>
                  <a:ext cx="822600" cy="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84" name="AutoShape 113"/>
                <p:cNvCxnSpPr/>
                <p:nvPr/>
              </p:nvCxnSpPr>
              <p:spPr>
                <a:xfrm flipH="1">
                  <a:off x="3641040" y="4389120"/>
                  <a:ext cx="822600" cy="27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</p:grpSp>
          <p:cxnSp>
            <p:nvCxnSpPr>
              <p:cNvPr id="485" name="AutoShape 114"/>
              <p:cNvCxnSpPr/>
              <p:nvPr/>
            </p:nvCxnSpPr>
            <p:spPr>
              <a:xfrm>
                <a:off x="3641400" y="4659480"/>
                <a:ext cx="82260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  <p:grpSp>
          <p:nvGrpSpPr>
            <p:cNvPr id="486" name="Group 115"/>
            <p:cNvGrpSpPr/>
            <p:nvPr/>
          </p:nvGrpSpPr>
          <p:grpSpPr>
            <a:xfrm>
              <a:off x="4717080" y="3880080"/>
              <a:ext cx="829080" cy="780120"/>
              <a:chOff x="4717080" y="3880080"/>
              <a:chExt cx="829080" cy="780120"/>
            </a:xfrm>
          </p:grpSpPr>
          <p:grpSp>
            <p:nvGrpSpPr>
              <p:cNvPr id="487" name="Group 116"/>
              <p:cNvGrpSpPr/>
              <p:nvPr/>
            </p:nvGrpSpPr>
            <p:grpSpPr>
              <a:xfrm>
                <a:off x="4717080" y="3880080"/>
                <a:ext cx="829080" cy="779760"/>
                <a:chOff x="4717080" y="3880080"/>
                <a:chExt cx="829080" cy="779760"/>
              </a:xfrm>
            </p:grpSpPr>
            <p:cxnSp>
              <p:nvCxnSpPr>
                <p:cNvPr id="488" name="AutoShape 117"/>
                <p:cNvCxnSpPr/>
                <p:nvPr/>
              </p:nvCxnSpPr>
              <p:spPr>
                <a:xfrm>
                  <a:off x="4717080" y="3880080"/>
                  <a:ext cx="822600" cy="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89" name="AutoShape 118"/>
                <p:cNvCxnSpPr/>
                <p:nvPr/>
              </p:nvCxnSpPr>
              <p:spPr>
                <a:xfrm flipH="1">
                  <a:off x="4722840" y="3880080"/>
                  <a:ext cx="822600" cy="24732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90" name="AutoShape 119"/>
                <p:cNvCxnSpPr/>
                <p:nvPr/>
              </p:nvCxnSpPr>
              <p:spPr>
                <a:xfrm>
                  <a:off x="4723200" y="4126680"/>
                  <a:ext cx="822600" cy="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91" name="AutoShape 120"/>
                <p:cNvCxnSpPr/>
                <p:nvPr/>
              </p:nvCxnSpPr>
              <p:spPr>
                <a:xfrm flipH="1">
                  <a:off x="4723560" y="4136040"/>
                  <a:ext cx="822600" cy="24732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92" name="AutoShape 121"/>
                <p:cNvCxnSpPr/>
                <p:nvPr/>
              </p:nvCxnSpPr>
              <p:spPr>
                <a:xfrm>
                  <a:off x="4723920" y="4382640"/>
                  <a:ext cx="822600" cy="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  <p:cxnSp>
              <p:nvCxnSpPr>
                <p:cNvPr id="493" name="AutoShape 122"/>
                <p:cNvCxnSpPr/>
                <p:nvPr/>
              </p:nvCxnSpPr>
              <p:spPr>
                <a:xfrm flipH="1">
                  <a:off x="4723560" y="4389120"/>
                  <a:ext cx="822600" cy="271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headEnd len="med" type="stealth" w="med"/>
                </a:ln>
              </p:spPr>
            </p:cxnSp>
          </p:grpSp>
          <p:cxnSp>
            <p:nvCxnSpPr>
              <p:cNvPr id="494" name="AutoShape 123"/>
              <p:cNvCxnSpPr/>
              <p:nvPr/>
            </p:nvCxnSpPr>
            <p:spPr>
              <a:xfrm>
                <a:off x="4723920" y="4659480"/>
                <a:ext cx="82260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</p:grpSp>
      <p:grpSp>
        <p:nvGrpSpPr>
          <p:cNvPr id="495" name="Group 124"/>
          <p:cNvGrpSpPr/>
          <p:nvPr/>
        </p:nvGrpSpPr>
        <p:grpSpPr>
          <a:xfrm>
            <a:off x="6011640" y="2636640"/>
            <a:ext cx="2182680" cy="2183040"/>
            <a:chOff x="6011640" y="2636640"/>
            <a:chExt cx="2182680" cy="2183040"/>
          </a:xfrm>
        </p:grpSpPr>
        <p:grpSp>
          <p:nvGrpSpPr>
            <p:cNvPr id="496" name="Group 125"/>
            <p:cNvGrpSpPr/>
            <p:nvPr/>
          </p:nvGrpSpPr>
          <p:grpSpPr>
            <a:xfrm>
              <a:off x="6011640" y="2636640"/>
              <a:ext cx="2182680" cy="2183040"/>
              <a:chOff x="6011640" y="2636640"/>
              <a:chExt cx="2182680" cy="2183040"/>
            </a:xfrm>
          </p:grpSpPr>
          <p:sp>
            <p:nvSpPr>
              <p:cNvPr id="497" name="Rectangle 126"/>
              <p:cNvSpPr/>
              <p:nvPr/>
            </p:nvSpPr>
            <p:spPr>
              <a:xfrm>
                <a:off x="6029640" y="2637000"/>
                <a:ext cx="2164680" cy="2182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8" name="AutoShape 127"/>
              <p:cNvCxnSpPr/>
              <p:nvPr/>
            </p:nvCxnSpPr>
            <p:spPr>
              <a:xfrm>
                <a:off x="6029280" y="3713400"/>
                <a:ext cx="21654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499" name="AutoShape 128"/>
              <p:cNvCxnSpPr/>
              <p:nvPr/>
            </p:nvCxnSpPr>
            <p:spPr>
              <a:xfrm>
                <a:off x="7108200" y="2636640"/>
                <a:ext cx="1080" cy="2183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500" name="AutoShape 129"/>
              <p:cNvCxnSpPr/>
              <p:nvPr/>
            </p:nvCxnSpPr>
            <p:spPr>
              <a:xfrm>
                <a:off x="6029280" y="3162960"/>
                <a:ext cx="2165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1" name="AutoShape 130"/>
              <p:cNvCxnSpPr/>
              <p:nvPr/>
            </p:nvCxnSpPr>
            <p:spPr>
              <a:xfrm>
                <a:off x="6029280" y="2908440"/>
                <a:ext cx="2165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2" name="AutoShape 131"/>
              <p:cNvCxnSpPr/>
              <p:nvPr/>
            </p:nvCxnSpPr>
            <p:spPr>
              <a:xfrm>
                <a:off x="6020280" y="3431160"/>
                <a:ext cx="2165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3" name="AutoShape 132"/>
              <p:cNvCxnSpPr/>
              <p:nvPr/>
            </p:nvCxnSpPr>
            <p:spPr>
              <a:xfrm>
                <a:off x="6020280" y="4250160"/>
                <a:ext cx="2165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4" name="AutoShape 133"/>
              <p:cNvCxnSpPr/>
              <p:nvPr/>
            </p:nvCxnSpPr>
            <p:spPr>
              <a:xfrm>
                <a:off x="6020280" y="3995640"/>
                <a:ext cx="2165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5" name="AutoShape 134"/>
              <p:cNvCxnSpPr/>
              <p:nvPr/>
            </p:nvCxnSpPr>
            <p:spPr>
              <a:xfrm>
                <a:off x="6011640" y="4518360"/>
                <a:ext cx="2165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6" name="AutoShape 135"/>
              <p:cNvCxnSpPr/>
              <p:nvPr/>
            </p:nvCxnSpPr>
            <p:spPr>
              <a:xfrm>
                <a:off x="6554880" y="2636640"/>
                <a:ext cx="1080" cy="218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7" name="AutoShape 136"/>
              <p:cNvCxnSpPr/>
              <p:nvPr/>
            </p:nvCxnSpPr>
            <p:spPr>
              <a:xfrm>
                <a:off x="7626960" y="2636640"/>
                <a:ext cx="1080" cy="218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8" name="AutoShape 137"/>
              <p:cNvCxnSpPr/>
              <p:nvPr/>
            </p:nvCxnSpPr>
            <p:spPr>
              <a:xfrm>
                <a:off x="6274800" y="2636640"/>
                <a:ext cx="1080" cy="218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9" name="AutoShape 138"/>
              <p:cNvCxnSpPr/>
              <p:nvPr/>
            </p:nvCxnSpPr>
            <p:spPr>
              <a:xfrm>
                <a:off x="6814080" y="2636640"/>
                <a:ext cx="1080" cy="218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0" name="AutoShape 139"/>
              <p:cNvCxnSpPr/>
              <p:nvPr/>
            </p:nvCxnSpPr>
            <p:spPr>
              <a:xfrm>
                <a:off x="7373880" y="2636640"/>
                <a:ext cx="1080" cy="218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1" name="AutoShape 140"/>
              <p:cNvCxnSpPr/>
              <p:nvPr/>
            </p:nvCxnSpPr>
            <p:spPr>
              <a:xfrm>
                <a:off x="7899840" y="2636640"/>
                <a:ext cx="1080" cy="218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512" name="Group 141"/>
            <p:cNvGrpSpPr/>
            <p:nvPr/>
          </p:nvGrpSpPr>
          <p:grpSpPr>
            <a:xfrm>
              <a:off x="6159600" y="2765160"/>
              <a:ext cx="806400" cy="807840"/>
              <a:chOff x="6159600" y="2765160"/>
              <a:chExt cx="806400" cy="807840"/>
            </a:xfrm>
          </p:grpSpPr>
          <p:cxnSp>
            <p:nvCxnSpPr>
              <p:cNvPr id="513" name="AutoShape 142"/>
              <p:cNvCxnSpPr/>
              <p:nvPr/>
            </p:nvCxnSpPr>
            <p:spPr>
              <a:xfrm>
                <a:off x="6159600" y="277776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14" name="AutoShape 143"/>
              <p:cNvCxnSpPr/>
              <p:nvPr/>
            </p:nvCxnSpPr>
            <p:spPr>
              <a:xfrm flipV="1">
                <a:off x="6159600" y="2765160"/>
                <a:ext cx="24732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15" name="AutoShape 144"/>
              <p:cNvCxnSpPr/>
              <p:nvPr/>
            </p:nvCxnSpPr>
            <p:spPr>
              <a:xfrm>
                <a:off x="6406200" y="277776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16" name="AutoShape 145"/>
              <p:cNvCxnSpPr/>
              <p:nvPr/>
            </p:nvCxnSpPr>
            <p:spPr>
              <a:xfrm flipV="1">
                <a:off x="6406200" y="2770560"/>
                <a:ext cx="280440" cy="7894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17" name="AutoShape 146"/>
              <p:cNvCxnSpPr/>
              <p:nvPr/>
            </p:nvCxnSpPr>
            <p:spPr>
              <a:xfrm>
                <a:off x="6685920" y="277776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18" name="AutoShape 147"/>
              <p:cNvCxnSpPr/>
              <p:nvPr/>
            </p:nvCxnSpPr>
            <p:spPr>
              <a:xfrm>
                <a:off x="6961680" y="277776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19" name="AutoShape 148"/>
              <p:cNvCxnSpPr/>
              <p:nvPr/>
            </p:nvCxnSpPr>
            <p:spPr>
              <a:xfrm flipV="1">
                <a:off x="6685920" y="2770560"/>
                <a:ext cx="280440" cy="7894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  <p:grpSp>
          <p:nvGrpSpPr>
            <p:cNvPr id="520" name="Group 149"/>
            <p:cNvGrpSpPr/>
            <p:nvPr/>
          </p:nvGrpSpPr>
          <p:grpSpPr>
            <a:xfrm>
              <a:off x="7243560" y="2765160"/>
              <a:ext cx="806400" cy="807840"/>
              <a:chOff x="7243560" y="2765160"/>
              <a:chExt cx="806400" cy="807840"/>
            </a:xfrm>
          </p:grpSpPr>
          <p:cxnSp>
            <p:nvCxnSpPr>
              <p:cNvPr id="521" name="AutoShape 150"/>
              <p:cNvCxnSpPr/>
              <p:nvPr/>
            </p:nvCxnSpPr>
            <p:spPr>
              <a:xfrm>
                <a:off x="7243560" y="277776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22" name="AutoShape 151"/>
              <p:cNvCxnSpPr/>
              <p:nvPr/>
            </p:nvCxnSpPr>
            <p:spPr>
              <a:xfrm flipV="1">
                <a:off x="7243560" y="2765160"/>
                <a:ext cx="24732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23" name="AutoShape 152"/>
              <p:cNvCxnSpPr/>
              <p:nvPr/>
            </p:nvCxnSpPr>
            <p:spPr>
              <a:xfrm>
                <a:off x="7490160" y="277776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24" name="AutoShape 153"/>
              <p:cNvCxnSpPr/>
              <p:nvPr/>
            </p:nvCxnSpPr>
            <p:spPr>
              <a:xfrm flipV="1">
                <a:off x="7490160" y="2770560"/>
                <a:ext cx="280440" cy="7894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25" name="AutoShape 154"/>
              <p:cNvCxnSpPr/>
              <p:nvPr/>
            </p:nvCxnSpPr>
            <p:spPr>
              <a:xfrm>
                <a:off x="7769880" y="277776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26" name="AutoShape 155"/>
              <p:cNvCxnSpPr/>
              <p:nvPr/>
            </p:nvCxnSpPr>
            <p:spPr>
              <a:xfrm>
                <a:off x="8045640" y="277776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27" name="AutoShape 156"/>
              <p:cNvCxnSpPr/>
              <p:nvPr/>
            </p:nvCxnSpPr>
            <p:spPr>
              <a:xfrm flipV="1">
                <a:off x="7769880" y="2770560"/>
                <a:ext cx="280440" cy="7894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  <p:grpSp>
          <p:nvGrpSpPr>
            <p:cNvPr id="528" name="Group 157"/>
            <p:cNvGrpSpPr/>
            <p:nvPr/>
          </p:nvGrpSpPr>
          <p:grpSpPr>
            <a:xfrm>
              <a:off x="6155640" y="3875040"/>
              <a:ext cx="806400" cy="807840"/>
              <a:chOff x="6155640" y="3875040"/>
              <a:chExt cx="806400" cy="807840"/>
            </a:xfrm>
          </p:grpSpPr>
          <p:cxnSp>
            <p:nvCxnSpPr>
              <p:cNvPr id="529" name="AutoShape 158"/>
              <p:cNvCxnSpPr/>
              <p:nvPr/>
            </p:nvCxnSpPr>
            <p:spPr>
              <a:xfrm>
                <a:off x="6155640" y="388764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30" name="AutoShape 159"/>
              <p:cNvCxnSpPr/>
              <p:nvPr/>
            </p:nvCxnSpPr>
            <p:spPr>
              <a:xfrm flipV="1">
                <a:off x="6155640" y="3875040"/>
                <a:ext cx="24732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31" name="AutoShape 160"/>
              <p:cNvCxnSpPr/>
              <p:nvPr/>
            </p:nvCxnSpPr>
            <p:spPr>
              <a:xfrm>
                <a:off x="6402240" y="388764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32" name="AutoShape 161"/>
              <p:cNvCxnSpPr/>
              <p:nvPr/>
            </p:nvCxnSpPr>
            <p:spPr>
              <a:xfrm flipV="1">
                <a:off x="6402240" y="3880440"/>
                <a:ext cx="280440" cy="7894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33" name="AutoShape 162"/>
              <p:cNvCxnSpPr/>
              <p:nvPr/>
            </p:nvCxnSpPr>
            <p:spPr>
              <a:xfrm>
                <a:off x="6681960" y="388764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34" name="AutoShape 163"/>
              <p:cNvCxnSpPr/>
              <p:nvPr/>
            </p:nvCxnSpPr>
            <p:spPr>
              <a:xfrm>
                <a:off x="6957720" y="388764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35" name="AutoShape 164"/>
              <p:cNvCxnSpPr/>
              <p:nvPr/>
            </p:nvCxnSpPr>
            <p:spPr>
              <a:xfrm flipV="1">
                <a:off x="6681960" y="3880440"/>
                <a:ext cx="280440" cy="7894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  <p:grpSp>
          <p:nvGrpSpPr>
            <p:cNvPr id="536" name="Group 165"/>
            <p:cNvGrpSpPr/>
            <p:nvPr/>
          </p:nvGrpSpPr>
          <p:grpSpPr>
            <a:xfrm>
              <a:off x="7239600" y="3875040"/>
              <a:ext cx="806400" cy="807840"/>
              <a:chOff x="7239600" y="3875040"/>
              <a:chExt cx="806400" cy="807840"/>
            </a:xfrm>
          </p:grpSpPr>
          <p:cxnSp>
            <p:nvCxnSpPr>
              <p:cNvPr id="537" name="AutoShape 166"/>
              <p:cNvCxnSpPr/>
              <p:nvPr/>
            </p:nvCxnSpPr>
            <p:spPr>
              <a:xfrm>
                <a:off x="7239600" y="388764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38" name="AutoShape 167"/>
              <p:cNvCxnSpPr/>
              <p:nvPr/>
            </p:nvCxnSpPr>
            <p:spPr>
              <a:xfrm flipV="1">
                <a:off x="7239600" y="3875040"/>
                <a:ext cx="24732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39" name="AutoShape 168"/>
              <p:cNvCxnSpPr/>
              <p:nvPr/>
            </p:nvCxnSpPr>
            <p:spPr>
              <a:xfrm>
                <a:off x="7486200" y="388764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40" name="AutoShape 169"/>
              <p:cNvCxnSpPr/>
              <p:nvPr/>
            </p:nvCxnSpPr>
            <p:spPr>
              <a:xfrm flipV="1">
                <a:off x="7486200" y="3880440"/>
                <a:ext cx="280440" cy="7894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41" name="AutoShape 170"/>
              <p:cNvCxnSpPr/>
              <p:nvPr/>
            </p:nvCxnSpPr>
            <p:spPr>
              <a:xfrm>
                <a:off x="7765920" y="388764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42" name="AutoShape 171"/>
              <p:cNvCxnSpPr/>
              <p:nvPr/>
            </p:nvCxnSpPr>
            <p:spPr>
              <a:xfrm>
                <a:off x="8041680" y="3887640"/>
                <a:ext cx="1080" cy="7956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543" name="AutoShape 172"/>
              <p:cNvCxnSpPr/>
              <p:nvPr/>
            </p:nvCxnSpPr>
            <p:spPr>
              <a:xfrm flipV="1">
                <a:off x="7765920" y="3880440"/>
                <a:ext cx="280440" cy="7894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</p:grpSp>
      <p:sp>
        <p:nvSpPr>
          <p:cNvPr id="544" name="TextBox 183"/>
          <p:cNvSpPr/>
          <p:nvPr/>
        </p:nvSpPr>
        <p:spPr>
          <a:xfrm>
            <a:off x="1519200" y="500076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gzag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84"/>
          <p:cNvSpPr/>
          <p:nvPr/>
        </p:nvSpPr>
        <p:spPr>
          <a:xfrm>
            <a:off x="3786120" y="50007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85"/>
          <p:cNvSpPr/>
          <p:nvPr/>
        </p:nvSpPr>
        <p:spPr>
          <a:xfrm>
            <a:off x="6386400" y="500076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13A5-8030-4300-80B7-80BA46BE4A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 – HM3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wo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modified MDCS for 16x16 and 32x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MDCS for coding absolute values in CAB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experiments: “A”, “B” and “A+B” for HE-AI and LC-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Samsung for crosschecking (JCTVC-F6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3A2A-1B55-477A-A3CF-CD8A94466D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sults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D8F5-F677-462F-816F-5DF2CC3C0D3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627120" y="2071800"/>
          <a:ext cx="8055000" cy="2643120"/>
        </p:xfrm>
        <a:graphic>
          <a:graphicData uri="http://schemas.openxmlformats.org/drawingml/2006/table">
            <a:tbl>
              <a:tblPr/>
              <a:tblGrid>
                <a:gridCol w="1398600"/>
                <a:gridCol w="1109520"/>
                <a:gridCol w="1109880"/>
                <a:gridCol w="1109520"/>
                <a:gridCol w="1108080"/>
                <a:gridCol w="1109520"/>
                <a:gridCol w="1109880"/>
              </a:tblGrid>
              <a:tr h="264960">
                <a:tc rowSpan="2"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HE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LC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ll A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653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608040" y="5000760"/>
          <a:ext cx="8055000" cy="793440"/>
        </p:xfrm>
        <a:graphic>
          <a:graphicData uri="http://schemas.openxmlformats.org/drawingml/2006/table">
            <a:tbl>
              <a:tblPr/>
              <a:tblGrid>
                <a:gridCol w="1398600"/>
                <a:gridCol w="3328920"/>
                <a:gridCol w="3327480"/>
              </a:tblGrid>
              <a:tr h="26496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rossche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HE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LC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6496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sults of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FC14-370B-409B-83A5-075511E3B0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2000160" y="2071800"/>
          <a:ext cx="4857840" cy="2500200"/>
        </p:xfrm>
        <a:graphic>
          <a:graphicData uri="http://schemas.openxmlformats.org/drawingml/2006/table">
            <a:tbl>
              <a:tblPr/>
              <a:tblGrid>
                <a:gridCol w="1455840"/>
                <a:gridCol w="1133640"/>
                <a:gridCol w="1134720"/>
                <a:gridCol w="1133640"/>
              </a:tblGrid>
              <a:tr h="250560">
                <a:tc rowSpan="2">
                  <a:txBody>
                    <a:bodyPr lIns="95400" rIns="95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5400" rIns="95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HE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400" rIns="95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5400" rIns="95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5400" rIns="95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5400" rIns="95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5400" rIns="95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5400" rIns="95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5400" rIns="95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ll A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50920">
                <a:tc>
                  <a:txBody>
                    <a:bodyPr lIns="95400" rIns="95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95400" rIns="95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95400" rIns="9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00160" y="4857840"/>
          <a:ext cx="4857840" cy="793800"/>
        </p:xfrm>
        <a:graphic>
          <a:graphicData uri="http://schemas.openxmlformats.org/drawingml/2006/table">
            <a:tbl>
              <a:tblPr/>
              <a:tblGrid>
                <a:gridCol w="1438200"/>
                <a:gridCol w="3419640"/>
              </a:tblGrid>
              <a:tr h="26496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rossche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HE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653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sults of 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CEC0-6E4B-4DBF-A6D7-D7A02B592C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642960" y="2000160"/>
          <a:ext cx="8039160" cy="2643120"/>
        </p:xfrm>
        <a:graphic>
          <a:graphicData uri="http://schemas.openxmlformats.org/drawingml/2006/table">
            <a:tbl>
              <a:tblPr/>
              <a:tblGrid>
                <a:gridCol w="1415880"/>
                <a:gridCol w="1105200"/>
                <a:gridCol w="1103040"/>
                <a:gridCol w="1103400"/>
                <a:gridCol w="1103400"/>
                <a:gridCol w="1104840"/>
                <a:gridCol w="1103400"/>
              </a:tblGrid>
              <a:tr h="265320">
                <a:tc rowSpan="2"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HE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LC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ll A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2680" rIns="112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64960"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12680" rIns="112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2680" marR="11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608040" y="5000760"/>
          <a:ext cx="8055000" cy="793440"/>
        </p:xfrm>
        <a:graphic>
          <a:graphicData uri="http://schemas.openxmlformats.org/drawingml/2006/table">
            <a:tbl>
              <a:tblPr/>
              <a:tblGrid>
                <a:gridCol w="1398600"/>
                <a:gridCol w="3328920"/>
                <a:gridCol w="3327480"/>
              </a:tblGrid>
              <a:tr h="26496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rossche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HE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LC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6496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tended MDCS method is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MDCS is applied for 16x16 and 32x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CS is also applied for scanning absolute values in CAB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BD-rate reductions of 0.3% and 0.6% for HE-AI and LC-AI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n time is almost the same as that of HM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BB4E-CD02-4514-8E6A-EFDD0133B28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tended Mode-dependent coefficients scanning (MDCS) method is pro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extensions of MD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d to TUs of 16x16 and 32x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ied horizontal and vertical scanning or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d to level scanning in CAB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HM3.0 and conditions of JCTVC-E7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BD-rate reductions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.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.6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HE-AI and LC-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the same as that of HM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8638-D579-4F35-94BF-46C6E153BC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8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黑体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A392-1027-406D-A477-0D216E7C9F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Scanning Orders in HM3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gzag, Horizontal and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anning order for each TU is determined by it’s intra predictio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76BD-E004-43B6-8A62-99ED6775F2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81"/>
          <p:cNvGrpSpPr/>
          <p:nvPr/>
        </p:nvGrpSpPr>
        <p:grpSpPr>
          <a:xfrm>
            <a:off x="1042920" y="2714400"/>
            <a:ext cx="2113560" cy="2111760"/>
            <a:chOff x="1042920" y="2714400"/>
            <a:chExt cx="2113560" cy="2111760"/>
          </a:xfrm>
        </p:grpSpPr>
        <p:grpSp>
          <p:nvGrpSpPr>
            <p:cNvPr id="122" name="Group 82"/>
            <p:cNvGrpSpPr/>
            <p:nvPr/>
          </p:nvGrpSpPr>
          <p:grpSpPr>
            <a:xfrm>
              <a:off x="1042920" y="2714400"/>
              <a:ext cx="2113560" cy="2111760"/>
              <a:chOff x="1042920" y="2714400"/>
              <a:chExt cx="2113560" cy="2111760"/>
            </a:xfrm>
          </p:grpSpPr>
          <p:sp>
            <p:nvSpPr>
              <p:cNvPr id="123" name="Rectangle 83"/>
              <p:cNvSpPr/>
              <p:nvPr/>
            </p:nvSpPr>
            <p:spPr>
              <a:xfrm>
                <a:off x="1060200" y="2714760"/>
                <a:ext cx="2095920" cy="2111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4" name="AutoShape 84"/>
              <p:cNvCxnSpPr/>
              <p:nvPr/>
            </p:nvCxnSpPr>
            <p:spPr>
              <a:xfrm>
                <a:off x="1060200" y="375588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AutoShape 85"/>
              <p:cNvCxnSpPr/>
              <p:nvPr/>
            </p:nvCxnSpPr>
            <p:spPr>
              <a:xfrm>
                <a:off x="210420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6" name="AutoShape 86"/>
              <p:cNvCxnSpPr/>
              <p:nvPr/>
            </p:nvCxnSpPr>
            <p:spPr>
              <a:xfrm>
                <a:off x="1060200" y="322344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AutoShape 87"/>
              <p:cNvCxnSpPr/>
              <p:nvPr/>
            </p:nvCxnSpPr>
            <p:spPr>
              <a:xfrm>
                <a:off x="1060200" y="297720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8" name="AutoShape 88"/>
              <p:cNvCxnSpPr/>
              <p:nvPr/>
            </p:nvCxnSpPr>
            <p:spPr>
              <a:xfrm>
                <a:off x="1051200" y="348300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9" name="AutoShape 89"/>
              <p:cNvCxnSpPr/>
              <p:nvPr/>
            </p:nvCxnSpPr>
            <p:spPr>
              <a:xfrm>
                <a:off x="1051200" y="427536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0" name="AutoShape 90"/>
              <p:cNvCxnSpPr/>
              <p:nvPr/>
            </p:nvCxnSpPr>
            <p:spPr>
              <a:xfrm>
                <a:off x="1051200" y="402912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1" name="AutoShape 91"/>
              <p:cNvCxnSpPr/>
              <p:nvPr/>
            </p:nvCxnSpPr>
            <p:spPr>
              <a:xfrm>
                <a:off x="1042920" y="453492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2" name="AutoShape 92"/>
              <p:cNvCxnSpPr/>
              <p:nvPr/>
            </p:nvCxnSpPr>
            <p:spPr>
              <a:xfrm>
                <a:off x="156852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" name="AutoShape 93"/>
              <p:cNvCxnSpPr/>
              <p:nvPr/>
            </p:nvCxnSpPr>
            <p:spPr>
              <a:xfrm>
                <a:off x="260640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4" name="AutoShape 94"/>
              <p:cNvCxnSpPr/>
              <p:nvPr/>
            </p:nvCxnSpPr>
            <p:spPr>
              <a:xfrm>
                <a:off x="129744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5" name="AutoShape 95"/>
              <p:cNvCxnSpPr/>
              <p:nvPr/>
            </p:nvCxnSpPr>
            <p:spPr>
              <a:xfrm>
                <a:off x="181944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AutoShape 96"/>
              <p:cNvCxnSpPr/>
              <p:nvPr/>
            </p:nvCxnSpPr>
            <p:spPr>
              <a:xfrm>
                <a:off x="236160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AutoShape 97"/>
              <p:cNvCxnSpPr/>
              <p:nvPr/>
            </p:nvCxnSpPr>
            <p:spPr>
              <a:xfrm>
                <a:off x="287100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38" name="Group 98"/>
            <p:cNvGrpSpPr/>
            <p:nvPr/>
          </p:nvGrpSpPr>
          <p:grpSpPr>
            <a:xfrm>
              <a:off x="1155240" y="2845080"/>
              <a:ext cx="1864440" cy="1833840"/>
              <a:chOff x="1155240" y="2845080"/>
              <a:chExt cx="1864440" cy="1833840"/>
            </a:xfrm>
          </p:grpSpPr>
          <p:cxnSp>
            <p:nvCxnSpPr>
              <p:cNvPr id="139" name="AutoShape 99"/>
              <p:cNvCxnSpPr/>
              <p:nvPr/>
            </p:nvCxnSpPr>
            <p:spPr>
              <a:xfrm flipV="1">
                <a:off x="1955160" y="3621240"/>
                <a:ext cx="1057320" cy="10576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grpSp>
            <p:nvGrpSpPr>
              <p:cNvPr id="140" name="Group 100"/>
              <p:cNvGrpSpPr/>
              <p:nvPr/>
            </p:nvGrpSpPr>
            <p:grpSpPr>
              <a:xfrm>
                <a:off x="1155240" y="2845080"/>
                <a:ext cx="1864440" cy="1833840"/>
                <a:chOff x="1155240" y="2845080"/>
                <a:chExt cx="1864440" cy="1833840"/>
              </a:xfrm>
            </p:grpSpPr>
            <p:cxnSp>
              <p:nvCxnSpPr>
                <p:cNvPr id="141" name="AutoShape 101"/>
                <p:cNvCxnSpPr/>
                <p:nvPr/>
              </p:nvCxnSpPr>
              <p:spPr>
                <a:xfrm>
                  <a:off x="1170000" y="2845080"/>
                  <a:ext cx="26280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42" name="AutoShape 102"/>
                <p:cNvCxnSpPr/>
                <p:nvPr/>
              </p:nvCxnSpPr>
              <p:spPr>
                <a:xfrm flipH="1">
                  <a:off x="1155240" y="2845440"/>
                  <a:ext cx="262800" cy="26460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43" name="AutoShape 103"/>
                <p:cNvCxnSpPr/>
                <p:nvPr/>
              </p:nvCxnSpPr>
              <p:spPr>
                <a:xfrm>
                  <a:off x="1184040" y="3109320"/>
                  <a:ext cx="1080" cy="2602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44" name="AutoShape 104"/>
                <p:cNvCxnSpPr/>
                <p:nvPr/>
              </p:nvCxnSpPr>
              <p:spPr>
                <a:xfrm flipV="1">
                  <a:off x="1162440" y="2845080"/>
                  <a:ext cx="543960" cy="52416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45" name="AutoShape 105"/>
                <p:cNvCxnSpPr/>
                <p:nvPr/>
              </p:nvCxnSpPr>
              <p:spPr>
                <a:xfrm>
                  <a:off x="1706040" y="2852280"/>
                  <a:ext cx="25704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46" name="AutoShape 106"/>
                <p:cNvCxnSpPr/>
                <p:nvPr/>
              </p:nvCxnSpPr>
              <p:spPr>
                <a:xfrm flipH="1">
                  <a:off x="1169280" y="2845440"/>
                  <a:ext cx="793080" cy="7768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47" name="AutoShape 107"/>
                <p:cNvCxnSpPr/>
                <p:nvPr/>
              </p:nvCxnSpPr>
              <p:spPr>
                <a:xfrm>
                  <a:off x="1184040" y="3621600"/>
                  <a:ext cx="1080" cy="28224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48" name="AutoShape 108"/>
                <p:cNvCxnSpPr/>
                <p:nvPr/>
              </p:nvCxnSpPr>
              <p:spPr>
                <a:xfrm flipV="1">
                  <a:off x="1169640" y="2845080"/>
                  <a:ext cx="1072440" cy="105840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49" name="AutoShape 109"/>
                <p:cNvCxnSpPr/>
                <p:nvPr/>
              </p:nvCxnSpPr>
              <p:spPr>
                <a:xfrm>
                  <a:off x="2242080" y="2852280"/>
                  <a:ext cx="24192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50" name="AutoShape 110"/>
                <p:cNvCxnSpPr/>
                <p:nvPr/>
              </p:nvCxnSpPr>
              <p:spPr>
                <a:xfrm flipH="1">
                  <a:off x="1169280" y="2845080"/>
                  <a:ext cx="1313640" cy="131724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51" name="AutoShape 111"/>
                <p:cNvCxnSpPr/>
                <p:nvPr/>
              </p:nvCxnSpPr>
              <p:spPr>
                <a:xfrm>
                  <a:off x="1184040" y="4161600"/>
                  <a:ext cx="1080" cy="23580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52" name="AutoShape 112"/>
                <p:cNvCxnSpPr/>
                <p:nvPr/>
              </p:nvCxnSpPr>
              <p:spPr>
                <a:xfrm flipV="1">
                  <a:off x="1170000" y="2845080"/>
                  <a:ext cx="1570320" cy="15523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53" name="AutoShape 113"/>
                <p:cNvCxnSpPr/>
                <p:nvPr/>
              </p:nvCxnSpPr>
              <p:spPr>
                <a:xfrm>
                  <a:off x="2739600" y="2852280"/>
                  <a:ext cx="27972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54" name="AutoShape 114"/>
                <p:cNvCxnSpPr/>
                <p:nvPr/>
              </p:nvCxnSpPr>
              <p:spPr>
                <a:xfrm flipH="1">
                  <a:off x="1162080" y="2845440"/>
                  <a:ext cx="1857240" cy="183384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55" name="AutoShape 115"/>
                <p:cNvCxnSpPr/>
                <p:nvPr/>
              </p:nvCxnSpPr>
              <p:spPr>
                <a:xfrm>
                  <a:off x="1162440" y="4678200"/>
                  <a:ext cx="27036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56" name="AutoShape 116"/>
                <p:cNvCxnSpPr/>
                <p:nvPr/>
              </p:nvCxnSpPr>
              <p:spPr>
                <a:xfrm flipV="1">
                  <a:off x="1432440" y="3108960"/>
                  <a:ext cx="1587600" cy="156924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57" name="AutoShape 117"/>
                <p:cNvCxnSpPr/>
                <p:nvPr/>
              </p:nvCxnSpPr>
              <p:spPr>
                <a:xfrm>
                  <a:off x="3018960" y="3109320"/>
                  <a:ext cx="1080" cy="2602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58" name="AutoShape 118"/>
                <p:cNvCxnSpPr/>
                <p:nvPr/>
              </p:nvCxnSpPr>
              <p:spPr>
                <a:xfrm flipH="1">
                  <a:off x="1705320" y="3369240"/>
                  <a:ext cx="1313640" cy="13096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59" name="AutoShape 119"/>
                <p:cNvCxnSpPr/>
                <p:nvPr/>
              </p:nvCxnSpPr>
              <p:spPr>
                <a:xfrm>
                  <a:off x="1706040" y="4678200"/>
                  <a:ext cx="25704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60" name="AutoShape 120"/>
                <p:cNvCxnSpPr/>
                <p:nvPr/>
              </p:nvCxnSpPr>
              <p:spPr>
                <a:xfrm>
                  <a:off x="3018960" y="3621600"/>
                  <a:ext cx="1080" cy="28224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61" name="AutoShape 121"/>
                <p:cNvCxnSpPr/>
                <p:nvPr/>
              </p:nvCxnSpPr>
              <p:spPr>
                <a:xfrm flipH="1">
                  <a:off x="2241360" y="3902760"/>
                  <a:ext cx="777960" cy="77580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62" name="AutoShape 122"/>
                <p:cNvCxnSpPr/>
                <p:nvPr/>
              </p:nvCxnSpPr>
              <p:spPr>
                <a:xfrm>
                  <a:off x="2242080" y="4678200"/>
                  <a:ext cx="24192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63" name="AutoShape 123"/>
                <p:cNvCxnSpPr/>
                <p:nvPr/>
              </p:nvCxnSpPr>
              <p:spPr>
                <a:xfrm flipV="1">
                  <a:off x="2483280" y="4161600"/>
                  <a:ext cx="536400" cy="51696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64" name="AutoShape 124"/>
                <p:cNvCxnSpPr/>
                <p:nvPr/>
              </p:nvCxnSpPr>
              <p:spPr>
                <a:xfrm>
                  <a:off x="3018960" y="4161600"/>
                  <a:ext cx="1080" cy="23580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65" name="AutoShape 125"/>
                <p:cNvCxnSpPr/>
                <p:nvPr/>
              </p:nvCxnSpPr>
              <p:spPr>
                <a:xfrm flipH="1">
                  <a:off x="2739240" y="4396680"/>
                  <a:ext cx="279720" cy="2818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166" name="AutoShape 126"/>
                <p:cNvCxnSpPr/>
                <p:nvPr/>
              </p:nvCxnSpPr>
              <p:spPr>
                <a:xfrm>
                  <a:off x="2739600" y="4678200"/>
                  <a:ext cx="27972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</p:grpSp>
        </p:grpSp>
      </p:grpSp>
      <p:grpSp>
        <p:nvGrpSpPr>
          <p:cNvPr id="167" name="Group 127"/>
          <p:cNvGrpSpPr/>
          <p:nvPr/>
        </p:nvGrpSpPr>
        <p:grpSpPr>
          <a:xfrm>
            <a:off x="3492000" y="2714400"/>
            <a:ext cx="2111760" cy="2111760"/>
            <a:chOff x="3492000" y="2714400"/>
            <a:chExt cx="2111760" cy="2111760"/>
          </a:xfrm>
        </p:grpSpPr>
        <p:grpSp>
          <p:nvGrpSpPr>
            <p:cNvPr id="168" name="Group 128"/>
            <p:cNvGrpSpPr/>
            <p:nvPr/>
          </p:nvGrpSpPr>
          <p:grpSpPr>
            <a:xfrm>
              <a:off x="3492000" y="2714400"/>
              <a:ext cx="2111760" cy="2111760"/>
              <a:chOff x="3492000" y="2714400"/>
              <a:chExt cx="2111760" cy="2111760"/>
            </a:xfrm>
          </p:grpSpPr>
          <p:sp>
            <p:nvSpPr>
              <p:cNvPr id="169" name="Rectangle 129"/>
              <p:cNvSpPr/>
              <p:nvPr/>
            </p:nvSpPr>
            <p:spPr>
              <a:xfrm>
                <a:off x="3509640" y="2714760"/>
                <a:ext cx="2094120" cy="2111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0" name="AutoShape 130"/>
              <p:cNvCxnSpPr/>
              <p:nvPr/>
            </p:nvCxnSpPr>
            <p:spPr>
              <a:xfrm>
                <a:off x="3509280" y="3755880"/>
                <a:ext cx="2094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1" name="AutoShape 131"/>
              <p:cNvCxnSpPr/>
              <p:nvPr/>
            </p:nvCxnSpPr>
            <p:spPr>
              <a:xfrm>
                <a:off x="455292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2" name="AutoShape 132"/>
              <p:cNvCxnSpPr/>
              <p:nvPr/>
            </p:nvCxnSpPr>
            <p:spPr>
              <a:xfrm>
                <a:off x="3509280" y="3223440"/>
                <a:ext cx="2094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3" name="AutoShape 133"/>
              <p:cNvCxnSpPr/>
              <p:nvPr/>
            </p:nvCxnSpPr>
            <p:spPr>
              <a:xfrm>
                <a:off x="3509280" y="2977200"/>
                <a:ext cx="2094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4" name="AutoShape 134"/>
              <p:cNvCxnSpPr/>
              <p:nvPr/>
            </p:nvCxnSpPr>
            <p:spPr>
              <a:xfrm>
                <a:off x="3500280" y="3483000"/>
                <a:ext cx="2094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5" name="AutoShape 135"/>
              <p:cNvCxnSpPr/>
              <p:nvPr/>
            </p:nvCxnSpPr>
            <p:spPr>
              <a:xfrm>
                <a:off x="3500280" y="4275360"/>
                <a:ext cx="2094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6" name="AutoShape 136"/>
              <p:cNvCxnSpPr/>
              <p:nvPr/>
            </p:nvCxnSpPr>
            <p:spPr>
              <a:xfrm>
                <a:off x="3500280" y="4029120"/>
                <a:ext cx="2094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7" name="AutoShape 137"/>
              <p:cNvCxnSpPr/>
              <p:nvPr/>
            </p:nvCxnSpPr>
            <p:spPr>
              <a:xfrm>
                <a:off x="3492000" y="4534920"/>
                <a:ext cx="2094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8" name="AutoShape 138"/>
              <p:cNvCxnSpPr/>
              <p:nvPr/>
            </p:nvCxnSpPr>
            <p:spPr>
              <a:xfrm>
                <a:off x="401760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9" name="AutoShape 139"/>
              <p:cNvCxnSpPr/>
              <p:nvPr/>
            </p:nvCxnSpPr>
            <p:spPr>
              <a:xfrm>
                <a:off x="505476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0" name="AutoShape 140"/>
              <p:cNvCxnSpPr/>
              <p:nvPr/>
            </p:nvCxnSpPr>
            <p:spPr>
              <a:xfrm>
                <a:off x="374652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1" name="AutoShape 141"/>
              <p:cNvCxnSpPr/>
              <p:nvPr/>
            </p:nvCxnSpPr>
            <p:spPr>
              <a:xfrm>
                <a:off x="426816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2" name="AutoShape 142"/>
              <p:cNvCxnSpPr/>
              <p:nvPr/>
            </p:nvCxnSpPr>
            <p:spPr>
              <a:xfrm>
                <a:off x="480960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3" name="AutoShape 143"/>
              <p:cNvCxnSpPr/>
              <p:nvPr/>
            </p:nvCxnSpPr>
            <p:spPr>
              <a:xfrm>
                <a:off x="531864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84" name="Group 144"/>
            <p:cNvGrpSpPr/>
            <p:nvPr/>
          </p:nvGrpSpPr>
          <p:grpSpPr>
            <a:xfrm>
              <a:off x="3628080" y="2864880"/>
              <a:ext cx="1840320" cy="1826640"/>
              <a:chOff x="3628080" y="2864880"/>
              <a:chExt cx="1840320" cy="1826640"/>
            </a:xfrm>
          </p:grpSpPr>
          <p:cxnSp>
            <p:nvCxnSpPr>
              <p:cNvPr id="185" name="AutoShape 145"/>
              <p:cNvCxnSpPr/>
              <p:nvPr/>
            </p:nvCxnSpPr>
            <p:spPr>
              <a:xfrm>
                <a:off x="3628440" y="2864880"/>
                <a:ext cx="1840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86" name="AutoShape 146"/>
              <p:cNvCxnSpPr/>
              <p:nvPr/>
            </p:nvCxnSpPr>
            <p:spPr>
              <a:xfrm flipH="1">
                <a:off x="3628080" y="2865240"/>
                <a:ext cx="1840320" cy="25776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87" name="AutoShape 147"/>
              <p:cNvCxnSpPr/>
              <p:nvPr/>
            </p:nvCxnSpPr>
            <p:spPr>
              <a:xfrm>
                <a:off x="3628440" y="3121920"/>
                <a:ext cx="1840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88" name="AutoShape 148"/>
              <p:cNvCxnSpPr/>
              <p:nvPr/>
            </p:nvCxnSpPr>
            <p:spPr>
              <a:xfrm flipH="1">
                <a:off x="3628080" y="3121920"/>
                <a:ext cx="1840320" cy="2602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89" name="AutoShape 149"/>
              <p:cNvCxnSpPr/>
              <p:nvPr/>
            </p:nvCxnSpPr>
            <p:spPr>
              <a:xfrm>
                <a:off x="3628440" y="3381480"/>
                <a:ext cx="1840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90" name="AutoShape 150"/>
              <p:cNvCxnSpPr/>
              <p:nvPr/>
            </p:nvCxnSpPr>
            <p:spPr>
              <a:xfrm flipH="1">
                <a:off x="3628080" y="3381840"/>
                <a:ext cx="1840320" cy="25272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91" name="AutoShape 151"/>
              <p:cNvCxnSpPr/>
              <p:nvPr/>
            </p:nvCxnSpPr>
            <p:spPr>
              <a:xfrm>
                <a:off x="3628440" y="3633840"/>
                <a:ext cx="1840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92" name="AutoShape 152"/>
              <p:cNvCxnSpPr/>
              <p:nvPr/>
            </p:nvCxnSpPr>
            <p:spPr>
              <a:xfrm flipH="1">
                <a:off x="3628080" y="3634200"/>
                <a:ext cx="1840320" cy="2822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93" name="AutoShape 153"/>
              <p:cNvCxnSpPr/>
              <p:nvPr/>
            </p:nvCxnSpPr>
            <p:spPr>
              <a:xfrm>
                <a:off x="3628440" y="3915360"/>
                <a:ext cx="1840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94" name="AutoShape 154"/>
              <p:cNvCxnSpPr/>
              <p:nvPr/>
            </p:nvCxnSpPr>
            <p:spPr>
              <a:xfrm flipH="1">
                <a:off x="3628080" y="3915720"/>
                <a:ext cx="1840320" cy="25920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95" name="AutoShape 155"/>
              <p:cNvCxnSpPr/>
              <p:nvPr/>
            </p:nvCxnSpPr>
            <p:spPr>
              <a:xfrm>
                <a:off x="3628440" y="4174200"/>
                <a:ext cx="1840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96" name="AutoShape 156"/>
              <p:cNvCxnSpPr/>
              <p:nvPr/>
            </p:nvCxnSpPr>
            <p:spPr>
              <a:xfrm flipH="1">
                <a:off x="3628080" y="4174200"/>
                <a:ext cx="1840320" cy="23580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97" name="AutoShape 157"/>
              <p:cNvCxnSpPr/>
              <p:nvPr/>
            </p:nvCxnSpPr>
            <p:spPr>
              <a:xfrm>
                <a:off x="3628440" y="4409280"/>
                <a:ext cx="1840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98" name="AutoShape 158"/>
              <p:cNvCxnSpPr/>
              <p:nvPr/>
            </p:nvCxnSpPr>
            <p:spPr>
              <a:xfrm flipH="1">
                <a:off x="3628080" y="4409280"/>
                <a:ext cx="1840320" cy="2818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199" name="AutoShape 159"/>
              <p:cNvCxnSpPr/>
              <p:nvPr/>
            </p:nvCxnSpPr>
            <p:spPr>
              <a:xfrm>
                <a:off x="3628440" y="4690800"/>
                <a:ext cx="1840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</p:grpSp>
      </p:grpSp>
      <p:grpSp>
        <p:nvGrpSpPr>
          <p:cNvPr id="200" name="Group 160"/>
          <p:cNvGrpSpPr/>
          <p:nvPr/>
        </p:nvGrpSpPr>
        <p:grpSpPr>
          <a:xfrm>
            <a:off x="5940360" y="2714400"/>
            <a:ext cx="2113560" cy="2111760"/>
            <a:chOff x="5940360" y="2714400"/>
            <a:chExt cx="2113560" cy="2111760"/>
          </a:xfrm>
        </p:grpSpPr>
        <p:grpSp>
          <p:nvGrpSpPr>
            <p:cNvPr id="201" name="Group 161"/>
            <p:cNvGrpSpPr/>
            <p:nvPr/>
          </p:nvGrpSpPr>
          <p:grpSpPr>
            <a:xfrm>
              <a:off x="5940360" y="2714400"/>
              <a:ext cx="2113560" cy="2111760"/>
              <a:chOff x="5940360" y="2714400"/>
              <a:chExt cx="2113560" cy="2111760"/>
            </a:xfrm>
          </p:grpSpPr>
          <p:sp>
            <p:nvSpPr>
              <p:cNvPr id="202" name="Rectangle 162"/>
              <p:cNvSpPr/>
              <p:nvPr/>
            </p:nvSpPr>
            <p:spPr>
              <a:xfrm>
                <a:off x="5957640" y="2714760"/>
                <a:ext cx="2095920" cy="2111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3" name="AutoShape 163"/>
              <p:cNvCxnSpPr/>
              <p:nvPr/>
            </p:nvCxnSpPr>
            <p:spPr>
              <a:xfrm>
                <a:off x="5957640" y="375588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4" name="AutoShape 164"/>
              <p:cNvCxnSpPr/>
              <p:nvPr/>
            </p:nvCxnSpPr>
            <p:spPr>
              <a:xfrm>
                <a:off x="700164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5" name="AutoShape 165"/>
              <p:cNvCxnSpPr/>
              <p:nvPr/>
            </p:nvCxnSpPr>
            <p:spPr>
              <a:xfrm>
                <a:off x="5957640" y="322344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6" name="AutoShape 166"/>
              <p:cNvCxnSpPr/>
              <p:nvPr/>
            </p:nvCxnSpPr>
            <p:spPr>
              <a:xfrm>
                <a:off x="5957640" y="297720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7" name="AutoShape 167"/>
              <p:cNvCxnSpPr/>
              <p:nvPr/>
            </p:nvCxnSpPr>
            <p:spPr>
              <a:xfrm>
                <a:off x="5948640" y="348300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8" name="AutoShape 168"/>
              <p:cNvCxnSpPr/>
              <p:nvPr/>
            </p:nvCxnSpPr>
            <p:spPr>
              <a:xfrm>
                <a:off x="5948640" y="427536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9" name="AutoShape 169"/>
              <p:cNvCxnSpPr/>
              <p:nvPr/>
            </p:nvCxnSpPr>
            <p:spPr>
              <a:xfrm>
                <a:off x="5948640" y="402912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0" name="AutoShape 170"/>
              <p:cNvCxnSpPr/>
              <p:nvPr/>
            </p:nvCxnSpPr>
            <p:spPr>
              <a:xfrm>
                <a:off x="5940360" y="4534920"/>
                <a:ext cx="2096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1" name="AutoShape 171"/>
              <p:cNvCxnSpPr/>
              <p:nvPr/>
            </p:nvCxnSpPr>
            <p:spPr>
              <a:xfrm>
                <a:off x="646596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2" name="AutoShape 172"/>
              <p:cNvCxnSpPr/>
              <p:nvPr/>
            </p:nvCxnSpPr>
            <p:spPr>
              <a:xfrm>
                <a:off x="750384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3" name="AutoShape 173"/>
              <p:cNvCxnSpPr/>
              <p:nvPr/>
            </p:nvCxnSpPr>
            <p:spPr>
              <a:xfrm>
                <a:off x="619488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4" name="AutoShape 174"/>
              <p:cNvCxnSpPr/>
              <p:nvPr/>
            </p:nvCxnSpPr>
            <p:spPr>
              <a:xfrm>
                <a:off x="671688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5" name="AutoShape 175"/>
              <p:cNvCxnSpPr/>
              <p:nvPr/>
            </p:nvCxnSpPr>
            <p:spPr>
              <a:xfrm>
                <a:off x="725904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6" name="AutoShape 176"/>
              <p:cNvCxnSpPr/>
              <p:nvPr/>
            </p:nvCxnSpPr>
            <p:spPr>
              <a:xfrm>
                <a:off x="7768440" y="2714400"/>
                <a:ext cx="1080" cy="211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17" name="Group 177"/>
            <p:cNvGrpSpPr/>
            <p:nvPr/>
          </p:nvGrpSpPr>
          <p:grpSpPr>
            <a:xfrm>
              <a:off x="6089040" y="2835000"/>
              <a:ext cx="1821240" cy="1871640"/>
              <a:chOff x="6089040" y="2835000"/>
              <a:chExt cx="1821240" cy="1871640"/>
            </a:xfrm>
          </p:grpSpPr>
          <p:cxnSp>
            <p:nvCxnSpPr>
              <p:cNvPr id="218" name="AutoShape 178"/>
              <p:cNvCxnSpPr/>
              <p:nvPr/>
            </p:nvCxnSpPr>
            <p:spPr>
              <a:xfrm>
                <a:off x="6089040" y="2835000"/>
                <a:ext cx="1080" cy="187200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19" name="AutoShape 179"/>
              <p:cNvCxnSpPr/>
              <p:nvPr/>
            </p:nvCxnSpPr>
            <p:spPr>
              <a:xfrm flipV="1">
                <a:off x="6089400" y="2841480"/>
                <a:ext cx="255960" cy="18644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20" name="AutoShape 180"/>
              <p:cNvCxnSpPr/>
              <p:nvPr/>
            </p:nvCxnSpPr>
            <p:spPr>
              <a:xfrm>
                <a:off x="6344640" y="2841840"/>
                <a:ext cx="1080" cy="18644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21" name="AutoShape 181"/>
              <p:cNvCxnSpPr/>
              <p:nvPr/>
            </p:nvCxnSpPr>
            <p:spPr>
              <a:xfrm flipV="1">
                <a:off x="6344640" y="2841480"/>
                <a:ext cx="257400" cy="18644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22" name="AutoShape 182"/>
              <p:cNvCxnSpPr/>
              <p:nvPr/>
            </p:nvCxnSpPr>
            <p:spPr>
              <a:xfrm>
                <a:off x="6601680" y="2841840"/>
                <a:ext cx="1080" cy="18644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23" name="AutoShape 183"/>
              <p:cNvCxnSpPr/>
              <p:nvPr/>
            </p:nvCxnSpPr>
            <p:spPr>
              <a:xfrm flipV="1">
                <a:off x="6601680" y="2841480"/>
                <a:ext cx="272520" cy="18644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24" name="AutoShape 184"/>
              <p:cNvCxnSpPr/>
              <p:nvPr/>
            </p:nvCxnSpPr>
            <p:spPr>
              <a:xfrm>
                <a:off x="6873480" y="2835000"/>
                <a:ext cx="1080" cy="187200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25" name="AutoShape 185"/>
              <p:cNvCxnSpPr/>
              <p:nvPr/>
            </p:nvCxnSpPr>
            <p:spPr>
              <a:xfrm flipV="1">
                <a:off x="6873480" y="2841480"/>
                <a:ext cx="264600" cy="18644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26" name="AutoShape 186"/>
              <p:cNvCxnSpPr/>
              <p:nvPr/>
            </p:nvCxnSpPr>
            <p:spPr>
              <a:xfrm>
                <a:off x="7137360" y="2841840"/>
                <a:ext cx="1080" cy="18644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27" name="AutoShape 187"/>
              <p:cNvCxnSpPr/>
              <p:nvPr/>
            </p:nvCxnSpPr>
            <p:spPr>
              <a:xfrm flipV="1">
                <a:off x="7137360" y="2841480"/>
                <a:ext cx="265320" cy="18644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28" name="AutoShape 188"/>
              <p:cNvCxnSpPr/>
              <p:nvPr/>
            </p:nvCxnSpPr>
            <p:spPr>
              <a:xfrm>
                <a:off x="7402320" y="2841840"/>
                <a:ext cx="1080" cy="18644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29" name="AutoShape 189"/>
              <p:cNvCxnSpPr/>
              <p:nvPr/>
            </p:nvCxnSpPr>
            <p:spPr>
              <a:xfrm flipV="1">
                <a:off x="7402680" y="2841480"/>
                <a:ext cx="255960" cy="18644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30" name="AutoShape 190"/>
              <p:cNvCxnSpPr/>
              <p:nvPr/>
            </p:nvCxnSpPr>
            <p:spPr>
              <a:xfrm>
                <a:off x="7657920" y="2841840"/>
                <a:ext cx="1080" cy="18644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31" name="AutoShape 191"/>
              <p:cNvCxnSpPr/>
              <p:nvPr/>
            </p:nvCxnSpPr>
            <p:spPr>
              <a:xfrm flipV="1">
                <a:off x="7658280" y="2841480"/>
                <a:ext cx="249840" cy="18644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232" name="AutoShape 192"/>
              <p:cNvCxnSpPr/>
              <p:nvPr/>
            </p:nvCxnSpPr>
            <p:spPr>
              <a:xfrm>
                <a:off x="7909200" y="2835000"/>
                <a:ext cx="1440" cy="187200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</p:grpSp>
      </p:grpSp>
      <p:sp>
        <p:nvSpPr>
          <p:cNvPr id="233" name="TextBox 117"/>
          <p:cNvSpPr/>
          <p:nvPr/>
        </p:nvSpPr>
        <p:spPr>
          <a:xfrm>
            <a:off x="1519200" y="500076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gzag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8"/>
          <p:cNvSpPr/>
          <p:nvPr/>
        </p:nvSpPr>
        <p:spPr>
          <a:xfrm>
            <a:off x="3786120" y="50007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9"/>
          <p:cNvSpPr/>
          <p:nvPr/>
        </p:nvSpPr>
        <p:spPr>
          <a:xfrm>
            <a:off x="6386400" y="500076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DCS Sel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ning pattern is selected according to a look-up-tab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16x16 and 32x32, zigzag is alway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1653-4D86-4D2F-A29D-F953F7C997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7"/>
          <p:cNvGrpSpPr/>
          <p:nvPr/>
        </p:nvGrpSpPr>
        <p:grpSpPr>
          <a:xfrm>
            <a:off x="214200" y="1857240"/>
            <a:ext cx="8748720" cy="2459160"/>
            <a:chOff x="214200" y="1857240"/>
            <a:chExt cx="8748720" cy="2459160"/>
          </a:xfrm>
        </p:grpSpPr>
        <p:pic>
          <p:nvPicPr>
            <p:cNvPr id="241" name="Picture 1514" descr=""/>
            <p:cNvPicPr/>
            <p:nvPr/>
          </p:nvPicPr>
          <p:blipFill>
            <a:blip r:embed="rId1"/>
            <a:stretch/>
          </p:blipFill>
          <p:spPr>
            <a:xfrm>
              <a:off x="214200" y="1857240"/>
              <a:ext cx="8748720" cy="24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6"/>
            <p:cNvSpPr/>
            <p:nvPr/>
          </p:nvSpPr>
          <p:spPr>
            <a:xfrm>
              <a:off x="1500120" y="3929040"/>
              <a:ext cx="7462800" cy="387360"/>
            </a:xfrm>
            <a:prstGeom prst="rect">
              <a:avLst/>
            </a:prstGeom>
            <a:solidFill>
              <a:srgbClr val="cccccc">
                <a:alpha val="79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DCS for CABAC in HM3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ificance m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S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solute value of coeffic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U is split into 4x4 sub-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ly reverse 4x4 zigzag is used for each sub-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08A9-890E-41A4-985E-C83E2792D5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6"/>
          <p:cNvGrpSpPr/>
          <p:nvPr/>
        </p:nvGrpSpPr>
        <p:grpSpPr>
          <a:xfrm>
            <a:off x="3214440" y="3429000"/>
            <a:ext cx="2521080" cy="2502360"/>
            <a:chOff x="3214440" y="3429000"/>
            <a:chExt cx="2521080" cy="2502360"/>
          </a:xfrm>
        </p:grpSpPr>
        <p:grpSp>
          <p:nvGrpSpPr>
            <p:cNvPr id="248" name="Group 7"/>
            <p:cNvGrpSpPr/>
            <p:nvPr/>
          </p:nvGrpSpPr>
          <p:grpSpPr>
            <a:xfrm>
              <a:off x="3214440" y="3429000"/>
              <a:ext cx="2521080" cy="2502360"/>
              <a:chOff x="3214440" y="3429000"/>
              <a:chExt cx="2521080" cy="2502360"/>
            </a:xfrm>
          </p:grpSpPr>
          <p:sp>
            <p:nvSpPr>
              <p:cNvPr id="249" name="Rectangle 8"/>
              <p:cNvSpPr/>
              <p:nvPr/>
            </p:nvSpPr>
            <p:spPr>
              <a:xfrm>
                <a:off x="3235320" y="3429000"/>
                <a:ext cx="2500200" cy="2502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0" name="AutoShape 9"/>
              <p:cNvCxnSpPr/>
              <p:nvPr/>
            </p:nvCxnSpPr>
            <p:spPr>
              <a:xfrm>
                <a:off x="3234960" y="4663080"/>
                <a:ext cx="25009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51" name="AutoShape 10"/>
              <p:cNvCxnSpPr/>
              <p:nvPr/>
            </p:nvCxnSpPr>
            <p:spPr>
              <a:xfrm>
                <a:off x="4480920" y="3429000"/>
                <a:ext cx="1080" cy="25027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52" name="AutoShape 11"/>
              <p:cNvCxnSpPr/>
              <p:nvPr/>
            </p:nvCxnSpPr>
            <p:spPr>
              <a:xfrm>
                <a:off x="3234960" y="4032000"/>
                <a:ext cx="2500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3" name="AutoShape 12"/>
              <p:cNvCxnSpPr/>
              <p:nvPr/>
            </p:nvCxnSpPr>
            <p:spPr>
              <a:xfrm>
                <a:off x="3234960" y="3740040"/>
                <a:ext cx="2500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4" name="AutoShape 13"/>
              <p:cNvCxnSpPr/>
              <p:nvPr/>
            </p:nvCxnSpPr>
            <p:spPr>
              <a:xfrm>
                <a:off x="3224520" y="4339440"/>
                <a:ext cx="2500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5" name="AutoShape 14"/>
              <p:cNvCxnSpPr/>
              <p:nvPr/>
            </p:nvCxnSpPr>
            <p:spPr>
              <a:xfrm>
                <a:off x="3224520" y="5278320"/>
                <a:ext cx="2500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6" name="AutoShape 15"/>
              <p:cNvCxnSpPr/>
              <p:nvPr/>
            </p:nvCxnSpPr>
            <p:spPr>
              <a:xfrm>
                <a:off x="3224520" y="4986360"/>
                <a:ext cx="2500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7" name="AutoShape 16"/>
              <p:cNvCxnSpPr/>
              <p:nvPr/>
            </p:nvCxnSpPr>
            <p:spPr>
              <a:xfrm>
                <a:off x="3214440" y="5585760"/>
                <a:ext cx="2500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8" name="AutoShape 17"/>
              <p:cNvCxnSpPr/>
              <p:nvPr/>
            </p:nvCxnSpPr>
            <p:spPr>
              <a:xfrm>
                <a:off x="3841920" y="3429000"/>
                <a:ext cx="1080" cy="250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9" name="AutoShape 18"/>
              <p:cNvCxnSpPr/>
              <p:nvPr/>
            </p:nvCxnSpPr>
            <p:spPr>
              <a:xfrm>
                <a:off x="5079960" y="3429000"/>
                <a:ext cx="1080" cy="250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0" name="AutoShape 19"/>
              <p:cNvCxnSpPr/>
              <p:nvPr/>
            </p:nvCxnSpPr>
            <p:spPr>
              <a:xfrm>
                <a:off x="3518280" y="3429000"/>
                <a:ext cx="1080" cy="250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1" name="AutoShape 20"/>
              <p:cNvCxnSpPr/>
              <p:nvPr/>
            </p:nvCxnSpPr>
            <p:spPr>
              <a:xfrm>
                <a:off x="4141080" y="3429000"/>
                <a:ext cx="1080" cy="250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2" name="AutoShape 21"/>
              <p:cNvCxnSpPr/>
              <p:nvPr/>
            </p:nvCxnSpPr>
            <p:spPr>
              <a:xfrm>
                <a:off x="4787640" y="3429000"/>
                <a:ext cx="1080" cy="250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AutoShape 22"/>
              <p:cNvCxnSpPr/>
              <p:nvPr/>
            </p:nvCxnSpPr>
            <p:spPr>
              <a:xfrm>
                <a:off x="5395320" y="3429000"/>
                <a:ext cx="1080" cy="250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64" name="Group 23"/>
            <p:cNvGrpSpPr/>
            <p:nvPr/>
          </p:nvGrpSpPr>
          <p:grpSpPr>
            <a:xfrm>
              <a:off x="3372480" y="3578040"/>
              <a:ext cx="930960" cy="939600"/>
              <a:chOff x="3372480" y="3578040"/>
              <a:chExt cx="930960" cy="939600"/>
            </a:xfrm>
          </p:grpSpPr>
          <p:cxnSp>
            <p:nvCxnSpPr>
              <p:cNvPr id="265" name="AutoShape 24"/>
              <p:cNvCxnSpPr/>
              <p:nvPr/>
            </p:nvCxnSpPr>
            <p:spPr>
              <a:xfrm>
                <a:off x="3372840" y="3585960"/>
                <a:ext cx="29196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66" name="AutoShape 25"/>
              <p:cNvCxnSpPr/>
              <p:nvPr/>
            </p:nvCxnSpPr>
            <p:spPr>
              <a:xfrm flipH="1">
                <a:off x="3372480" y="3586320"/>
                <a:ext cx="291960" cy="2919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67" name="AutoShape 26"/>
              <p:cNvCxnSpPr/>
              <p:nvPr/>
            </p:nvCxnSpPr>
            <p:spPr>
              <a:xfrm>
                <a:off x="3372840" y="3878280"/>
                <a:ext cx="1080" cy="3081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68" name="AutoShape 27"/>
              <p:cNvCxnSpPr/>
              <p:nvPr/>
            </p:nvCxnSpPr>
            <p:spPr>
              <a:xfrm flipV="1">
                <a:off x="3372840" y="3578040"/>
                <a:ext cx="607320" cy="60804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69" name="AutoShape 28"/>
              <p:cNvCxnSpPr/>
              <p:nvPr/>
            </p:nvCxnSpPr>
            <p:spPr>
              <a:xfrm>
                <a:off x="3979440" y="3585960"/>
                <a:ext cx="3236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70" name="AutoShape 29"/>
              <p:cNvCxnSpPr/>
              <p:nvPr/>
            </p:nvCxnSpPr>
            <p:spPr>
              <a:xfrm flipH="1">
                <a:off x="3372480" y="3585960"/>
                <a:ext cx="930600" cy="93132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71" name="AutoShape 30"/>
              <p:cNvCxnSpPr/>
              <p:nvPr/>
            </p:nvCxnSpPr>
            <p:spPr>
              <a:xfrm>
                <a:off x="3372840" y="4516920"/>
                <a:ext cx="29196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72" name="AutoShape 31"/>
              <p:cNvCxnSpPr/>
              <p:nvPr/>
            </p:nvCxnSpPr>
            <p:spPr>
              <a:xfrm flipV="1">
                <a:off x="3664080" y="3877920"/>
                <a:ext cx="639000" cy="6393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73" name="AutoShape 32"/>
              <p:cNvCxnSpPr/>
              <p:nvPr/>
            </p:nvCxnSpPr>
            <p:spPr>
              <a:xfrm>
                <a:off x="4302720" y="3878280"/>
                <a:ext cx="1080" cy="3081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74" name="AutoShape 33"/>
              <p:cNvCxnSpPr/>
              <p:nvPr/>
            </p:nvCxnSpPr>
            <p:spPr>
              <a:xfrm flipH="1">
                <a:off x="3979080" y="4186080"/>
                <a:ext cx="323640" cy="3240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75" name="AutoShape 34"/>
              <p:cNvCxnSpPr/>
              <p:nvPr/>
            </p:nvCxnSpPr>
            <p:spPr>
              <a:xfrm>
                <a:off x="3979440" y="4509000"/>
                <a:ext cx="3236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  <p:grpSp>
          <p:nvGrpSpPr>
            <p:cNvPr id="276" name="Group 35"/>
            <p:cNvGrpSpPr/>
            <p:nvPr/>
          </p:nvGrpSpPr>
          <p:grpSpPr>
            <a:xfrm>
              <a:off x="4631040" y="3578760"/>
              <a:ext cx="930960" cy="939600"/>
              <a:chOff x="4631040" y="3578760"/>
              <a:chExt cx="930960" cy="939600"/>
            </a:xfrm>
          </p:grpSpPr>
          <p:cxnSp>
            <p:nvCxnSpPr>
              <p:cNvPr id="277" name="AutoShape 36"/>
              <p:cNvCxnSpPr/>
              <p:nvPr/>
            </p:nvCxnSpPr>
            <p:spPr>
              <a:xfrm>
                <a:off x="4631400" y="3586680"/>
                <a:ext cx="29196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78" name="AutoShape 37"/>
              <p:cNvCxnSpPr/>
              <p:nvPr/>
            </p:nvCxnSpPr>
            <p:spPr>
              <a:xfrm flipH="1">
                <a:off x="4631040" y="3587040"/>
                <a:ext cx="291960" cy="2919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79" name="AutoShape 38"/>
              <p:cNvCxnSpPr/>
              <p:nvPr/>
            </p:nvCxnSpPr>
            <p:spPr>
              <a:xfrm>
                <a:off x="4631400" y="3879000"/>
                <a:ext cx="1080" cy="3081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80" name="AutoShape 39"/>
              <p:cNvCxnSpPr/>
              <p:nvPr/>
            </p:nvCxnSpPr>
            <p:spPr>
              <a:xfrm flipV="1">
                <a:off x="4631400" y="3578760"/>
                <a:ext cx="607320" cy="60804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81" name="AutoShape 40"/>
              <p:cNvCxnSpPr/>
              <p:nvPr/>
            </p:nvCxnSpPr>
            <p:spPr>
              <a:xfrm>
                <a:off x="5238000" y="3586680"/>
                <a:ext cx="3236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82" name="AutoShape 41"/>
              <p:cNvCxnSpPr/>
              <p:nvPr/>
            </p:nvCxnSpPr>
            <p:spPr>
              <a:xfrm flipH="1">
                <a:off x="4631040" y="3586680"/>
                <a:ext cx="930600" cy="93132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83" name="AutoShape 42"/>
              <p:cNvCxnSpPr/>
              <p:nvPr/>
            </p:nvCxnSpPr>
            <p:spPr>
              <a:xfrm>
                <a:off x="4631400" y="4517640"/>
                <a:ext cx="29196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84" name="AutoShape 43"/>
              <p:cNvCxnSpPr/>
              <p:nvPr/>
            </p:nvCxnSpPr>
            <p:spPr>
              <a:xfrm flipV="1">
                <a:off x="4922640" y="3878640"/>
                <a:ext cx="639000" cy="6393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85" name="AutoShape 44"/>
              <p:cNvCxnSpPr/>
              <p:nvPr/>
            </p:nvCxnSpPr>
            <p:spPr>
              <a:xfrm>
                <a:off x="5561280" y="3879000"/>
                <a:ext cx="1080" cy="3081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86" name="AutoShape 45"/>
              <p:cNvCxnSpPr/>
              <p:nvPr/>
            </p:nvCxnSpPr>
            <p:spPr>
              <a:xfrm flipH="1">
                <a:off x="5237640" y="4186800"/>
                <a:ext cx="323640" cy="3240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87" name="AutoShape 46"/>
              <p:cNvCxnSpPr/>
              <p:nvPr/>
            </p:nvCxnSpPr>
            <p:spPr>
              <a:xfrm>
                <a:off x="5238000" y="4509720"/>
                <a:ext cx="3236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  <p:grpSp>
          <p:nvGrpSpPr>
            <p:cNvPr id="288" name="Group 47"/>
            <p:cNvGrpSpPr/>
            <p:nvPr/>
          </p:nvGrpSpPr>
          <p:grpSpPr>
            <a:xfrm>
              <a:off x="3379680" y="4834800"/>
              <a:ext cx="930960" cy="939600"/>
              <a:chOff x="3379680" y="4834800"/>
              <a:chExt cx="930960" cy="939600"/>
            </a:xfrm>
          </p:grpSpPr>
          <p:cxnSp>
            <p:nvCxnSpPr>
              <p:cNvPr id="289" name="AutoShape 48"/>
              <p:cNvCxnSpPr/>
              <p:nvPr/>
            </p:nvCxnSpPr>
            <p:spPr>
              <a:xfrm>
                <a:off x="3380040" y="4842720"/>
                <a:ext cx="29196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90" name="AutoShape 49"/>
              <p:cNvCxnSpPr/>
              <p:nvPr/>
            </p:nvCxnSpPr>
            <p:spPr>
              <a:xfrm flipH="1">
                <a:off x="3379680" y="4843080"/>
                <a:ext cx="291960" cy="2919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91" name="AutoShape 50"/>
              <p:cNvCxnSpPr/>
              <p:nvPr/>
            </p:nvCxnSpPr>
            <p:spPr>
              <a:xfrm>
                <a:off x="3380040" y="5135040"/>
                <a:ext cx="1080" cy="3081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92" name="AutoShape 51"/>
              <p:cNvCxnSpPr/>
              <p:nvPr/>
            </p:nvCxnSpPr>
            <p:spPr>
              <a:xfrm flipV="1">
                <a:off x="3380040" y="4834800"/>
                <a:ext cx="607320" cy="60804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93" name="AutoShape 52"/>
              <p:cNvCxnSpPr/>
              <p:nvPr/>
            </p:nvCxnSpPr>
            <p:spPr>
              <a:xfrm>
                <a:off x="3986640" y="4842720"/>
                <a:ext cx="3236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94" name="AutoShape 53"/>
              <p:cNvCxnSpPr/>
              <p:nvPr/>
            </p:nvCxnSpPr>
            <p:spPr>
              <a:xfrm flipH="1">
                <a:off x="3379680" y="4842720"/>
                <a:ext cx="930600" cy="93132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95" name="AutoShape 54"/>
              <p:cNvCxnSpPr/>
              <p:nvPr/>
            </p:nvCxnSpPr>
            <p:spPr>
              <a:xfrm>
                <a:off x="3380040" y="5773680"/>
                <a:ext cx="29196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96" name="AutoShape 55"/>
              <p:cNvCxnSpPr/>
              <p:nvPr/>
            </p:nvCxnSpPr>
            <p:spPr>
              <a:xfrm flipV="1">
                <a:off x="3671280" y="5134680"/>
                <a:ext cx="639000" cy="6393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97" name="AutoShape 56"/>
              <p:cNvCxnSpPr/>
              <p:nvPr/>
            </p:nvCxnSpPr>
            <p:spPr>
              <a:xfrm>
                <a:off x="4309920" y="5135040"/>
                <a:ext cx="1080" cy="3081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98" name="AutoShape 57"/>
              <p:cNvCxnSpPr/>
              <p:nvPr/>
            </p:nvCxnSpPr>
            <p:spPr>
              <a:xfrm flipH="1">
                <a:off x="3986280" y="5442840"/>
                <a:ext cx="323640" cy="3240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299" name="AutoShape 58"/>
              <p:cNvCxnSpPr/>
              <p:nvPr/>
            </p:nvCxnSpPr>
            <p:spPr>
              <a:xfrm>
                <a:off x="3986640" y="5765760"/>
                <a:ext cx="3236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  <p:grpSp>
          <p:nvGrpSpPr>
            <p:cNvPr id="300" name="Group 59"/>
            <p:cNvGrpSpPr/>
            <p:nvPr/>
          </p:nvGrpSpPr>
          <p:grpSpPr>
            <a:xfrm>
              <a:off x="4638240" y="4835520"/>
              <a:ext cx="930960" cy="939600"/>
              <a:chOff x="4638240" y="4835520"/>
              <a:chExt cx="930960" cy="939600"/>
            </a:xfrm>
          </p:grpSpPr>
          <p:cxnSp>
            <p:nvCxnSpPr>
              <p:cNvPr id="301" name="AutoShape 60"/>
              <p:cNvCxnSpPr/>
              <p:nvPr/>
            </p:nvCxnSpPr>
            <p:spPr>
              <a:xfrm>
                <a:off x="4638600" y="4843440"/>
                <a:ext cx="29196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02" name="AutoShape 61"/>
              <p:cNvCxnSpPr/>
              <p:nvPr/>
            </p:nvCxnSpPr>
            <p:spPr>
              <a:xfrm flipH="1">
                <a:off x="4638240" y="4843800"/>
                <a:ext cx="291960" cy="2919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03" name="AutoShape 62"/>
              <p:cNvCxnSpPr/>
              <p:nvPr/>
            </p:nvCxnSpPr>
            <p:spPr>
              <a:xfrm>
                <a:off x="4638600" y="5135760"/>
                <a:ext cx="1080" cy="3081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04" name="AutoShape 63"/>
              <p:cNvCxnSpPr/>
              <p:nvPr/>
            </p:nvCxnSpPr>
            <p:spPr>
              <a:xfrm flipV="1">
                <a:off x="4638600" y="4835520"/>
                <a:ext cx="607320" cy="60804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05" name="AutoShape 64"/>
              <p:cNvCxnSpPr/>
              <p:nvPr/>
            </p:nvCxnSpPr>
            <p:spPr>
              <a:xfrm>
                <a:off x="5245200" y="4843440"/>
                <a:ext cx="3236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06" name="AutoShape 65"/>
              <p:cNvCxnSpPr/>
              <p:nvPr/>
            </p:nvCxnSpPr>
            <p:spPr>
              <a:xfrm flipH="1">
                <a:off x="4638240" y="4843440"/>
                <a:ext cx="930600" cy="93132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07" name="AutoShape 66"/>
              <p:cNvCxnSpPr/>
              <p:nvPr/>
            </p:nvCxnSpPr>
            <p:spPr>
              <a:xfrm>
                <a:off x="4638600" y="5774400"/>
                <a:ext cx="29196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08" name="AutoShape 67"/>
              <p:cNvCxnSpPr/>
              <p:nvPr/>
            </p:nvCxnSpPr>
            <p:spPr>
              <a:xfrm flipV="1">
                <a:off x="4929840" y="5135400"/>
                <a:ext cx="639000" cy="6393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09" name="AutoShape 68"/>
              <p:cNvCxnSpPr/>
              <p:nvPr/>
            </p:nvCxnSpPr>
            <p:spPr>
              <a:xfrm>
                <a:off x="5568480" y="5135760"/>
                <a:ext cx="1080" cy="30816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10" name="AutoShape 69"/>
              <p:cNvCxnSpPr/>
              <p:nvPr/>
            </p:nvCxnSpPr>
            <p:spPr>
              <a:xfrm flipH="1">
                <a:off x="5244840" y="5443560"/>
                <a:ext cx="323640" cy="3240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  <p:cxnSp>
            <p:nvCxnSpPr>
              <p:cNvPr id="311" name="AutoShape 70"/>
              <p:cNvCxnSpPr/>
              <p:nvPr/>
            </p:nvCxnSpPr>
            <p:spPr>
              <a:xfrm>
                <a:off x="5245200" y="5766480"/>
                <a:ext cx="323640" cy="10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headEnd len="med" type="stealth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7A74-7FE4-4027-AF7E-A7E31ED3D8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 1 – Modified MD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ified MD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gzag, modified horizontal scanning order, modified vertical scann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apping table for TUs of 16x16 and 32x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f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rivation of modified horizontal and vertical scanning or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trieve the scanning pattern analytically, coefficient variances are calculated based on image correla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ing pattern is obtained by sorting the variance values in descend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071D-F51B-41BD-B4EF-B75E08A464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2"/>
          <p:cNvGraphicFramePr/>
          <p:nvPr/>
        </p:nvGraphicFramePr>
        <p:xfrm>
          <a:off x="3083040" y="4259160"/>
          <a:ext cx="291780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3040" y="4259160"/>
                    <a:ext cx="29178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 for 8x8 T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4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16x16 and 32x32, the optimal performance is located at 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45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99” and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6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99”,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164C-3C6B-4649-8DE6-95EEAB4B69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301760" y="1857240"/>
          <a:ext cx="4808520" cy="271476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599760"/>
                <a:gridCol w="600120"/>
                <a:gridCol w="601920"/>
                <a:gridCol w="601560"/>
                <a:gridCol w="600120"/>
                <a:gridCol w="601560"/>
              </a:tblGrid>
              <a:tr h="33984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8.08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6.31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101010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4.8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202020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3.60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2.7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2.21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505050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1.9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707070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1.7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984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2.0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1.6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09090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1.2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9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89898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7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5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a4a4a4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4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acacac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4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0b0b0"/>
                    </a:solidFill>
                  </a:tcPr>
                </a:tc>
              </a:tr>
              <a:tr h="33948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7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c9c9c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5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a8a8a8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4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3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cbcbc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2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4c4c4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1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16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1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3840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3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8b8b8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2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2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2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8c8c8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1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4d4d4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5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0.1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6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cfcfc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3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6824520" y="1857240"/>
          <a:ext cx="285840" cy="2714760"/>
        </p:xfrm>
        <a:graphic>
          <a:graphicData uri="http://schemas.openxmlformats.org/drawingml/2006/table">
            <a:tbl>
              <a:tblPr/>
              <a:tblGrid>
                <a:gridCol w="285840"/>
              </a:tblGrid>
              <a:tr h="33984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984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606060"/>
                    </a:solidFill>
                  </a:tcPr>
                </a:tc>
              </a:tr>
              <a:tr h="33948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c9c9c"/>
                    </a:solidFill>
                  </a:tcPr>
                </a:tc>
              </a:tr>
              <a:tr h="33840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8b8b8"/>
                    </a:solidFill>
                  </a:tcPr>
                </a:tc>
              </a:tr>
              <a:tr h="33948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8c8c8"/>
                    </a:solidFill>
                  </a:tcPr>
                </a:tc>
              </a:tr>
              <a:tr h="33984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984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38040">
                <a:tc>
                  <a:txBody>
                    <a:bodyPr lIns="84600" rIns="84600" tIns="42120" bIns="4212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cxnSp>
        <p:nvCxnSpPr>
          <p:cNvPr id="330" name="Straight Arrow Connector 15"/>
          <p:cNvCxnSpPr/>
          <p:nvPr/>
        </p:nvCxnSpPr>
        <p:spPr>
          <a:xfrm flipH="1">
            <a:off x="7536600" y="1856880"/>
            <a:ext cx="2520" cy="2716920"/>
          </a:xfrm>
          <a:prstGeom prst="straightConnector1">
            <a:avLst/>
          </a:prstGeom>
          <a:ln cap="sq" w="47520">
            <a:solidFill>
              <a:srgbClr val="3c8c93"/>
            </a:solidFill>
            <a:bevel/>
            <a:tailEnd len="lg" type="stealth" w="lg"/>
          </a:ln>
        </p:spPr>
      </p:cxnSp>
      <p:sp>
        <p:nvSpPr>
          <p:cNvPr id="331" name="TextBox 16"/>
          <p:cNvSpPr/>
          <p:nvPr/>
        </p:nvSpPr>
        <p:spPr>
          <a:xfrm>
            <a:off x="7546320" y="2143080"/>
            <a:ext cx="4546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scan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12"/>
          <p:cNvCxnSpPr/>
          <p:nvPr/>
        </p:nvCxnSpPr>
        <p:spPr>
          <a:xfrm>
            <a:off x="1609560" y="2069640"/>
            <a:ext cx="294516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3" name="Straight Arrow Connector 14"/>
          <p:cNvCxnSpPr/>
          <p:nvPr/>
        </p:nvCxnSpPr>
        <p:spPr>
          <a:xfrm flipH="1">
            <a:off x="1609560" y="2070720"/>
            <a:ext cx="2945160" cy="214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4" name="Straight Arrow Connector 17"/>
          <p:cNvCxnSpPr/>
          <p:nvPr/>
        </p:nvCxnSpPr>
        <p:spPr>
          <a:xfrm flipV="1">
            <a:off x="1609560" y="2098080"/>
            <a:ext cx="3501360" cy="213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5" name="Straight Arrow Connector 19"/>
          <p:cNvCxnSpPr/>
          <p:nvPr/>
        </p:nvCxnSpPr>
        <p:spPr>
          <a:xfrm>
            <a:off x="5110200" y="2096640"/>
            <a:ext cx="71496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6" name="Straight Arrow Connector 21"/>
          <p:cNvCxnSpPr/>
          <p:nvPr/>
        </p:nvCxnSpPr>
        <p:spPr>
          <a:xfrm flipH="1">
            <a:off x="2230200" y="2178000"/>
            <a:ext cx="3572640" cy="2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1-07-16T06:41:21Z</dcterms:modified>
  <cp:revision>1499</cp:revision>
  <dc:subject/>
  <dc:title>Title: Arial Bold 32pt</dc:title>
</cp:coreProperties>
</file>