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C452-A6DF-468E-9D5C-AA1F72772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BB3-E862-4263-BCF1-5AE21D0F5F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D6C-54F8-49FF-91D3-CCA55DA221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7A81-01CC-44DC-92CE-A71FFF7C67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717A-4432-425F-A251-8F552B21C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EDC1-AF1B-4025-93C9-E6CE90668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CFA9-5394-4C46-BEDD-8E178DE21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4F0E-954B-4A4F-A09C-C5ABC8DA0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6D74-B9B4-4ED6-9AF5-F9A9BB318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3BC74-DE7D-49E5-BFE5-6BC7D28FB7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B6B30-AC76-4F9D-B3AB-BB52C7293E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45D4C-3EDB-4AB4-BBE2-D6977A1D4C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82C61-4451-46F0-93CA-73C8EF1023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D3A63-855A-4280-99C1-E57C35951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33B2-0EF2-4706-B27C-F2FC217657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88FE9-0950-426A-9EC5-DF0F451702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44FB5-33E7-4C73-B13D-541CDF15F3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79B17-D015-4215-9FDC-D7729233DB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91B2-2558-4FF2-B28F-27C99FDA4B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CEA56-9B54-43FB-9458-24869DC31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9D1B-5D5F-4F9A-8CB6-2548BD6A74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D94FB-EF54-4ACC-B587-AEFE41DD4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BAA7-4E04-4747-8C4D-EED023075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56DC-B58D-40B8-A9E5-A462B757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7A67-CC29-41E8-997F-D6802A8D1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23F2-AEBE-4E2D-B3DD-661B57F1F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47D3-5AE4-4616-BC0C-9C544D723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782C-FDFC-4D3E-A3D9-10980488F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B1C-16F3-48AC-9EEA-7F1282EA5F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C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F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5610-9996-4537-878A-FB0FAFC459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9" descr="gray_bot"/>
          <p:cNvPicPr/>
          <p:nvPr/>
        </p:nvPicPr>
        <p:blipFill>
          <a:blip r:embed="rId1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over_back_8"/>
          <p:cNvPicPr/>
          <p:nvPr/>
        </p:nvPicPr>
        <p:blipFill>
          <a:blip r:embed="rId2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600" y="24210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d CAVLC Tables of Intra Mode Coding with Separated DC and Plan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新細明體"/>
              </a:rPr>
              <a:t>JCTVC-F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Shawmin 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22 Jul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9600" y="3789360"/>
            <a:ext cx="8524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i Guo, Xun Guo, and Shawmin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ne mode index and one code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probable mode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mainder mode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dditional flag is delivered to distinguish DC and 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t DC and Planar in HM3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ABB-C4D8-4662-ACCE-6AB5B9087E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d DC and Planar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CAVLC tables of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ne additional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7AB-E37E-4D2B-A3BF-10EFF5FD19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90600" y="1785960"/>
          <a:ext cx="6095880" cy="2225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m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ped Ind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ar(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(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modes(3…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mode + 1(4… 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– HM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onditions – JCTVC-E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 Canon for cross verifying our results (F49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6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100-F06F-42AC-A289-F400EF0BA5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571760" y="2643120"/>
            <a:ext cx="55004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o code DC and Planar separately and update CAVLC tables of intra mod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d an average bit-rate reduction of 0.2% (LC-A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running time as HM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dopting this method into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4D45-4D7F-4C4E-AF4C-DBEAE6004E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矩形 3" descr=""/>
          <p:cNvPicPr/>
          <p:nvPr/>
        </p:nvPicPr>
        <p:blipFill>
          <a:blip r:embed="rId1"/>
          <a:stretch/>
        </p:blipFill>
        <p:spPr>
          <a:xfrm>
            <a:off x="2279520" y="2766960"/>
            <a:ext cx="4578480" cy="115272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C16-3A8E-4BFC-88E7-6DC7FFE0D8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4200" y="2008080"/>
          <a:ext cx="4357800" cy="2778120"/>
        </p:xfrm>
        <a:graphic>
          <a:graphicData uri="http://schemas.openxmlformats.org/drawingml/2006/table">
            <a:tbl>
              <a:tblPr/>
              <a:tblGrid>
                <a:gridCol w="1590840"/>
                <a:gridCol w="922320"/>
                <a:gridCol w="922320"/>
                <a:gridCol w="922320"/>
              </a:tblGrid>
              <a:tr h="2538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 of RA and 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FD2-1268-4E08-9A6A-5AFEE6AA90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786200" y="2000160"/>
          <a:ext cx="4143600" cy="2819520"/>
        </p:xfrm>
        <a:graphic>
          <a:graphicData uri="http://schemas.openxmlformats.org/drawingml/2006/table">
            <a:tbl>
              <a:tblPr/>
              <a:tblGrid>
                <a:gridCol w="1636920"/>
                <a:gridCol w="834840"/>
                <a:gridCol w="836640"/>
                <a:gridCol w="835200"/>
              </a:tblGrid>
              <a:tr h="2667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-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Mei Guo</cp:lastModifiedBy>
  <dcterms:modified xsi:type="dcterms:W3CDTF">2011-07-07T03:09:50Z</dcterms:modified>
  <cp:revision>1500</cp:revision>
  <dc:subject/>
  <dc:title>Title: Arial Bold 32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84628144</vt:r8>
  </property>
  <property fmtid="{D5CDD505-2E9C-101B-9397-08002B2CF9AE}" pid="3" name="_AuthorEmail">
    <vt:lpwstr>shawmin.lei@mediatek.com</vt:lpwstr>
  </property>
  <property fmtid="{D5CDD505-2E9C-101B-9397-08002B2CF9AE}" pid="4" name="_AuthorEmailDisplayName">
    <vt:lpwstr>Shawmin Lei(雷少民)</vt:lpwstr>
  </property>
  <property fmtid="{D5CDD505-2E9C-101B-9397-08002B2CF9AE}" pid="5" name="_EmailSubject">
    <vt:lpwstr>the presentations I handle</vt:lpwstr>
  </property>
  <property fmtid="{D5CDD505-2E9C-101B-9397-08002B2CF9AE}" pid="6" name="_NewReviewCycle">
    <vt:lpwstr/>
  </property>
  <property fmtid="{D5CDD505-2E9C-101B-9397-08002B2CF9AE}" pid="7" name="_PreviousAdHocReviewCycleID">
    <vt:r8>1030816762</vt:r8>
  </property>
</Properties>
</file>