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0C2B-5789-4496-8843-F48BA37EA5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5278-B144-4F98-A5AD-48E7A10458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4746-DC9D-4413-A4F4-5F49186E20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B53E-BD8F-4136-9364-9BE80D7D0F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B47F1-65C3-4A15-A466-A4F47C780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6C5A6-4B3B-4225-B2CB-F77ECAC90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E249E-ECFB-42EE-9A9A-5B7B68CB1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F02DC-05A8-40F1-8DA5-D57861C25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A8F02-96CC-4F77-9DC8-4C1C835B52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76C01-702B-47D4-9C2B-F043C2FFB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BA433-D5F4-497E-92E0-1943512C7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57A9F-EC52-4449-B9E3-F6AB05529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6C47D-0472-47CC-883B-6CDC90A52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520FF-D2EB-4AD0-89D9-CB530AA87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AB6C4-1140-4685-A72A-9D2C43F3C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CAC92-C010-4180-81B1-85FA3C57D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D8D9-14D3-49F9-B05F-00FDDB9928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VC-F1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VC-F1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黑体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9360" y="2347920"/>
            <a:ext cx="91533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a Chroma LM Mode with Reduced Line Buf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9600" y="3933720"/>
            <a:ext cx="86630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i Guo, Xun Guo, Yu-Wen Huang and Shawmin L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diaTek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黑体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bar_white_bot"/>
          <p:cNvPicPr/>
          <p:nvPr/>
        </p:nvPicPr>
        <p:blipFill>
          <a:blip r:embed="rId3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5724360" y="5621400"/>
            <a:ext cx="3110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Presented by Xun G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 JCT-VC Meeting in To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14-22 July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" descr="icon_1"/>
          <p:cNvPicPr/>
          <p:nvPr/>
        </p:nvPicPr>
        <p:blipFill>
          <a:blip r:embed="rId4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4" descr="icon_5"/>
          <p:cNvPicPr/>
          <p:nvPr/>
        </p:nvPicPr>
        <p:blipFill>
          <a:blip r:embed="rId5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5" descr="icon_2"/>
          <p:cNvPicPr/>
          <p:nvPr/>
        </p:nvPicPr>
        <p:blipFill>
          <a:blip r:embed="rId6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6" descr="icon_3"/>
          <p:cNvPicPr/>
          <p:nvPr/>
        </p:nvPicPr>
        <p:blipFill>
          <a:blip r:embed="rId7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7" descr="icon_4"/>
          <p:cNvPicPr/>
          <p:nvPr/>
        </p:nvPicPr>
        <p:blipFill>
          <a:blip r:embed="rId8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thod to reduce the line buffer is proposed for intra chroma LM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nly one pixel line from the upper LCU for the PUs beneath the upper LCU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suggested solutions to get the upper pixel line for 4:2:0 sampling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sampling vertically and horizontal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sampling vertically, and downsampling horizont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additional line buffer i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n HM3.0 and conditions of JCTVC-E7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1 – almost no loss for luma component,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.2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oss for chroma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2 – almost no loss for luma component,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.1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oss for chroma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most the same as that of HM3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5D51-B2A0-4900-82A6-8146FBFDDC3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846C-4C2F-4C4E-9FE2-3EE6B5351E1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 chroma LM mode in HM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pixel lines in the upper LCU ar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line buffers for intra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5386-C239-43D0-96D2-02228816FE9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1285920" y="2009880"/>
            <a:ext cx="4981680" cy="2609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3429000" y="2081160"/>
            <a:ext cx="534960" cy="26100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 rot="5400000">
            <a:off x="4856400" y="903960"/>
            <a:ext cx="534960" cy="260964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ight Arrow 9"/>
          <p:cNvSpPr/>
          <p:nvPr/>
        </p:nvSpPr>
        <p:spPr>
          <a:xfrm>
            <a:off x="6464160" y="2048040"/>
            <a:ext cx="250920" cy="21420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4143240" y="150012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: Sub-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1285920" y="21430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: Down-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6891480" y="1941480"/>
            <a:ext cx="146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bu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16"/>
          <p:cNvSpPr/>
          <p:nvPr/>
        </p:nvSpPr>
        <p:spPr>
          <a:xfrm>
            <a:off x="3214800" y="2357280"/>
            <a:ext cx="35002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6448320" y="2357280"/>
            <a:ext cx="1052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CU bound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Method (1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ly 1 upper pixel line for chroma LM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pply on PUs beneath the upper LCU 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 in other positions still use 2 upper pixel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the line buffer for intra predi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olutions to get the upper pixel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subsampling vertic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CF58-56CA-4121-8757-10B3902EA8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1819440" y="3524400"/>
            <a:ext cx="5505120" cy="6188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2"/>
          <p:cNvSpPr/>
          <p:nvPr/>
        </p:nvSpPr>
        <p:spPr>
          <a:xfrm>
            <a:off x="608040" y="3691080"/>
            <a:ext cx="105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590400" y="4948200"/>
            <a:ext cx="105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2"/>
          <a:stretch/>
        </p:blipFill>
        <p:spPr>
          <a:xfrm>
            <a:off x="1785960" y="4367160"/>
            <a:ext cx="5505480" cy="1133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9"/>
          <p:cNvSpPr/>
          <p:nvPr/>
        </p:nvSpPr>
        <p:spPr>
          <a:xfrm>
            <a:off x="2009520" y="4121280"/>
            <a:ext cx="428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Sub-sampling vertically and horizontal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1571760" y="5621400"/>
            <a:ext cx="54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Sub-sampling vertically, and downsampling horizont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Method (2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5BD7-088B-413C-921E-2E619632B78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1 pixel line is needed by using proposed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additional line buffer for chroma LM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1"/>
          <p:cNvGraphicFramePr/>
          <p:nvPr/>
        </p:nvGraphicFramePr>
        <p:xfrm>
          <a:off x="1928880" y="2643120"/>
          <a:ext cx="4441680" cy="34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2643120"/>
                    <a:ext cx="444168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9"/>
          <p:cNvSpPr/>
          <p:nvPr/>
        </p:nvSpPr>
        <p:spPr>
          <a:xfrm rot="5400000">
            <a:off x="4071240" y="1403640"/>
            <a:ext cx="534960" cy="261000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3033720" y="20718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: Only use one pixel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ight Arrow 11"/>
          <p:cNvSpPr/>
          <p:nvPr/>
        </p:nvSpPr>
        <p:spPr>
          <a:xfrm>
            <a:off x="5943600" y="2565360"/>
            <a:ext cx="250920" cy="214200"/>
          </a:xfrm>
          <a:prstGeom prst="rightArrow">
            <a:avLst>
              <a:gd name="adj1" fmla="val 50000"/>
              <a:gd name="adj2" fmla="val 5004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6370560" y="24591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line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2"/>
          <p:cNvSpPr/>
          <p:nvPr/>
        </p:nvSpPr>
        <p:spPr>
          <a:xfrm>
            <a:off x="2693880" y="2827440"/>
            <a:ext cx="3500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2"/>
          <p:cNvSpPr/>
          <p:nvPr/>
        </p:nvSpPr>
        <p:spPr>
          <a:xfrm>
            <a:off x="5927760" y="2827440"/>
            <a:ext cx="1052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CU bound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9BBA-F20B-4907-B547-F5B6EC1BFE7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chor – HM3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mmended test conditions in JCTVC-E7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nk Samsung for crosschecking (JCTVC-F64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 of solution 1 (yellow) and solution 2 (b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4"/>
          <p:cNvGrpSpPr/>
          <p:nvPr/>
        </p:nvGrpSpPr>
        <p:grpSpPr>
          <a:xfrm>
            <a:off x="2049480" y="2585880"/>
            <a:ext cx="5022720" cy="3557880"/>
            <a:chOff x="2049480" y="2585880"/>
            <a:chExt cx="5022720" cy="3557880"/>
          </a:xfrm>
        </p:grpSpPr>
        <p:sp>
          <p:nvSpPr>
            <p:cNvPr id="156" name="Rectangle 10"/>
            <p:cNvSpPr/>
            <p:nvPr/>
          </p:nvSpPr>
          <p:spPr>
            <a:xfrm>
              <a:off x="2049480" y="4389480"/>
              <a:ext cx="4997520" cy="1754280"/>
            </a:xfrm>
            <a:prstGeom prst="rect">
              <a:avLst/>
            </a:prstGeom>
            <a:solidFill>
              <a:srgbClr val="bbe0e3">
                <a:alpha val="29000"/>
              </a:srgbClr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2065320" y="2585880"/>
              <a:ext cx="4997520" cy="1754280"/>
            </a:xfrm>
            <a:prstGeom prst="rect">
              <a:avLst/>
            </a:prstGeom>
            <a:solidFill>
              <a:srgbClr val="ffff00">
                <a:alpha val="29000"/>
              </a:srgbClr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12" descr=""/>
            <p:cNvPicPr/>
            <p:nvPr/>
          </p:nvPicPr>
          <p:blipFill>
            <a:blip r:embed="rId1"/>
            <a:stretch/>
          </p:blipFill>
          <p:spPr>
            <a:xfrm>
              <a:off x="2074320" y="2597400"/>
              <a:ext cx="4997880" cy="17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3" descr=""/>
            <p:cNvPicPr/>
            <p:nvPr/>
          </p:nvPicPr>
          <p:blipFill>
            <a:blip r:embed="rId2"/>
            <a:stretch/>
          </p:blipFill>
          <p:spPr>
            <a:xfrm>
              <a:off x="2061720" y="4389120"/>
              <a:ext cx="4997880" cy="175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Box 12"/>
            <p:cNvSpPr/>
            <p:nvPr/>
          </p:nvSpPr>
          <p:spPr>
            <a:xfrm>
              <a:off x="2049480" y="2612520"/>
              <a:ext cx="95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lutio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13"/>
            <p:cNvSpPr/>
            <p:nvPr/>
          </p:nvSpPr>
          <p:spPr>
            <a:xfrm>
              <a:off x="2074680" y="4389480"/>
              <a:ext cx="95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lution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84D7-23A1-4FA1-996D-3CF79356396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 to use only 1 upper pixel line for chroma LM mode on LCU bound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dditional line buffer is needed for intra luma prediction in hardware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line buffer has been used for the intra predi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no change in coding performance and ru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1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黑体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9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5"/>
          <p:cNvSpPr/>
          <p:nvPr/>
        </p:nvSpPr>
        <p:spPr>
          <a:xfrm>
            <a:off x="3226320" y="3282840"/>
            <a:ext cx="27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2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3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4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5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6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>Chia-Yang Tsai (MediaTek)</dc:creator>
  <dc:description>Confidential A</dc:description>
  <cp:keywords>Confidential A</cp:keywords>
  <dc:language>en-US</dc:language>
  <cp:lastModifiedBy>xun guo</cp:lastModifiedBy>
  <dcterms:modified xsi:type="dcterms:W3CDTF">2011-07-16T07:04:41Z</dcterms:modified>
  <cp:revision>1449</cp:revision>
  <dc:subject/>
  <dc:title>Title: Arial Bold 32pt</dc:title>
</cp:coreProperties>
</file>