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A791-98C8-4A87-A951-266675D5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3EC6-89D3-4323-8310-E4515DF5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D3FB-5DE9-4D71-B5D4-53214BAA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08A13-1A3F-4818-B92B-CDB68B13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813A-5751-4DB0-931D-757044EC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81D1-CA57-423F-8C94-222105C9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6913-0203-4900-AFCF-B89ACBD2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E66A-BF68-4CDA-8801-2F34BBF0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B263-E64B-469A-AC0C-E8BC9567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F39D8-EF52-4AF9-B28C-B0CD0CC4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E8BF-C600-4D49-858C-A47E9B85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6C2D-79F7-441A-AA98-9647E683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図 8" descr="sony_w.png"/>
          <p:cNvPicPr/>
          <p:nvPr/>
        </p:nvPicPr>
        <p:blipFill>
          <a:blip r:embed="rId2"/>
          <a:stretch/>
        </p:blipFill>
        <p:spPr>
          <a:xfrm>
            <a:off x="158760" y="6637320"/>
            <a:ext cx="925560" cy="1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00800" y="65606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ahoma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3177-2185-4A3A-B0C4-361DBCAEA917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9E6C-300A-46A3-9FE3-9917165E3A22}" type="datetime">
              <a:rPr b="0" lang="ja-JP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26/07/3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395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Results on Bi/Uni MC filter</a:t>
            </a:r>
            <a:br>
              <a:rPr sz="4000"/>
            </a:br>
            <a:r>
              <a:rPr b="0" lang="en-US" sz="36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JCTVC-F101</a:t>
            </a:r>
            <a:endParaRPr b="0" lang="en-US" sz="36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Kenji Kondo and Teruhiko Suzuki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Sony Corp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CF96-11DD-435A-877D-3CB47A1066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Summar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3360" y="10098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Explanation of Bi/Uni MC filt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Change from previous contribution E128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Experi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Conclus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070A-BAB0-495B-8980-2DC68E4DF9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Reminder Bi/Uni MC filter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It switches filter coefficients by either prediction mode is bi-pred or uni-pred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Merit of Bi/Uni switch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f MC block is bi-pred, it works as averaging L0 and L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This averaging can suppress some coding noise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Also, high frequency component such as edges will be reduced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 the other hand, if MC block is single pred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interpolation filter interpolates reference including coding noise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 effective, above some phenomenon suggest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For bi-prediction, the interpolation filter needs to protect high frequency components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For single-prediction, interpolation filter should slightly suppress high frequency component to some de-nosing. 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BE07-5A24-4DA6-BB48-CD1F533B14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4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Change from E128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Basically this proposal is same as previous contribution JCTVC-E128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Change from the JCTVC-E128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 simplify encoder, the filter for only uni-prediction is used when motion 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ilter tap length is chang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In E128, 5 tap filter was used for uni-prediction.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It is changed to 8 tap filter.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3" marL="1551960" indent="-221400">
              <a:spcBef>
                <a:spcPts val="499"/>
              </a:spcBef>
              <a:buClr>
                <a:srgbClr val="cc00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To avoid coding loss in IPPP case, and to support simple motion search using only uni filter, 8 tap is used for uni-prediction.</a:t>
            </a:r>
            <a:endParaRPr b="0" lang="en-US" sz="2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372C-07C5-4236-9D55-21B7D6FAFA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Filter coefficien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1628640"/>
          <a:ext cx="7875000" cy="2430360"/>
        </p:xfrm>
        <a:graphic>
          <a:graphicData uri="http://schemas.openxmlformats.org/drawingml/2006/table">
            <a:tbl>
              <a:tblPr/>
              <a:tblGrid>
                <a:gridCol w="1439640"/>
                <a:gridCol w="843120"/>
                <a:gridCol w="1135800"/>
                <a:gridCol w="4456440"/>
              </a:tblGrid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Prediction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Sub p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Tap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Filter coeffic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Uni- pred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1/2 p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-1 ,  4 ,  -10 , 39, 39, -10, 4, -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1/4 p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-1 ,  4 ,  -10 , 57 ,  19,  -7,   3,   -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Bi-pred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1/2 p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-2 ,  5 ,  -12 , 41,  41,  -12,  5,  -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1/4 p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-2 ,  6 ,  -13 , 62 ,  15 ,  -5 , 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88D4-051F-4000-A169-C8FDFCE429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Experimen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Test condition follows JCTVC-D600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o, Bi/Single filter is compared with DCTIF in HM2.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4 test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RA_HE, RA_LC, LD_HE, and LD_LC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Simulation environ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sed mach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Core i7 CPU 2.93GHz, 8 GB memory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OS is Linux 64 bit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encoder, a cluster of above machines was u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decoder, only 1 machine in the cluster was u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Decoding time are measured without yuv output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6CDE-2879-495C-9C5F-35B6FA16F5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0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Test resul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0920" y="819000"/>
          <a:ext cx="4321080" cy="2897280"/>
        </p:xfrm>
        <a:graphic>
          <a:graphicData uri="http://schemas.openxmlformats.org/drawingml/2006/table">
            <a:tbl>
              <a:tblPr/>
              <a:tblGrid>
                <a:gridCol w="731880"/>
                <a:gridCol w="597240"/>
                <a:gridCol w="601920"/>
                <a:gridCol w="595440"/>
                <a:gridCol w="595440"/>
                <a:gridCol w="603720"/>
                <a:gridCol w="595440"/>
              </a:tblGrid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ndom access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3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616280" y="819000"/>
          <a:ext cx="4240440" cy="2897280"/>
        </p:xfrm>
        <a:graphic>
          <a:graphicData uri="http://schemas.openxmlformats.org/drawingml/2006/table">
            <a:tbl>
              <a:tblPr/>
              <a:tblGrid>
                <a:gridCol w="719280"/>
                <a:gridCol w="584280"/>
                <a:gridCol w="592200"/>
                <a:gridCol w="583920"/>
                <a:gridCol w="584280"/>
                <a:gridCol w="592200"/>
                <a:gridCol w="5842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w delay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50920" y="3789360"/>
          <a:ext cx="4321080" cy="2897280"/>
        </p:xfrm>
        <a:graphic>
          <a:graphicData uri="http://schemas.openxmlformats.org/drawingml/2006/table">
            <a:tbl>
              <a:tblPr/>
              <a:tblGrid>
                <a:gridCol w="733320"/>
                <a:gridCol w="595440"/>
                <a:gridCol w="601560"/>
                <a:gridCol w="596880"/>
                <a:gridCol w="595440"/>
                <a:gridCol w="603000"/>
                <a:gridCol w="5954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w delay 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w delay LC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5312880" y="486900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erage BD%: -0.4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38C4-96AB-4287-9DD1-BC42A7533F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Complexity analysi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92000" y="1808280"/>
          <a:ext cx="7291080" cy="2428560"/>
        </p:xfrm>
        <a:graphic>
          <a:graphicData uri="http://schemas.openxmlformats.org/drawingml/2006/table">
            <a:tbl>
              <a:tblPr/>
              <a:tblGrid>
                <a:gridCol w="1910160"/>
                <a:gridCol w="3925080"/>
                <a:gridCol w="1455840"/>
              </a:tblGrid>
              <a:tr h="606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pe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st case / pix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0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verage of operations / pix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06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andwid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st case / pix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0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verage of bytes / pix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34680" y="4689360"/>
            <a:ext cx="77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mplexity of computation is improved by reducing tap leng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BA09-F52D-4950-B33E-2F0B87F1EE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Conclusi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Bi/Uni filter was tested in CE3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To simplify encoder, only uni-pred filter was studied for motion search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In average, -0.4% gain can be obtained.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Proposa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e propose further study that is to harmonize with other techniq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F1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B68E-0CED-4744-8732-25A97DE126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0000110148</cp:lastModifiedBy>
  <dcterms:modified xsi:type="dcterms:W3CDTF">2011-07-19T09:53:24Z</dcterms:modified>
  <cp:revision>50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13966292</vt:r8>
  </property>
  <property fmtid="{D5CDD505-2E9C-101B-9397-08002B2CF9AE}" pid="3" name="_AuthorEmail">
    <vt:lpwstr>Ali.Tabatabai@am.sony.com</vt:lpwstr>
  </property>
  <property fmtid="{D5CDD505-2E9C-101B-9397-08002B2CF9AE}" pid="4" name="_AuthorEmailDisplayName">
    <vt:lpwstr>Tabatabai, Ali</vt:lpwstr>
  </property>
  <property fmtid="{D5CDD505-2E9C-101B-9397-08002B2CF9AE}" pid="5" name="_EmailSubject">
    <vt:lpwstr>Presentation</vt:lpwstr>
  </property>
  <property fmtid="{D5CDD505-2E9C-101B-9397-08002B2CF9AE}" pid="6" name="_PreviousAdHocReviewCycleID">
    <vt:r8>-683104095</vt:r8>
  </property>
  <property fmtid="{D5CDD505-2E9C-101B-9397-08002B2CF9AE}" pid="7" name="_ReviewingToolsShownOnce">
    <vt:lpwstr/>
  </property>
</Properties>
</file>