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F647-BB51-4CE7-BF1A-65E18A40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DDC5-9EBC-48B4-94AD-E834980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73CE-9CF1-4CDF-9D15-4340439C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C7A3-48A3-498D-8B49-67782BB9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D48D-B397-4307-AF57-C914220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3E90-BE83-4B4A-93D2-1B6596D9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34C6-3586-4FB9-9918-11B0D682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4CB5-323C-4BD5-B3B0-92BBC749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79CA-D819-4A1A-AA06-C29C3E2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7316-D8C6-46D2-8ACF-7332D761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0816-1EEF-4E80-B364-DDB51A8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E07B-2B86-4E70-BCBD-5B4D00A0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FCA-B908-425B-B95F-8121A06FF05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80FA-128A-47D5-BBCD-1E3646878D24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boundary filter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F10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 Corp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8B63-D2E1-4565-8C3F-4515E70BBD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est condition followed CE common test condition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Additional tes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tested two type for encoder iss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 motion estimation,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1</a:t>
            </a:r>
            <a:r>
              <a:rPr b="0" lang="en-US" sz="2400" spc="-1" strike="noStrike" baseline="30000">
                <a:solidFill>
                  <a:srgbClr val="996633"/>
                </a:solidFill>
                <a:latin typeface="Tahoma"/>
                <a:ea typeface="ＭＳ Ｐゴシック"/>
              </a:rPr>
              <a:t>st</a:t>
            </a: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step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otion search each PU</a:t>
            </a:r>
            <a:endParaRPr b="0" lang="en-US" sz="2000" spc="-1" strike="noStrike">
              <a:solidFill>
                <a:srgbClr val="cc0066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We tested two methods.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MC only case : do interpolation using only DCTIF.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MEMC case : The boundary filter is used.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2</a:t>
            </a:r>
            <a:r>
              <a:rPr b="0" lang="en-US" sz="2400" spc="-1" strike="noStrike" baseline="30000">
                <a:solidFill>
                  <a:srgbClr val="996633"/>
                </a:solidFill>
                <a:latin typeface="Tahoma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step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ode decision each CU</a:t>
            </a:r>
            <a:endParaRPr b="0" lang="en-US" sz="2000" spc="-1" strike="noStrike">
              <a:solidFill>
                <a:srgbClr val="cc0066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The boundary filter is used.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7958-9736-416F-AB3B-B4CA079557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ase 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0920" y="86364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16280" y="86364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50920" y="373536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5388120" y="49068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: -0.03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00AD-D77F-49C3-BDB5-45294E1A2F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ase 1 without ME proces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50920" y="81900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616280" y="81900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50920" y="374328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388120" y="49068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: -0.0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5BC5-C9D0-4E12-9177-0F6F08E27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ase 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0920" y="907920"/>
          <a:ext cx="4321080" cy="288612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3000"/>
                <a:gridCol w="594000"/>
                <a:gridCol w="596880"/>
                <a:gridCol w="601560"/>
                <a:gridCol w="59688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662360" y="907920"/>
          <a:ext cx="4230360" cy="2886120"/>
        </p:xfrm>
        <a:graphic>
          <a:graphicData uri="http://schemas.openxmlformats.org/drawingml/2006/table">
            <a:tbl>
              <a:tblPr/>
              <a:tblGrid>
                <a:gridCol w="717840"/>
                <a:gridCol w="582480"/>
                <a:gridCol w="590400"/>
                <a:gridCol w="582840"/>
                <a:gridCol w="583920"/>
                <a:gridCol w="588960"/>
                <a:gridCol w="583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50920" y="3789360"/>
          <a:ext cx="4321080" cy="288612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3000"/>
                <a:gridCol w="594000"/>
                <a:gridCol w="596880"/>
                <a:gridCol w="601560"/>
                <a:gridCol w="5968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5381280" y="49068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: 0.06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8B4E-2F73-4EFC-AE42-BC95ED51F6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ase 2 without ME proces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50920" y="87156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616280" y="87156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50920" y="378936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5381280" y="49068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: 0.09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E802-4D92-459E-B6C9-5E9CF224309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ase 3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0920" y="85572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616280" y="85572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50920" y="378936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5381280" y="49068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: 0.1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4773-9D10-4177-9D08-F6896753ED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ase 3 without ME proces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0920" y="905040"/>
          <a:ext cx="4321080" cy="288576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62360" y="905040"/>
          <a:ext cx="4321080" cy="288576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0920" y="3833640"/>
          <a:ext cx="4321080" cy="288612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P-onl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5381280" y="49068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: 0.2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4EEB-7B7D-4C05-AF60-A23469FECC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ND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  <a:ea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0126-B7BC-4E27-8895-586A4C2871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bandwidth is important because o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st of DDR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wer consumption incr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lanation of MC boundary filter to reduce bandwidt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coding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o simplify encoder, we checked the case of no use this boundary filter in motion search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visual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56D3-409E-4270-A894-5B5106603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he idea to reduce complexit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130560" y="1673280"/>
            <a:ext cx="18108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673280"/>
            <a:ext cx="18108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570560" y="1673280"/>
            <a:ext cx="18072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291280" y="1673280"/>
            <a:ext cx="18072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446640" y="22147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3739680" y="-1139760"/>
            <a:ext cx="358560" cy="6255000"/>
          </a:xfrm>
          <a:custGeom>
            <a:avLst/>
            <a:gdLst>
              <a:gd name="textAreaLeft" fmla="*/ 0 w 358560"/>
              <a:gd name="textAreaRight" fmla="*/ 129600 w 358560"/>
              <a:gd name="textAreaTop" fmla="*/ 163080 h 6255000"/>
              <a:gd name="textAreaBottom" fmla="*/ 6091920 h 625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397"/>
                </a:lnTo>
                <a:cubicBezTo>
                  <a:pt x="10800" y="11297"/>
                  <a:pt x="16200" y="12197"/>
                  <a:pt x="21600" y="12197"/>
                </a:cubicBezTo>
                <a:cubicBezTo>
                  <a:pt x="16200" y="12197"/>
                  <a:pt x="10800" y="13097"/>
                  <a:pt x="10800" y="139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817092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422360" y="585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order to reduce extend pixel of interpolation (pink), asymmetric filter coefficient is used for block boundar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311640" y="52354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311640" y="4603680"/>
            <a:ext cx="18072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584160" y="5138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584880" y="45147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311640" y="4921200"/>
            <a:ext cx="18072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585240" y="48243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necessary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3429000"/>
            <a:ext cx="18108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3429000"/>
            <a:ext cx="18108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4570560" y="3429000"/>
            <a:ext cx="18072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91280" y="3429000"/>
            <a:ext cx="180720" cy="1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446640" y="397044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42900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342900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342900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482000" y="1357920"/>
            <a:ext cx="358560" cy="4770360"/>
          </a:xfrm>
          <a:custGeom>
            <a:avLst/>
            <a:gdLst>
              <a:gd name="textAreaLeft" fmla="*/ 0 w 358560"/>
              <a:gd name="textAreaRight" fmla="*/ 129600 w 358560"/>
              <a:gd name="textAreaTop" fmla="*/ 124200 h 4770360"/>
              <a:gd name="textAreaBottom" fmla="*/ 4646160 h 47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157"/>
                </a:lnTo>
                <a:cubicBezTo>
                  <a:pt x="10800" y="15057"/>
                  <a:pt x="16200" y="15957"/>
                  <a:pt x="21600" y="15957"/>
                </a:cubicBezTo>
                <a:cubicBezTo>
                  <a:pt x="16200" y="15957"/>
                  <a:pt x="10800" y="16857"/>
                  <a:pt x="10800" y="177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42900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8170920" y="342900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429000"/>
            <a:ext cx="18072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1690560" y="342900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802800" y="998640"/>
            <a:ext cx="2372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ntional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56000" y="2843280"/>
            <a:ext cx="1942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482000" y="1808640"/>
            <a:ext cx="358920" cy="4770360"/>
          </a:xfrm>
          <a:custGeom>
            <a:avLst/>
            <a:gdLst>
              <a:gd name="textAreaLeft" fmla="*/ 0 w 358920"/>
              <a:gd name="textAreaRight" fmla="*/ 129600 w 358920"/>
              <a:gd name="textAreaTop" fmla="*/ 124200 h 4770360"/>
              <a:gd name="textAreaBottom" fmla="*/ 4646160 h 47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086"/>
                </a:lnTo>
                <a:cubicBezTo>
                  <a:pt x="10800" y="4986"/>
                  <a:pt x="16200" y="5886"/>
                  <a:pt x="21600" y="5886"/>
                </a:cubicBezTo>
                <a:cubicBezTo>
                  <a:pt x="16200" y="5886"/>
                  <a:pt x="10800" y="6786"/>
                  <a:pt x="10800" y="76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44197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26179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202720" y="-619920"/>
            <a:ext cx="358920" cy="6120000"/>
          </a:xfrm>
          <a:custGeom>
            <a:avLst/>
            <a:gdLst>
              <a:gd name="textAreaLeft" fmla="*/ 0 w 358920"/>
              <a:gd name="textAreaRight" fmla="*/ 129600 w 35892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766"/>
                </a:lnTo>
                <a:cubicBezTo>
                  <a:pt x="10800" y="8666"/>
                  <a:pt x="16200" y="9566"/>
                  <a:pt x="21600" y="9566"/>
                </a:cubicBezTo>
                <a:cubicBezTo>
                  <a:pt x="16200" y="9566"/>
                  <a:pt x="10800" y="10466"/>
                  <a:pt x="10800" y="113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04DD-82E4-45B5-B7BF-EA1BAC6B04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1640" y="773280"/>
            <a:ext cx="8280720" cy="576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emory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111640" y="1268280"/>
            <a:ext cx="0" cy="2341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957200" y="11793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60% decrease for worst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467000" y="3159000"/>
            <a:ext cx="45720" cy="1170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40640" y="558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U 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16880" y="773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# of input pixel per 1 sub p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964440" y="270828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all PU, complexity de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4C37-AC9B-4292-B7FD-4D1C860B4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728280"/>
            <a:ext cx="846144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checked the negative impact for coding efficiency and visual quality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Coding efficienc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tested two type for encoder iss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 motion estimation,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1</a:t>
            </a:r>
            <a:r>
              <a:rPr b="0" lang="en-US" sz="1800" spc="-1" strike="noStrike" baseline="30000">
                <a:solidFill>
                  <a:srgbClr val="996633"/>
                </a:solidFill>
                <a:latin typeface="Tahoma"/>
                <a:ea typeface="ＭＳ Ｐゴシック"/>
              </a:rPr>
              <a:t>st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step : Motion search each PU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We tested two methods.</a:t>
            </a:r>
            <a:endParaRPr b="0" lang="en-US" sz="1600" spc="-1" strike="noStrike">
              <a:solidFill>
                <a:srgbClr val="cc0066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only case : do interpolation using only DCTIF without boundary filter.</a:t>
            </a:r>
            <a:endParaRPr b="0" lang="en-US" sz="1600" spc="-1" strike="noStrike">
              <a:solidFill>
                <a:srgbClr val="cc0066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EMC case : do interpolation using boundary filter.</a:t>
            </a:r>
            <a:endParaRPr b="0" lang="en-US" sz="1600" spc="-1" strike="noStrike">
              <a:solidFill>
                <a:srgbClr val="cc0066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996633"/>
                </a:solidFill>
                <a:latin typeface="Tahoma"/>
                <a:ea typeface="ＭＳ Ｐゴシック"/>
              </a:rPr>
              <a:t>nd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step : Mode decision each CU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he boundary filter is used.</a:t>
            </a:r>
            <a:endParaRPr b="0" lang="en-US" sz="1600" spc="-1" strike="noStrike">
              <a:solidFill>
                <a:srgbClr val="cc00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visual qual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coding con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RA_LC, LD_LC, LD P-only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QP : 22 and 37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Sequence: Nebuta, BQTerrace, BQMall, and BQsqure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vironment for vie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EIZO monitor and High performance PC are used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difference could not be found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DDF6-B805-4878-8A58-986DC92A7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 and conclus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365436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C boundary filt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worst case, 60% memory b/w can be redu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can be reduced for all PU size and both prediction modes (bi and uni-pr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motion search, we can use simply designed filter with negligible coding loss (&lt;0.0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isual quality is the same as DCTIF 8 t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1280" y="954000"/>
          <a:ext cx="8505720" cy="2474640"/>
        </p:xfrm>
        <a:graphic>
          <a:graphicData uri="http://schemas.openxmlformats.org/drawingml/2006/table">
            <a:tbl>
              <a:tblPr/>
              <a:tblGrid>
                <a:gridCol w="1417680"/>
                <a:gridCol w="1463760"/>
                <a:gridCol w="1484280"/>
                <a:gridCol w="1351080"/>
                <a:gridCol w="1371600"/>
                <a:gridCol w="1417320"/>
              </a:tblGrid>
              <a:tr h="435960">
                <a:tc rowSpan="2"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Memory bandwid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Compu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Avg. BD [%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600"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C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7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9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10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-0.0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Cas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7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0.0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Cas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6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7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맑은 고딕"/>
                        </a:rPr>
                        <a:t>0.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8A5B-7684-4DFD-B4AF-90CE585F1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Backup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3333cc"/>
              </a:solidFill>
              <a:latin typeface="Tahoma"/>
              <a:ea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DBDB-ED92-44F5-9D6E-0320F1673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n actual case for 4x4 block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37000" y="1314000"/>
            <a:ext cx="44071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localit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th boundary filter, this means to use 4 tap for memory ac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Bandwidth decre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mory b/w can be reduced for worst and ave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mputation decre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interpolate yellow is not n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all PU s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can reduce Complex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261936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0560" y="26179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26179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4804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330200" y="261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8912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40984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261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68760" y="297972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130560" y="297828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297828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4804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330200" y="29797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8912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40984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96840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210200" y="297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768760" y="333864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130560" y="33368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3368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33386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68912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40984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96840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210200" y="33386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1305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4804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330200" y="37004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0541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41308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6840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37004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1305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40608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0541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41308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96840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406080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76876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1273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48948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33020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6891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40984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21020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76876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1273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48948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84804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3020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891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40984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96840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76876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1273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48948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84804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33020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891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40984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96840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21020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76876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1273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48948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84804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33020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891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40984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96840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21020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1305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84804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330200" y="18986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0541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96840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210200" y="18986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277164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130560" y="225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225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84804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330200" y="22604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05416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41308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96840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210200" y="22604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90520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82556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187720" y="275436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54628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0520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182556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187720" y="311472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54628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290520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82556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187720" y="347328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54628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90520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82556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187720" y="239544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54628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106640" y="954000"/>
            <a:ext cx="718920" cy="14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120680" y="81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39400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39400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6218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518328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244160" y="61214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244880" y="5094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5722920"/>
            <a:ext cx="180720" cy="181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441440" y="5454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necessary pixel by using boundary fil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241280" y="5722920"/>
            <a:ext cx="181080" cy="181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197000" y="1763640"/>
            <a:ext cx="2519280" cy="252108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2521080"/>
              <a:gd name="textAreaBottom" fmla="*/ 2398320 h 2521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2754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754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1129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31129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3473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3473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239400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239400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2754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2754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211640" y="31129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31129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3473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3473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7526-5725-45A7-AFBC-A9420F931B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Filter coeffici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test case 1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MC block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2 ,  -9 ,  56 ,  20 ,  -8 ,   4 ,  -2 ,   1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3 , -10 ,  39 ,  42 , -14 ,   7 ,  -4 ,   1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2 ,  -6 ,  18 ,  58 , -11 ,   5 ,  -3 ,   1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test case 2 and 3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MC Block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0 ,  -5 ,  54 ,  21 ,  -9 ,   5 ,  -3 ,   1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0 ,  -6 ,  36 ,  44 , -15 ,   8 ,  -4 ,   1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0 ,  -3 ,  16 ,  59 , -12 ,   6 ,  -3 ,   1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nd MC block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2 ,  -9 ,  56 ,  20 ,  -8 ,   4 ,  -1 ,   0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3 , -10 ,  39 ,  41 , -13 ,   6 ,  -2 ,   0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0 ,   2 ,  -6 ,  18 ,  58 , -11 ,   4 ,  -1 ,   0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case 2, only vertical filter is appl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E7C4-3E89-44AB-906C-B403C2DF7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1-07-14T13:59:04Z</dcterms:modified>
  <cp:revision>50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