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8D7-4502-4E9B-87FD-25BE2438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AC3-8D84-4ADE-8B1F-6262F89B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C61A-B893-4238-8E6C-89E7CFB0C7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C999-552B-4C06-B85C-F7CB0A4F75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E994-6BC2-4A00-A1DD-B23F459BEE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01AC-CFBF-4410-9A93-D541353746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2648-1E28-4903-BEB2-08C2D234E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87BD-76DD-4B0E-9305-51BE9EEEEB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23A6-A04D-42AD-810F-078D8E6BFC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C259-14F2-4CDA-913E-9FAAA5C3AE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46BB-7492-4FF2-8FDF-7828324249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E3F6-1AA2-4BCE-991C-7C9EFD967D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FDC8-C896-4FED-B6CB-8AFEDD45F7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D441-6454-4A66-92CB-EE5359BC96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2A59F-0E7D-4A0B-BE4F-2D2CF707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DA3F-3C2E-4773-998D-48F6904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DCB09-D928-4161-BD6F-B05D73E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A1AC-6C3D-4D3A-A8A0-88FED83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C221-2D6A-426B-A8E2-524915F0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CCA02-94BF-4B21-8EE0-B09A0BA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36CC6-CCA4-47DF-A311-CBAF371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98219-F464-4A08-9EE8-DAAB3A7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65F73-63CA-4A5F-9606-E98A330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0204C-69F0-451F-87A0-C431E73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81020-9B8E-4C32-AF42-8F6CAC7F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06794-3357-4919-A91A-72381255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477-9F7F-4924-8553-3A8462E13E5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F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328-FDF2-4BFD-864F-A8E38F525DD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7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Unifying binarizations of Intra modes in LC and HE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Ali Tabataba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F91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July 12 2011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901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is proposal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als with coding of remainder of Intra modes (other than MPM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ree modifications are proposed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narization (LC and HE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daptation in LC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daptation in HE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73EF-EBB6-4D99-9193-2AD1D731B68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1) HM3.0 Intra Mode Cod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C17-D104-44A1-B22B-FC1DEE010CA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HM3.0 remainder of Intra modes coding (not MPMs)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Us smaller than 64x64 and larger than 2x2: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HE: Fixed length code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LC: Huffman codes (VLC tables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LC, instead of coding a mode, its rank is determined from a rank array and then coded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The rank of mode is coded using Huffman code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alibri"/>
                <a:ea typeface="Calibri"/>
              </a:rPr>
              <a:t>Adaptation is provided by swapping of rank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1) Proposed Binarization(LC and HE)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E433-4AF3-4CE1-B7A3-F3BADD1A61D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5280" y="1412640"/>
            <a:ext cx="880272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Proposed binarization for LC and HE: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mple decoding: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Simpler decoding compared to Huffman codes (they require additional memory or for-loops over modespace as in current HM)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06480" y="2535120"/>
          <a:ext cx="3683160" cy="1675080"/>
        </p:xfrm>
        <a:graphic>
          <a:graphicData uri="http://schemas.openxmlformats.org/drawingml/2006/table">
            <a:tbl>
              <a:tblPr/>
              <a:tblGrid>
                <a:gridCol w="1166760"/>
                <a:gridCol w="1165320"/>
                <a:gridCol w="135108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ank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refix (Unary co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mainder (fixed leng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 (2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(2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(3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8640" y="2519280"/>
          <a:ext cx="3511440" cy="1674720"/>
        </p:xfrm>
        <a:graphic>
          <a:graphicData uri="http://schemas.openxmlformats.org/drawingml/2006/table">
            <a:tbl>
              <a:tblPr/>
              <a:tblGrid>
                <a:gridCol w="1111320"/>
                <a:gridCol w="1111320"/>
                <a:gridCol w="1288800"/>
              </a:tblGrid>
              <a:tr h="38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ank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Prefix (Unary co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mainder (fixed length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  (2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(3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2-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 (3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0-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 (4 bi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Box 7"/>
          <p:cNvSpPr/>
          <p:nvPr/>
        </p:nvSpPr>
        <p:spPr>
          <a:xfrm>
            <a:off x="909360" y="2265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4 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5074920" y="223344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x8, 16x16, 32x32 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1593000" y="5504040"/>
            <a:ext cx="154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575d1"/>
                </a:solidFill>
                <a:latin typeface="Arial"/>
              </a:rPr>
              <a:t>Idx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(unary prefi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803840" y="550404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575d1"/>
                </a:solidFill>
                <a:latin typeface="Arial"/>
              </a:rPr>
              <a:t>Remainder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(fixed length p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31640" y="2535120"/>
          <a:ext cx="474840" cy="1675080"/>
        </p:xfrm>
        <a:graphic>
          <a:graphicData uri="http://schemas.openxmlformats.org/drawingml/2006/table">
            <a:tbl>
              <a:tblPr/>
              <a:tblGrid>
                <a:gridCol w="47484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21200" y="2519280"/>
          <a:ext cx="479520" cy="1674720"/>
        </p:xfrm>
        <a:graphic>
          <a:graphicData uri="http://schemas.openxmlformats.org/drawingml/2006/table">
            <a:tbl>
              <a:tblPr/>
              <a:tblGrid>
                <a:gridCol w="479520"/>
              </a:tblGrid>
              <a:tr h="384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ounded Rectangle 16"/>
          <p:cNvSpPr/>
          <p:nvPr/>
        </p:nvSpPr>
        <p:spPr>
          <a:xfrm>
            <a:off x="1203480" y="5769000"/>
            <a:ext cx="2446200" cy="5475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Parse Truncated U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(max 2 or 3 based on P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17"/>
          <p:cNvSpPr/>
          <p:nvPr/>
        </p:nvSpPr>
        <p:spPr>
          <a:xfrm>
            <a:off x="4799160" y="5778360"/>
            <a:ext cx="2446200" cy="546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Parse  Fixed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2, 3, or 4 bits based on </a:t>
            </a:r>
            <a:r>
              <a:rPr b="1" i="1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I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ight Arrow 18"/>
          <p:cNvSpPr/>
          <p:nvPr/>
        </p:nvSpPr>
        <p:spPr>
          <a:xfrm>
            <a:off x="3755880" y="5918040"/>
            <a:ext cx="939960" cy="266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2) Adaptation in LC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CDE-A4B6-4519-AC7C-56334A765E7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280" y="1412640"/>
            <a:ext cx="880272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imilar swapping as in HM3.0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owever, mode identification and MPM adjustments are switched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333440" y="2717640"/>
            <a:ext cx="2384640" cy="3489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770360" y="2717640"/>
            <a:ext cx="2384640" cy="34894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7"/>
          <p:cNvSpPr/>
          <p:nvPr/>
        </p:nvSpPr>
        <p:spPr>
          <a:xfrm>
            <a:off x="374400" y="2717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fornian FB"/>
              </a:rPr>
              <a:t>H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7204680" y="271764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fornian FB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323120" y="4430880"/>
            <a:ext cx="1604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alifornian FB"/>
              </a:rPr>
              <a:t>This part is also propos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alifornian FB"/>
              </a:rPr>
              <a:t>F106 and  F2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5060160" y="3098880"/>
            <a:ext cx="18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odified version of Exp-Golom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3) Adaptation in H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A2A0-529E-495C-801B-A73BBA1A8BB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25280" y="1224000"/>
            <a:ext cx="880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The exact same swapping (adaptation) as in LC is also done in HE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s unifies both binarization and adaptation in LC and HE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Contexts in HE (in current implementation)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alibri"/>
                <a:ea typeface="Calibri"/>
              </a:rPr>
              <a:t>Unary prefix: each bin has its own context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Calibri"/>
                <a:ea typeface="Calibri"/>
              </a:rPr>
              <a:t>The fixed-length codes all share 2 contexts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alibri"/>
                <a:ea typeface="Calibri"/>
              </a:rPr>
              <a:t>One for the first bin and one for the rest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Total additional contexts (compared to HM3): 6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However, this is excessive, fixed-length codes can use 1 context without any performance loss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ntexts for unary parts can be merged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3" marL="1472040" indent="-21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alibri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1338120" y="2968560"/>
            <a:ext cx="602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alifornian FB"/>
              </a:rPr>
              <a:t>F269 also proposes a adaptation for Intra modes in HE.  Adaptation in F269 is based on counting of coded modes and swapping of ra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4) Mode Rank Initializ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4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44F7-9358-4BB6-AD6E-512E9A3D80C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In both LC and HE 2 arrays hold the mode rank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 array of size 17 for 4x4 PU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 array of size 34 for 8x8/16x16/32x32 PU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Mode ranks are initialized to their mode number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mple initialization rule, removes the need for explicit initialization tabl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ummary and 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217-C842-4864-8927-27580172C7A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112840" y="3451320"/>
          <a:ext cx="5235840" cy="2760480"/>
        </p:xfrm>
        <a:graphic>
          <a:graphicData uri="http://schemas.openxmlformats.org/drawingml/2006/table">
            <a:tbl>
              <a:tblPr/>
              <a:tblGrid>
                <a:gridCol w="984240"/>
                <a:gridCol w="708120"/>
                <a:gridCol w="709560"/>
                <a:gridCol w="708120"/>
                <a:gridCol w="708120"/>
                <a:gridCol w="709560"/>
                <a:gridCol w="708120"/>
              </a:tblGrid>
              <a:tr h="24264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intra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 txBox="1"/>
          <p:nvPr/>
        </p:nvSpPr>
        <p:spPr>
          <a:xfrm>
            <a:off x="124920" y="1413000"/>
            <a:ext cx="84409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Unified binarization in HE and LC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Simple decoding (less memory/computation requirements compared to Huffman)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No VLC tables in LC (memory saving &gt; 200 bytes)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Simple (based only on swapping) and unified adaptation in LC and HE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o counting or sorting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No mode initialization tables in LC (memory saving &gt; 200 bytes)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Coding gain: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munsi</cp:lastModifiedBy>
  <dcterms:modified xsi:type="dcterms:W3CDTF">2011-07-18T10:48:59Z</dcterms:modified>
  <cp:revision>148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