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png" ContentType="image/png"/>
  <Override PartName="/ppt/media/image3.jpeg" ContentType="image/jpeg"/>
  <Override PartName="/ppt/media/image6.png" ContentType="image/png"/>
  <Override PartName="/ppt/media/image7.png" ContentType="image/png"/>
  <Override PartName="/ppt/media/image8.png" ContentType="image/pn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777420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80520" y="4201560"/>
            <a:ext cx="777420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36428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420156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364280" y="420156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09240" y="129528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37600" y="129528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380520" y="420156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09240" y="420156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637600" y="420156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380520" y="1295280"/>
            <a:ext cx="7774200" cy="55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777420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79368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364280" y="1295280"/>
            <a:ext cx="379368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304920" y="-360"/>
            <a:ext cx="77738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364280" y="1295280"/>
            <a:ext cx="379368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380520" y="420156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380520" y="1295280"/>
            <a:ext cx="7774200" cy="55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79368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364280" y="420156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80520" y="4201560"/>
            <a:ext cx="777420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777420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80520" y="4201560"/>
            <a:ext cx="777420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36428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80520" y="420156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364280" y="420156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009240" y="129528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637600" y="129528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380520" y="420156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009240" y="420156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637600" y="420156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380520" y="1295280"/>
            <a:ext cx="7774200" cy="55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777420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79368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364280" y="1295280"/>
            <a:ext cx="379368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777420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304920" y="-360"/>
            <a:ext cx="77738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364280" y="1295280"/>
            <a:ext cx="379368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380520" y="420156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79368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364280" y="420156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380520" y="4201560"/>
            <a:ext cx="777420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777420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80520" y="4201560"/>
            <a:ext cx="777420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36428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80520" y="420156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364280" y="420156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009240" y="129528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637600" y="129528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380520" y="420156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009240" y="420156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637600" y="420156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79368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364280" y="1295280"/>
            <a:ext cx="379368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304920" y="-360"/>
            <a:ext cx="77738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64280" y="1295280"/>
            <a:ext cx="379368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380520" y="420156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79368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36428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364280" y="420156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36428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80520" y="4201560"/>
            <a:ext cx="777420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438280"/>
            <a:ext cx="7773840" cy="14493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Arial Bold"/>
              </a:rPr>
              <a:t>Click to edit the title text format</a:t>
            </a:r>
            <a:endParaRPr b="0" lang="en-US" sz="41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14400" y="3887280"/>
            <a:ext cx="6400800" cy="2171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 fontScale="62000"/>
          </a:bodyPr>
          <a:p>
            <a:pPr marL="244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24480" indent="-244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2" marL="24480" indent="-24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3" marL="24480" indent="-244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4" marL="24480" indent="-2448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5" marL="24480" indent="-2448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6" marL="24480" indent="-2448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2708c"/>
                </a:solidFill>
                <a:latin typeface="Arial Bold"/>
              </a:rPr>
              <a:t>Click to edit the title text format</a:t>
            </a: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5280"/>
            <a:ext cx="777420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marL="309600" indent="-30492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63480" indent="-250560">
              <a:spcBef>
                <a:spcPts val="400"/>
              </a:spcBef>
              <a:buClr>
                <a:srgbClr val="6270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20600" indent="-20304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5600" indent="-201600">
              <a:spcBef>
                <a:spcPts val="400"/>
              </a:spcBef>
              <a:buClr>
                <a:srgbClr val="6270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33480" indent="-203040">
              <a:spcBef>
                <a:spcPts val="400"/>
              </a:spcBef>
              <a:buClr>
                <a:srgbClr val="62708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33480" indent="-20304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33480" indent="-20304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1" descr="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3"/>
          <p:cNvSpPr/>
          <p:nvPr/>
        </p:nvSpPr>
        <p:spPr>
          <a:xfrm>
            <a:off x="801720" y="6480000"/>
            <a:ext cx="46483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116280" tIns="63360" bIns="63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Gill Sans"/>
                <a:ea typeface="Gill Sans"/>
              </a:rPr>
              <a:t> </a:t>
            </a:r>
            <a:r>
              <a:rPr b="0" lang="en-US" sz="1500" spc="-1" strike="noStrike">
                <a:solidFill>
                  <a:srgbClr val="ffffff"/>
                </a:solidFill>
                <a:latin typeface="Gill Sans"/>
                <a:ea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"/>
          <p:cNvPicPr/>
          <p:nvPr/>
        </p:nvPicPr>
        <p:blipFill>
          <a:blip r:embed="rId3"/>
          <a:stretch/>
        </p:blipFill>
        <p:spPr>
          <a:xfrm>
            <a:off x="193680" y="655308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5"/>
          <p:cNvSpPr/>
          <p:nvPr/>
        </p:nvSpPr>
        <p:spPr>
          <a:xfrm>
            <a:off x="7404120" y="6534000"/>
            <a:ext cx="175248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©</a:t>
            </a: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Arial"/>
              </a:rPr>
              <a:t> BBC MMX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2"/>
          <p:cNvSpPr/>
          <p:nvPr/>
        </p:nvSpPr>
        <p:spPr>
          <a:xfrm>
            <a:off x="304920" y="762120"/>
            <a:ext cx="8535960" cy="144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5"/>
          <p:cNvSpPr/>
          <p:nvPr/>
        </p:nvSpPr>
        <p:spPr>
          <a:xfrm>
            <a:off x="3492360" y="6526080"/>
            <a:ext cx="175284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JCTVC-F07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2708c"/>
                </a:solidFill>
                <a:latin typeface="Arial Bold"/>
              </a:rPr>
              <a:t>Click to edit the title text format</a:t>
            </a: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80520" y="1295280"/>
            <a:ext cx="777420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marL="309600" indent="-30492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63480" indent="-250560">
              <a:spcBef>
                <a:spcPts val="400"/>
              </a:spcBef>
              <a:buClr>
                <a:srgbClr val="6270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20600" indent="-20304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5600" indent="-201600">
              <a:spcBef>
                <a:spcPts val="400"/>
              </a:spcBef>
              <a:buClr>
                <a:srgbClr val="6270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33480" indent="-203040">
              <a:spcBef>
                <a:spcPts val="400"/>
              </a:spcBef>
              <a:buClr>
                <a:srgbClr val="62708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33480" indent="-20304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33480" indent="-20304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1" descr=""/>
          <p:cNvPicPr/>
          <p:nvPr/>
        </p:nvPicPr>
        <p:blipFill>
          <a:blip r:embed="rId1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2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3"/>
          <p:cNvSpPr/>
          <p:nvPr/>
        </p:nvSpPr>
        <p:spPr>
          <a:xfrm>
            <a:off x="836640" y="3887640"/>
            <a:ext cx="77760" cy="4572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801720" y="6480000"/>
            <a:ext cx="46483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116280" tIns="63360" bIns="63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Gill Sans"/>
                <a:ea typeface="Gill Sans"/>
              </a:rPr>
              <a:t> </a:t>
            </a:r>
            <a:r>
              <a:rPr b="0" lang="en-US" sz="1500" spc="-1" strike="noStrike">
                <a:solidFill>
                  <a:srgbClr val="ffffff"/>
                </a:solidFill>
                <a:latin typeface="Gill Sans"/>
                <a:ea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5" descr=""/>
          <p:cNvPicPr/>
          <p:nvPr/>
        </p:nvPicPr>
        <p:blipFill>
          <a:blip r:embed="rId2"/>
          <a:stretch/>
        </p:blipFill>
        <p:spPr>
          <a:xfrm>
            <a:off x="193680" y="655308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6"/>
          <p:cNvSpPr/>
          <p:nvPr/>
        </p:nvSpPr>
        <p:spPr>
          <a:xfrm>
            <a:off x="7404120" y="6534000"/>
            <a:ext cx="175248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©</a:t>
            </a: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Arial"/>
              </a:rPr>
              <a:t> BBC MMX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1485720"/>
            <a:ext cx="8459640" cy="2401560"/>
          </a:xfrm>
          <a:prstGeom prst="rect">
            <a:avLst/>
          </a:prstGeom>
          <a:noFill/>
          <a:ln w="0">
            <a:noFill/>
          </a:ln>
        </p:spPr>
        <p:txBody>
          <a:bodyPr lIns="38160" rIns="124560" tIns="38160" bIns="38160" anchor="ctr">
            <a:noAutofit/>
          </a:bodyPr>
          <a:p>
            <a:pPr marL="42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old"/>
              </a:rPr>
              <a:t>JCTVC-F077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 Bold"/>
              </a:rPr>
              <a:t>Transform Skip Mode</a:t>
            </a:r>
            <a:endParaRPr b="0" lang="en-US" sz="32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400" y="3887280"/>
            <a:ext cx="8231040" cy="21718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9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rta Mrak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Andrea Gabriellini, Nikola Sprljan, David Flyn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9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BBC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2708c"/>
                </a:solidFill>
                <a:latin typeface="Arial Bold"/>
              </a:rPr>
              <a:t>Transform Skip Mode (TSM) </a:t>
            </a: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80880" y="1125360"/>
            <a:ext cx="8151840" cy="220680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 fontScale="87000"/>
          </a:bodyPr>
          <a:p>
            <a:pPr marL="269280" indent="-26496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Transform Skip Mode (TSM) 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577080" indent="-217800">
              <a:spcBef>
                <a:spcPts val="400"/>
              </a:spcBef>
              <a:buClr>
                <a:srgbClr val="6270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defines transform skip in one or both directions on which a transform would be applied under common condition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577080" indent="-217800">
              <a:spcBef>
                <a:spcPts val="400"/>
              </a:spcBef>
              <a:buClr>
                <a:srgbClr val="6270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main benefit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887760" indent="-17640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enabling adaptation to underlying signal in the transformation stage of the coding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887760" indent="-17640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reduced complexity required for the transformation stage at the decoder (computationally heavy transform not needed for some directions defined with TSM)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577080" indent="-217800">
              <a:spcBef>
                <a:spcPts val="400"/>
              </a:spcBef>
              <a:buClr>
                <a:srgbClr val="6270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577080" indent="-217800">
              <a:spcBef>
                <a:spcPts val="400"/>
              </a:spcBef>
              <a:buClr>
                <a:srgbClr val="6270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0" name="Rectangle 2"/>
          <p:cNvSpPr/>
          <p:nvPr/>
        </p:nvSpPr>
        <p:spPr>
          <a:xfrm>
            <a:off x="0" y="0"/>
            <a:ext cx="91454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" name="Object 1"/>
          <p:cNvGraphicFramePr/>
          <p:nvPr/>
        </p:nvGraphicFramePr>
        <p:xfrm>
          <a:off x="1762200" y="4206960"/>
          <a:ext cx="5333760" cy="1390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2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2200" y="4206960"/>
                    <a:ext cx="5333760" cy="139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1762200" y="5573880"/>
          <a:ext cx="5473800" cy="591840"/>
        </p:xfrm>
        <a:graphic>
          <a:graphicData uri="http://schemas.openxmlformats.org/drawingml/2006/table">
            <a:tbl>
              <a:tblPr/>
              <a:tblGrid>
                <a:gridCol w="1368360"/>
                <a:gridCol w="1368360"/>
                <a:gridCol w="1368360"/>
                <a:gridCol w="1368720"/>
              </a:tblGrid>
              <a:tr h="591840">
                <a:tc>
                  <a:txBody>
                    <a:bodyPr lIns="68760" rIns="68760" tIns="0" bIns="0" anchor="t">
                      <a:noAutofit/>
                    </a:bodyPr>
                    <a:p>
                      <a:pPr marL="228600" indent="-228600"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D transform</a:t>
                      </a:r>
                      <a:br>
                        <a:rPr sz="1100"/>
                      </a:b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indent="-228600"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S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ransform on </a:t>
                      </a:r>
                      <a:br>
                        <a:rPr sz="1100"/>
                      </a:b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ows onl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S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ransform on columns onl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S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 transform</a:t>
                      </a:r>
                      <a:br>
                        <a:rPr sz="1100"/>
                      </a:b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S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2708c"/>
                </a:solidFill>
                <a:latin typeface="Arial Bold"/>
              </a:rPr>
              <a:t>Application of TSM</a:t>
            </a: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80520" y="980640"/>
            <a:ext cx="7774200" cy="50878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marL="309600" indent="-30492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08080"/>
                </a:solidFill>
                <a:latin typeface="Arial"/>
              </a:rPr>
              <a:t>motion compensated (inter predicted) blocks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lvl="1" marL="663480" indent="-250560">
              <a:spcBef>
                <a:spcPts val="400"/>
              </a:spcBef>
              <a:buClr>
                <a:srgbClr val="6270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08080"/>
                </a:solidFill>
                <a:latin typeface="Arial"/>
              </a:rPr>
              <a:t>not necessarily best compressed using 2D transform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lvl="1" marL="663480" indent="-250560">
              <a:spcBef>
                <a:spcPts val="400"/>
              </a:spcBef>
              <a:buClr>
                <a:srgbClr val="6270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08080"/>
                </a:solidFill>
                <a:latin typeface="Arial"/>
              </a:rPr>
              <a:t>forcing the 2D transform can limit the effectiveness of DCT as a coding tool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lvl="1" marL="663480" indent="-250560">
              <a:spcBef>
                <a:spcPts val="400"/>
              </a:spcBef>
              <a:buClr>
                <a:srgbClr val="6270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08080"/>
                </a:solidFill>
                <a:latin typeface="Arial"/>
              </a:rPr>
              <a:t>alternative low complexity tools can be considered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lvl="1" marL="663480" indent="-250560">
              <a:spcBef>
                <a:spcPts val="400"/>
              </a:spcBef>
              <a:buClr>
                <a:srgbClr val="6270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marL="309600" indent="-30492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08080"/>
                </a:solidFill>
                <a:latin typeface="Arial"/>
              </a:rPr>
              <a:t>TSM and inter predicted blocks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lvl="1" marL="663480" indent="-250560">
              <a:spcBef>
                <a:spcPts val="400"/>
              </a:spcBef>
              <a:buClr>
                <a:srgbClr val="6270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08080"/>
                </a:solidFill>
                <a:latin typeface="Arial"/>
              </a:rPr>
              <a:t>decided on TU-level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lvl="1" marL="663480" indent="-250560">
              <a:spcBef>
                <a:spcPts val="400"/>
              </a:spcBef>
              <a:buClr>
                <a:srgbClr val="6270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08080"/>
                </a:solidFill>
                <a:latin typeface="Arial"/>
              </a:rPr>
              <a:t>encoder assigns one of four TS modes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lvl="2" marL="1020600" indent="-20304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08080"/>
                </a:solidFill>
                <a:latin typeface="Arial"/>
              </a:rPr>
              <a:t>choice signalled to the decoder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lvl="2" marL="1020600" indent="-20304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marL="309600" indent="-30492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08080"/>
                </a:solidFill>
                <a:latin typeface="Arial"/>
              </a:rPr>
              <a:t>TSM signalling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2700360" y="4005360"/>
          <a:ext cx="3744720" cy="2074680"/>
        </p:xfrm>
        <a:graphic>
          <a:graphicData uri="http://schemas.openxmlformats.org/drawingml/2006/table">
            <a:tbl>
              <a:tblPr/>
              <a:tblGrid>
                <a:gridCol w="1108080"/>
                <a:gridCol w="1109520"/>
                <a:gridCol w="1527120"/>
              </a:tblGrid>
              <a:tr h="61272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S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de word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S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D DC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marL="366840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S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ransform on row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marL="366840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S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ransform on colum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marL="366840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S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 transfor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marL="366840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2708c"/>
                </a:solidFill>
                <a:latin typeface="Arial Bold"/>
              </a:rPr>
              <a:t>Implementation (encoder and decoder)</a:t>
            </a: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80520" y="909720"/>
            <a:ext cx="8512200" cy="33112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 fontScale="60000"/>
          </a:bodyPr>
          <a:p>
            <a:pPr marL="185760" indent="-18288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808080"/>
                </a:solidFill>
                <a:latin typeface="Arial"/>
              </a:rPr>
              <a:t>applied on TU-level</a:t>
            </a:r>
            <a:endParaRPr b="0" lang="en-US" sz="1400" spc="-1" strike="noStrike">
              <a:solidFill>
                <a:srgbClr val="808080"/>
              </a:solidFill>
              <a:latin typeface="Arial"/>
            </a:endParaRPr>
          </a:p>
          <a:p>
            <a:pPr lvl="1" marL="397800" indent="-150120">
              <a:spcBef>
                <a:spcPts val="400"/>
              </a:spcBef>
              <a:buClr>
                <a:srgbClr val="6270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808080"/>
                </a:solidFill>
                <a:latin typeface="Arial"/>
              </a:rPr>
              <a:t>TU correspond to a CU, except (as in HM3.x when RQT is off for inter blocks)</a:t>
            </a:r>
            <a:endParaRPr b="0" lang="en-US" sz="1400" spc="-1" strike="noStrike">
              <a:solidFill>
                <a:srgbClr val="808080"/>
              </a:solidFill>
              <a:latin typeface="Arial"/>
            </a:endParaRPr>
          </a:p>
          <a:p>
            <a:pPr lvl="2" marL="612360" indent="-12168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808080"/>
                </a:solidFill>
                <a:latin typeface="Arial"/>
              </a:rPr>
              <a:t>for asymmetric partitions when a CU is split into 4 TUs</a:t>
            </a:r>
            <a:endParaRPr b="0" lang="en-US" sz="1400" spc="-1" strike="noStrike">
              <a:solidFill>
                <a:srgbClr val="808080"/>
              </a:solidFill>
              <a:latin typeface="Arial"/>
            </a:endParaRPr>
          </a:p>
          <a:p>
            <a:pPr lvl="2" marL="612360" indent="-12168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808080"/>
                </a:solidFill>
                <a:latin typeface="Arial"/>
              </a:rPr>
              <a:t>for 64 x 64 CUs where a CU is split into 4 TUs (32 x 32)</a:t>
            </a:r>
            <a:endParaRPr b="0" lang="en-US" sz="1400" spc="-1" strike="noStrike">
              <a:solidFill>
                <a:srgbClr val="808080"/>
              </a:solidFill>
              <a:latin typeface="Arial"/>
            </a:endParaRPr>
          </a:p>
          <a:p>
            <a:pPr marL="185760" indent="-18288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808080"/>
              </a:solidFill>
              <a:latin typeface="Arial"/>
            </a:endParaRPr>
          </a:p>
          <a:p>
            <a:pPr marL="185760" indent="-18288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808080"/>
                </a:solidFill>
                <a:latin typeface="Arial"/>
              </a:rPr>
              <a:t>compatible with HM3.x core transform [E243]</a:t>
            </a:r>
            <a:endParaRPr b="0" lang="en-US" sz="1400" spc="-1" strike="noStrike">
              <a:solidFill>
                <a:srgbClr val="808080"/>
              </a:solidFill>
              <a:latin typeface="Arial"/>
            </a:endParaRPr>
          </a:p>
          <a:p>
            <a:pPr lvl="1" marL="397800" indent="-150120">
              <a:spcBef>
                <a:spcPts val="400"/>
              </a:spcBef>
              <a:buClr>
                <a:srgbClr val="6270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808080"/>
                </a:solidFill>
                <a:latin typeface="Arial"/>
              </a:rPr>
              <a:t>main transform functions (void partialButterflyN( )) are left unchanged</a:t>
            </a:r>
            <a:endParaRPr b="0" lang="en-US" sz="1400" spc="-1" strike="noStrike">
              <a:solidFill>
                <a:srgbClr val="808080"/>
              </a:solidFill>
              <a:latin typeface="Arial"/>
            </a:endParaRPr>
          </a:p>
          <a:p>
            <a:pPr lvl="1" marL="397800" indent="-150120">
              <a:spcBef>
                <a:spcPts val="400"/>
              </a:spcBef>
              <a:buClr>
                <a:srgbClr val="6270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808080"/>
                </a:solidFill>
                <a:latin typeface="Arial"/>
              </a:rPr>
              <a:t>16 bit intermediate data representation is preserved</a:t>
            </a:r>
            <a:endParaRPr b="0" lang="en-US" sz="1400" spc="-1" strike="noStrike">
              <a:solidFill>
                <a:srgbClr val="808080"/>
              </a:solidFill>
              <a:latin typeface="Arial"/>
            </a:endParaRPr>
          </a:p>
          <a:p>
            <a:pPr marL="185760" indent="-18288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808080"/>
              </a:solidFill>
              <a:latin typeface="Arial"/>
            </a:endParaRPr>
          </a:p>
          <a:p>
            <a:pPr marL="185760" indent="-18288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808080"/>
                </a:solidFill>
                <a:latin typeface="Arial"/>
              </a:rPr>
              <a:t>1D (row or column) transform skip applied as scaling</a:t>
            </a:r>
            <a:endParaRPr b="0" lang="en-US" sz="1400" spc="-1" strike="noStrike">
              <a:solidFill>
                <a:srgbClr val="808080"/>
              </a:solidFill>
              <a:latin typeface="Arial"/>
            </a:endParaRPr>
          </a:p>
          <a:p>
            <a:pPr marL="185760" indent="-1828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i="1" lang="en-GB" sz="1400" spc="-1" strike="noStrike">
                <a:solidFill>
                  <a:srgbClr val="808080"/>
                </a:solidFill>
                <a:latin typeface="Arial"/>
              </a:rPr>
              <a:t>y</a:t>
            </a:r>
            <a:r>
              <a:rPr b="0" lang="en-GB" sz="1400" spc="-1" strike="noStrike">
                <a:solidFill>
                  <a:srgbClr val="808080"/>
                </a:solidFill>
                <a:latin typeface="Arial"/>
              </a:rPr>
              <a:t> = (</a:t>
            </a:r>
            <a:r>
              <a:rPr b="0" i="1" lang="en-GB" sz="1400" spc="-1" strike="noStrike">
                <a:solidFill>
                  <a:srgbClr val="808080"/>
                </a:solidFill>
                <a:latin typeface="Arial"/>
              </a:rPr>
              <a:t>x</a:t>
            </a:r>
            <a:r>
              <a:rPr b="0" lang="en-GB" sz="14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808080"/>
                </a:solidFill>
                <a:latin typeface="Symbol"/>
                <a:ea typeface="Symbol"/>
              </a:rPr>
              <a:t></a:t>
            </a:r>
            <a:r>
              <a:rPr b="0" lang="en-GB" sz="14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i="1" lang="en-GB" sz="1400" spc="-1" strike="noStrike">
                <a:solidFill>
                  <a:srgbClr val="808080"/>
                </a:solidFill>
                <a:latin typeface="Arial"/>
              </a:rPr>
              <a:t>scale</a:t>
            </a:r>
            <a:r>
              <a:rPr b="0" lang="en-GB" sz="1400" spc="-1" strike="noStrike">
                <a:solidFill>
                  <a:srgbClr val="808080"/>
                </a:solidFill>
                <a:latin typeface="Arial"/>
              </a:rPr>
              <a:t> + </a:t>
            </a:r>
            <a:r>
              <a:rPr b="0" i="1" lang="en-GB" sz="1400" spc="-1" strike="noStrike">
                <a:solidFill>
                  <a:srgbClr val="808080"/>
                </a:solidFill>
                <a:latin typeface="Arial"/>
              </a:rPr>
              <a:t>offset</a:t>
            </a:r>
            <a:r>
              <a:rPr b="0" lang="en-GB" sz="1400" spc="-1" strike="noStrike">
                <a:solidFill>
                  <a:srgbClr val="808080"/>
                </a:solidFill>
                <a:latin typeface="Arial"/>
              </a:rPr>
              <a:t>) &gt;&gt; </a:t>
            </a:r>
            <a:r>
              <a:rPr b="0" i="1" lang="en-GB" sz="1400" spc="-1" strike="noStrike">
                <a:solidFill>
                  <a:srgbClr val="808080"/>
                </a:solidFill>
                <a:latin typeface="Arial"/>
              </a:rPr>
              <a:t>shift</a:t>
            </a:r>
            <a:br>
              <a:rPr sz="1400"/>
            </a:br>
            <a:endParaRPr b="0" lang="en-US" sz="1400" spc="-1" strike="noStrike">
              <a:solidFill>
                <a:srgbClr val="808080"/>
              </a:solidFill>
              <a:latin typeface="Arial"/>
            </a:endParaRPr>
          </a:p>
          <a:p>
            <a:pPr lvl="1" marL="397800" indent="-150120">
              <a:spcBef>
                <a:spcPts val="400"/>
              </a:spcBef>
              <a:buClr>
                <a:srgbClr val="6270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808080"/>
                </a:solidFill>
                <a:latin typeface="Arial"/>
              </a:rPr>
              <a:t>scaling factors for </a:t>
            </a:r>
            <a:r>
              <a:rPr b="0" i="1" lang="en-GB" sz="1400" spc="-1" strike="noStrike">
                <a:solidFill>
                  <a:srgbClr val="808080"/>
                </a:solidFill>
                <a:latin typeface="Arial"/>
              </a:rPr>
              <a:t>N</a:t>
            </a:r>
            <a:r>
              <a:rPr b="0" lang="en-GB" sz="1400" spc="-1" strike="noStrike">
                <a:solidFill>
                  <a:srgbClr val="808080"/>
                </a:solidFill>
                <a:latin typeface="Arial"/>
              </a:rPr>
              <a:t> x </a:t>
            </a:r>
            <a:r>
              <a:rPr b="0" i="1" lang="en-GB" sz="1400" spc="-1" strike="noStrike">
                <a:solidFill>
                  <a:srgbClr val="808080"/>
                </a:solidFill>
                <a:latin typeface="Arial"/>
              </a:rPr>
              <a:t>N</a:t>
            </a:r>
            <a:r>
              <a:rPr b="0" lang="en-GB" sz="1400" spc="-1" strike="noStrike">
                <a:solidFill>
                  <a:srgbClr val="808080"/>
                </a:solidFill>
                <a:latin typeface="Arial"/>
              </a:rPr>
              <a:t> blocks</a:t>
            </a:r>
            <a:endParaRPr b="0" lang="en-US" sz="1400" spc="-1" strike="noStrike">
              <a:solidFill>
                <a:srgbClr val="808080"/>
              </a:solidFill>
              <a:latin typeface="Arial"/>
            </a:endParaRPr>
          </a:p>
          <a:p>
            <a:pPr lvl="1" marL="397800" indent="-150120">
              <a:spcBef>
                <a:spcPts val="400"/>
              </a:spcBef>
              <a:buClr>
                <a:srgbClr val="6270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08080"/>
              </a:solidFill>
              <a:latin typeface="Arial"/>
            </a:endParaRPr>
          </a:p>
          <a:p>
            <a:pPr lvl="1" marL="397800" indent="-150120">
              <a:spcBef>
                <a:spcPts val="400"/>
              </a:spcBef>
              <a:buClr>
                <a:srgbClr val="6270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08080"/>
              </a:solidFill>
              <a:latin typeface="Arial"/>
            </a:endParaRPr>
          </a:p>
          <a:p>
            <a:pPr lvl="1" marL="397800" indent="-150120">
              <a:spcBef>
                <a:spcPts val="400"/>
              </a:spcBef>
              <a:buClr>
                <a:srgbClr val="6270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08080"/>
              </a:solidFill>
              <a:latin typeface="Arial"/>
            </a:endParaRPr>
          </a:p>
          <a:p>
            <a:pPr marL="185760" indent="-18288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808080"/>
                </a:solidFill>
                <a:latin typeface="Arial"/>
              </a:rPr>
              <a:t>quantisation is left unchanged for all TSM choices,</a:t>
            </a:r>
            <a:endParaRPr b="0" lang="en-US" sz="1400" spc="-1" strike="noStrike">
              <a:solidFill>
                <a:srgbClr val="808080"/>
              </a:solidFill>
              <a:latin typeface="Arial"/>
            </a:endParaRPr>
          </a:p>
          <a:p>
            <a:pPr marL="185760" indent="-18288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808080"/>
              </a:solidFill>
              <a:latin typeface="Arial"/>
            </a:endParaRPr>
          </a:p>
          <a:p>
            <a:pPr marL="185760" indent="-18288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808080"/>
                </a:solidFill>
                <a:latin typeface="Arial"/>
              </a:rPr>
              <a:t>coefficients scanning:</a:t>
            </a:r>
            <a:endParaRPr b="0" lang="en-US" sz="1400" spc="-1" strike="noStrike">
              <a:solidFill>
                <a:srgbClr val="808080"/>
              </a:solidFill>
              <a:latin typeface="Arial"/>
            </a:endParaRPr>
          </a:p>
          <a:p>
            <a:pPr lvl="1" marL="397800" indent="-150120">
              <a:spcBef>
                <a:spcPts val="400"/>
              </a:spcBef>
              <a:buClr>
                <a:srgbClr val="6270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808080"/>
                </a:solidFill>
                <a:latin typeface="Arial"/>
              </a:rPr>
              <a:t>zig-zag for TS0 and TS2</a:t>
            </a:r>
            <a:endParaRPr b="0" lang="en-US" sz="1400" spc="-1" strike="noStrike">
              <a:solidFill>
                <a:srgbClr val="808080"/>
              </a:solidFill>
              <a:latin typeface="Arial"/>
            </a:endParaRPr>
          </a:p>
          <a:p>
            <a:pPr lvl="1" marL="397800" indent="-150120">
              <a:spcBef>
                <a:spcPts val="400"/>
              </a:spcBef>
              <a:buClr>
                <a:srgbClr val="6270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808080"/>
                </a:solidFill>
                <a:latin typeface="Arial"/>
              </a:rPr>
              <a:t>vertical for TS1 (transform on rows skipped)</a:t>
            </a:r>
            <a:endParaRPr b="0" lang="en-US" sz="1400" spc="-1" strike="noStrike">
              <a:solidFill>
                <a:srgbClr val="808080"/>
              </a:solidFill>
              <a:latin typeface="Arial"/>
            </a:endParaRPr>
          </a:p>
          <a:p>
            <a:pPr lvl="1" marL="397800" indent="-150120">
              <a:spcBef>
                <a:spcPts val="400"/>
              </a:spcBef>
              <a:buClr>
                <a:srgbClr val="6270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808080"/>
                </a:solidFill>
                <a:latin typeface="Arial"/>
              </a:rPr>
              <a:t>horizontal for TS2 (transform on columns skipped)</a:t>
            </a:r>
            <a:endParaRPr b="0" lang="en-US" sz="1400" spc="-1" strike="noStrike">
              <a:solidFill>
                <a:srgbClr val="808080"/>
              </a:solidFill>
              <a:latin typeface="Arial"/>
            </a:endParaRPr>
          </a:p>
          <a:p>
            <a:pPr lvl="1" marL="397800" indent="-150120">
              <a:spcBef>
                <a:spcPts val="400"/>
              </a:spcBef>
              <a:buClr>
                <a:srgbClr val="6270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0808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3132000" y="4227480"/>
          <a:ext cx="3240360" cy="426960"/>
        </p:xfrm>
        <a:graphic>
          <a:graphicData uri="http://schemas.openxmlformats.org/drawingml/2006/table">
            <a:tbl>
              <a:tblPr/>
              <a:tblGrid>
                <a:gridCol w="648000"/>
                <a:gridCol w="647640"/>
                <a:gridCol w="649080"/>
                <a:gridCol w="647640"/>
                <a:gridCol w="648000"/>
              </a:tblGrid>
              <a:tr h="2134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ca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8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6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" name="Group 102"/>
          <p:cNvGrpSpPr/>
          <p:nvPr/>
        </p:nvGrpSpPr>
        <p:grpSpPr>
          <a:xfrm>
            <a:off x="6012000" y="3213000"/>
            <a:ext cx="2808000" cy="792360"/>
            <a:chOff x="6012000" y="3213000"/>
            <a:chExt cx="2808000" cy="792360"/>
          </a:xfrm>
        </p:grpSpPr>
        <p:sp>
          <p:nvSpPr>
            <p:cNvPr id="141" name="Rectangle 8"/>
            <p:cNvSpPr/>
            <p:nvPr/>
          </p:nvSpPr>
          <p:spPr>
            <a:xfrm>
              <a:off x="6012000" y="3225600"/>
              <a:ext cx="788400" cy="7686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2" name="Group 14" descr=""/>
            <p:cNvPicPr/>
            <p:nvPr/>
          </p:nvPicPr>
          <p:blipFill>
            <a:blip r:embed="rId1"/>
            <a:stretch/>
          </p:blipFill>
          <p:spPr>
            <a:xfrm>
              <a:off x="7005960" y="3213000"/>
              <a:ext cx="812880" cy="792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" name="Group 45" descr=""/>
            <p:cNvPicPr/>
            <p:nvPr/>
          </p:nvPicPr>
          <p:blipFill>
            <a:blip r:embed="rId2"/>
            <a:stretch/>
          </p:blipFill>
          <p:spPr>
            <a:xfrm>
              <a:off x="8007120" y="3213000"/>
              <a:ext cx="812880" cy="792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4" name="Group 100"/>
          <p:cNvGrpSpPr/>
          <p:nvPr/>
        </p:nvGrpSpPr>
        <p:grpSpPr>
          <a:xfrm>
            <a:off x="181080" y="3213000"/>
            <a:ext cx="3600360" cy="792360"/>
            <a:chOff x="181080" y="3213000"/>
            <a:chExt cx="3600360" cy="792360"/>
          </a:xfrm>
        </p:grpSpPr>
        <p:sp>
          <p:nvSpPr>
            <p:cNvPr id="145" name="Rectangle 4"/>
            <p:cNvSpPr/>
            <p:nvPr/>
          </p:nvSpPr>
          <p:spPr>
            <a:xfrm>
              <a:off x="2989440" y="3213000"/>
              <a:ext cx="792000" cy="792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Rectangle 5"/>
            <p:cNvSpPr/>
            <p:nvPr/>
          </p:nvSpPr>
          <p:spPr>
            <a:xfrm>
              <a:off x="2052720" y="3213000"/>
              <a:ext cx="792000" cy="792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Rectangle 6"/>
            <p:cNvSpPr/>
            <p:nvPr/>
          </p:nvSpPr>
          <p:spPr>
            <a:xfrm>
              <a:off x="1117440" y="3213000"/>
              <a:ext cx="792000" cy="792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Rectangle 7"/>
            <p:cNvSpPr/>
            <p:nvPr/>
          </p:nvSpPr>
          <p:spPr>
            <a:xfrm>
              <a:off x="181080" y="3213000"/>
              <a:ext cx="792000" cy="792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2708c"/>
                </a:solidFill>
                <a:latin typeface="Arial Bold"/>
              </a:rPr>
              <a:t>Encoder side comparison with the current design</a:t>
            </a: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150" name="Rectangle 3"/>
          <p:cNvSpPr/>
          <p:nvPr/>
        </p:nvSpPr>
        <p:spPr>
          <a:xfrm>
            <a:off x="1547640" y="1992240"/>
            <a:ext cx="792360" cy="790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Group 101"/>
          <p:cNvGrpSpPr/>
          <p:nvPr/>
        </p:nvGrpSpPr>
        <p:grpSpPr>
          <a:xfrm>
            <a:off x="181080" y="3211560"/>
            <a:ext cx="3600360" cy="792000"/>
            <a:chOff x="181080" y="3211560"/>
            <a:chExt cx="3600360" cy="792000"/>
          </a:xfrm>
        </p:grpSpPr>
        <p:sp>
          <p:nvSpPr>
            <p:cNvPr id="152" name="Rectangle 4"/>
            <p:cNvSpPr/>
            <p:nvPr/>
          </p:nvSpPr>
          <p:spPr>
            <a:xfrm>
              <a:off x="2989440" y="3211560"/>
              <a:ext cx="792000" cy="792000"/>
            </a:xfrm>
            <a:prstGeom prst="rect">
              <a:avLst/>
            </a:prstGeom>
            <a:solidFill>
              <a:srgbClr val="007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Rectangle 5"/>
            <p:cNvSpPr/>
            <p:nvPr/>
          </p:nvSpPr>
          <p:spPr>
            <a:xfrm>
              <a:off x="2052720" y="3211560"/>
              <a:ext cx="792000" cy="792000"/>
            </a:xfrm>
            <a:prstGeom prst="rect">
              <a:avLst/>
            </a:prstGeom>
            <a:solidFill>
              <a:srgbClr val="007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Rectangle 6"/>
            <p:cNvSpPr/>
            <p:nvPr/>
          </p:nvSpPr>
          <p:spPr>
            <a:xfrm>
              <a:off x="1117440" y="3211560"/>
              <a:ext cx="792000" cy="792000"/>
            </a:xfrm>
            <a:prstGeom prst="rect">
              <a:avLst/>
            </a:prstGeom>
            <a:solidFill>
              <a:srgbClr val="007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Rectangle 7"/>
            <p:cNvSpPr/>
            <p:nvPr/>
          </p:nvSpPr>
          <p:spPr>
            <a:xfrm>
              <a:off x="181080" y="3211560"/>
              <a:ext cx="792000" cy="792000"/>
            </a:xfrm>
            <a:prstGeom prst="rect">
              <a:avLst/>
            </a:prstGeom>
            <a:solidFill>
              <a:srgbClr val="007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"/>
                </a:rPr>
                <a:t>2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Rectangle 8"/>
          <p:cNvSpPr/>
          <p:nvPr/>
        </p:nvSpPr>
        <p:spPr>
          <a:xfrm>
            <a:off x="6013440" y="3211560"/>
            <a:ext cx="792000" cy="792000"/>
          </a:xfrm>
          <a:prstGeom prst="rect">
            <a:avLst/>
          </a:prstGeom>
          <a:solidFill>
            <a:srgbClr val="007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10"/>
          <p:cNvSpPr/>
          <p:nvPr/>
        </p:nvSpPr>
        <p:spPr>
          <a:xfrm>
            <a:off x="7021440" y="3211560"/>
            <a:ext cx="395280" cy="396720"/>
          </a:xfrm>
          <a:prstGeom prst="rect">
            <a:avLst/>
          </a:prstGeom>
          <a:solidFill>
            <a:srgbClr val="007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11"/>
          <p:cNvSpPr/>
          <p:nvPr/>
        </p:nvSpPr>
        <p:spPr>
          <a:xfrm>
            <a:off x="7416720" y="3211560"/>
            <a:ext cx="397080" cy="396720"/>
          </a:xfrm>
          <a:prstGeom prst="rect">
            <a:avLst/>
          </a:prstGeom>
          <a:solidFill>
            <a:srgbClr val="007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12"/>
          <p:cNvSpPr/>
          <p:nvPr/>
        </p:nvSpPr>
        <p:spPr>
          <a:xfrm>
            <a:off x="7021440" y="3608280"/>
            <a:ext cx="395280" cy="395280"/>
          </a:xfrm>
          <a:prstGeom prst="rect">
            <a:avLst/>
          </a:prstGeom>
          <a:solidFill>
            <a:srgbClr val="007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13"/>
          <p:cNvSpPr/>
          <p:nvPr/>
        </p:nvSpPr>
        <p:spPr>
          <a:xfrm>
            <a:off x="7416720" y="3608280"/>
            <a:ext cx="397080" cy="395280"/>
          </a:xfrm>
          <a:prstGeom prst="rect">
            <a:avLst/>
          </a:prstGeom>
          <a:solidFill>
            <a:srgbClr val="007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6"/>
          <p:cNvSpPr/>
          <p:nvPr/>
        </p:nvSpPr>
        <p:spPr>
          <a:xfrm>
            <a:off x="8029440" y="3211560"/>
            <a:ext cx="196920" cy="198360"/>
          </a:xfrm>
          <a:prstGeom prst="rect">
            <a:avLst/>
          </a:prstGeom>
          <a:solidFill>
            <a:srgbClr val="007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17"/>
          <p:cNvSpPr/>
          <p:nvPr/>
        </p:nvSpPr>
        <p:spPr>
          <a:xfrm>
            <a:off x="8226360" y="3211560"/>
            <a:ext cx="198360" cy="198360"/>
          </a:xfrm>
          <a:prstGeom prst="rect">
            <a:avLst/>
          </a:prstGeom>
          <a:solidFill>
            <a:srgbClr val="007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18"/>
          <p:cNvSpPr/>
          <p:nvPr/>
        </p:nvSpPr>
        <p:spPr>
          <a:xfrm>
            <a:off x="8029440" y="3409920"/>
            <a:ext cx="196920" cy="198360"/>
          </a:xfrm>
          <a:prstGeom prst="rect">
            <a:avLst/>
          </a:prstGeom>
          <a:solidFill>
            <a:srgbClr val="007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19"/>
          <p:cNvSpPr/>
          <p:nvPr/>
        </p:nvSpPr>
        <p:spPr>
          <a:xfrm>
            <a:off x="8226360" y="3409920"/>
            <a:ext cx="198360" cy="198360"/>
          </a:xfrm>
          <a:prstGeom prst="rect">
            <a:avLst/>
          </a:prstGeom>
          <a:solidFill>
            <a:srgbClr val="007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21"/>
          <p:cNvSpPr/>
          <p:nvPr/>
        </p:nvSpPr>
        <p:spPr>
          <a:xfrm>
            <a:off x="8424720" y="3211560"/>
            <a:ext cx="198720" cy="198360"/>
          </a:xfrm>
          <a:prstGeom prst="rect">
            <a:avLst/>
          </a:prstGeom>
          <a:solidFill>
            <a:srgbClr val="007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22"/>
          <p:cNvSpPr/>
          <p:nvPr/>
        </p:nvSpPr>
        <p:spPr>
          <a:xfrm>
            <a:off x="8623440" y="3211560"/>
            <a:ext cx="198360" cy="198360"/>
          </a:xfrm>
          <a:prstGeom prst="rect">
            <a:avLst/>
          </a:prstGeom>
          <a:solidFill>
            <a:srgbClr val="007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23"/>
          <p:cNvSpPr/>
          <p:nvPr/>
        </p:nvSpPr>
        <p:spPr>
          <a:xfrm>
            <a:off x="8424720" y="3409920"/>
            <a:ext cx="198720" cy="198360"/>
          </a:xfrm>
          <a:prstGeom prst="rect">
            <a:avLst/>
          </a:prstGeom>
          <a:solidFill>
            <a:srgbClr val="007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24"/>
          <p:cNvSpPr/>
          <p:nvPr/>
        </p:nvSpPr>
        <p:spPr>
          <a:xfrm>
            <a:off x="8623440" y="3409920"/>
            <a:ext cx="198360" cy="198360"/>
          </a:xfrm>
          <a:prstGeom prst="rect">
            <a:avLst/>
          </a:prstGeom>
          <a:solidFill>
            <a:srgbClr val="007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26"/>
          <p:cNvSpPr/>
          <p:nvPr/>
        </p:nvSpPr>
        <p:spPr>
          <a:xfrm>
            <a:off x="8029440" y="3608280"/>
            <a:ext cx="196920" cy="198720"/>
          </a:xfrm>
          <a:prstGeom prst="rect">
            <a:avLst/>
          </a:prstGeom>
          <a:solidFill>
            <a:srgbClr val="007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27"/>
          <p:cNvSpPr/>
          <p:nvPr/>
        </p:nvSpPr>
        <p:spPr>
          <a:xfrm>
            <a:off x="8226360" y="3608280"/>
            <a:ext cx="198360" cy="198720"/>
          </a:xfrm>
          <a:prstGeom prst="rect">
            <a:avLst/>
          </a:prstGeom>
          <a:solidFill>
            <a:srgbClr val="007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28"/>
          <p:cNvSpPr/>
          <p:nvPr/>
        </p:nvSpPr>
        <p:spPr>
          <a:xfrm>
            <a:off x="8029440" y="3807000"/>
            <a:ext cx="196920" cy="196560"/>
          </a:xfrm>
          <a:prstGeom prst="rect">
            <a:avLst/>
          </a:prstGeom>
          <a:solidFill>
            <a:srgbClr val="007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29"/>
          <p:cNvSpPr/>
          <p:nvPr/>
        </p:nvSpPr>
        <p:spPr>
          <a:xfrm>
            <a:off x="8226360" y="3807000"/>
            <a:ext cx="198360" cy="196560"/>
          </a:xfrm>
          <a:prstGeom prst="rect">
            <a:avLst/>
          </a:prstGeom>
          <a:solidFill>
            <a:srgbClr val="007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31"/>
          <p:cNvSpPr/>
          <p:nvPr/>
        </p:nvSpPr>
        <p:spPr>
          <a:xfrm>
            <a:off x="8424720" y="3608280"/>
            <a:ext cx="198720" cy="198720"/>
          </a:xfrm>
          <a:prstGeom prst="rect">
            <a:avLst/>
          </a:prstGeom>
          <a:solidFill>
            <a:srgbClr val="007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32"/>
          <p:cNvSpPr/>
          <p:nvPr/>
        </p:nvSpPr>
        <p:spPr>
          <a:xfrm>
            <a:off x="8623440" y="3608280"/>
            <a:ext cx="198360" cy="198720"/>
          </a:xfrm>
          <a:prstGeom prst="rect">
            <a:avLst/>
          </a:prstGeom>
          <a:solidFill>
            <a:srgbClr val="007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33"/>
          <p:cNvSpPr/>
          <p:nvPr/>
        </p:nvSpPr>
        <p:spPr>
          <a:xfrm>
            <a:off x="8424720" y="3807000"/>
            <a:ext cx="198720" cy="196560"/>
          </a:xfrm>
          <a:prstGeom prst="rect">
            <a:avLst/>
          </a:prstGeom>
          <a:solidFill>
            <a:srgbClr val="007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34"/>
          <p:cNvSpPr/>
          <p:nvPr/>
        </p:nvSpPr>
        <p:spPr>
          <a:xfrm>
            <a:off x="8623440" y="3807000"/>
            <a:ext cx="198360" cy="196560"/>
          </a:xfrm>
          <a:prstGeom prst="rect">
            <a:avLst/>
          </a:prstGeom>
          <a:solidFill>
            <a:srgbClr val="007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" name="Group 99"/>
          <p:cNvGrpSpPr/>
          <p:nvPr/>
        </p:nvGrpSpPr>
        <p:grpSpPr>
          <a:xfrm>
            <a:off x="7021440" y="4510080"/>
            <a:ext cx="792360" cy="792000"/>
            <a:chOff x="7021440" y="4510080"/>
            <a:chExt cx="792360" cy="792000"/>
          </a:xfrm>
        </p:grpSpPr>
        <p:sp>
          <p:nvSpPr>
            <p:cNvPr id="178" name="Rectangle 37"/>
            <p:cNvSpPr/>
            <p:nvPr/>
          </p:nvSpPr>
          <p:spPr>
            <a:xfrm>
              <a:off x="7031880" y="4520520"/>
              <a:ext cx="384120" cy="384120"/>
            </a:xfrm>
            <a:prstGeom prst="rect">
              <a:avLst/>
            </a:prstGeom>
            <a:solidFill>
              <a:srgbClr val="00b05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9" name="Group 20" descr=""/>
            <p:cNvPicPr/>
            <p:nvPr/>
          </p:nvPicPr>
          <p:blipFill>
            <a:blip r:embed="rId3"/>
            <a:stretch/>
          </p:blipFill>
          <p:spPr>
            <a:xfrm>
              <a:off x="7405920" y="4510080"/>
              <a:ext cx="407880" cy="40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0" name="Group 25" descr=""/>
            <p:cNvPicPr/>
            <p:nvPr/>
          </p:nvPicPr>
          <p:blipFill>
            <a:blip r:embed="rId4"/>
            <a:stretch/>
          </p:blipFill>
          <p:spPr>
            <a:xfrm>
              <a:off x="7021440" y="4894200"/>
              <a:ext cx="407880" cy="40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Rectangle 37"/>
            <p:cNvSpPr/>
            <p:nvPr/>
          </p:nvSpPr>
          <p:spPr>
            <a:xfrm>
              <a:off x="7416360" y="4904640"/>
              <a:ext cx="384120" cy="384120"/>
            </a:xfrm>
            <a:prstGeom prst="rect">
              <a:avLst/>
            </a:prstGeom>
            <a:solidFill>
              <a:srgbClr val="00b05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" name="Rectangle 5"/>
          <p:cNvSpPr/>
          <p:nvPr/>
        </p:nvSpPr>
        <p:spPr>
          <a:xfrm>
            <a:off x="1547640" y="4510080"/>
            <a:ext cx="792360" cy="792000"/>
          </a:xfrm>
          <a:prstGeom prst="rect">
            <a:avLst/>
          </a:prstGeom>
          <a:solidFill>
            <a:srgbClr val="00b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3"/>
          <p:cNvSpPr/>
          <p:nvPr/>
        </p:nvSpPr>
        <p:spPr>
          <a:xfrm>
            <a:off x="7020000" y="1990800"/>
            <a:ext cx="792000" cy="790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105"/>
          <p:cNvSpPr/>
          <p:nvPr/>
        </p:nvSpPr>
        <p:spPr>
          <a:xfrm>
            <a:off x="3421080" y="2062080"/>
            <a:ext cx="287964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CU residu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RDO searc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coding decis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Straight Connector 107"/>
          <p:cNvSpPr/>
          <p:nvPr/>
        </p:nvSpPr>
        <p:spPr>
          <a:xfrm>
            <a:off x="108000" y="2925720"/>
            <a:ext cx="889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Straight Connector 109"/>
          <p:cNvSpPr/>
          <p:nvPr/>
        </p:nvSpPr>
        <p:spPr>
          <a:xfrm>
            <a:off x="108000" y="4222800"/>
            <a:ext cx="889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Box 105"/>
          <p:cNvSpPr/>
          <p:nvPr/>
        </p:nvSpPr>
        <p:spPr>
          <a:xfrm>
            <a:off x="468360" y="1270080"/>
            <a:ext cx="2879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0000"/>
                </a:solidFill>
                <a:latin typeface="Arial"/>
              </a:rPr>
              <a:t>TS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Box 105"/>
          <p:cNvSpPr/>
          <p:nvPr/>
        </p:nvSpPr>
        <p:spPr>
          <a:xfrm>
            <a:off x="6013440" y="1270080"/>
            <a:ext cx="2879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0000"/>
                </a:solidFill>
                <a:latin typeface="Arial"/>
              </a:rPr>
              <a:t>HM3.x (RQT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Straight Connector 107"/>
          <p:cNvSpPr/>
          <p:nvPr/>
        </p:nvSpPr>
        <p:spPr>
          <a:xfrm>
            <a:off x="144360" y="1846440"/>
            <a:ext cx="88934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30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600"/>
                            </p:stCondLst>
                            <p:childTnLst>
                              <p:par>
                                <p:cTn id="18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900"/>
                            </p:stCondLst>
                            <p:childTnLst>
                              <p:par>
                                <p:cTn id="21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200"/>
                            </p:stCondLst>
                            <p:childTnLst>
                              <p:par>
                                <p:cTn id="24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500"/>
                            </p:stCondLst>
                            <p:childTnLst>
                              <p:par>
                                <p:cTn id="27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80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2100"/>
                            </p:stCondLst>
                            <p:childTnLst>
                              <p:par>
                                <p:cTn id="33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2400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2700"/>
                            </p:stCondLst>
                            <p:childTnLst>
                              <p:par>
                                <p:cTn id="39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3000"/>
                            </p:stCondLst>
                            <p:childTnLst>
                              <p:par>
                                <p:cTn id="42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330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360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3900"/>
                            </p:stCondLst>
                            <p:childTnLst>
                              <p:par>
                                <p:cTn id="51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4200"/>
                            </p:stCondLst>
                            <p:childTnLst>
                              <p:par>
                                <p:cTn id="54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4500"/>
                            </p:stCondLst>
                            <p:childTnLst>
                              <p:par>
                                <p:cTn id="57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4800"/>
                            </p:stCondLst>
                            <p:childTnLst>
                              <p:par>
                                <p:cTn id="60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100"/>
                            </p:stCondLst>
                            <p:childTnLst>
                              <p:par>
                                <p:cTn id="63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400"/>
                            </p:stCondLst>
                            <p:childTnLst>
                              <p:par>
                                <p:cTn id="66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57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2708c"/>
                </a:solidFill>
                <a:latin typeface="Arial Bold"/>
              </a:rPr>
              <a:t>Results in HM3.2</a:t>
            </a: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396720" y="992160"/>
          <a:ext cx="3516480" cy="4389480"/>
        </p:xfrm>
        <a:graphic>
          <a:graphicData uri="http://schemas.openxmlformats.org/drawingml/2006/table">
            <a:tbl>
              <a:tblPr/>
              <a:tblGrid>
                <a:gridCol w="660600"/>
                <a:gridCol w="476280"/>
                <a:gridCol w="476280"/>
                <a:gridCol w="474480"/>
                <a:gridCol w="476280"/>
                <a:gridCol w="476280"/>
                <a:gridCol w="476280"/>
              </a:tblGrid>
              <a:tr h="137520">
                <a:tc rowSpan="2">
                  <a:txBody>
                    <a:bodyPr lIns="52560" rIns="525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52560" rIns="525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andom Access H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52560" rIns="525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andom Access L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7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2560" rIns="525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560" rIns="525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560" rIns="525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560" rIns="525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560" rIns="525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560" rIns="525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520">
                <a:tc>
                  <a:txBody>
                    <a:bodyPr lIns="52560" rIns="5256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2560" rIns="525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5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2560" rIns="525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6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2560" rIns="525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3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2560" rIns="525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1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2560" rIns="525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1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2560" rIns="525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4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37520">
                <a:tc>
                  <a:txBody>
                    <a:bodyPr lIns="52560" rIns="5256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B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2560" rIns="525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2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2560" rIns="525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2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2560" rIns="525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2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2560" rIns="525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5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2560" rIns="525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9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2560" rIns="525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7520">
                <a:tc>
                  <a:txBody>
                    <a:bodyPr lIns="52560" rIns="5256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2560" rIns="525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1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2560" rIns="525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1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2560" rIns="525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4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2560" rIns="525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2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2560" rIns="525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3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2560" rIns="525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4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7520">
                <a:tc>
                  <a:txBody>
                    <a:bodyPr lIns="52560" rIns="5256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2560" rIns="525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4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2560" rIns="525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4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2560" rIns="525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5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2560" rIns="525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2560" rIns="525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2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2560" rIns="525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5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7520">
                <a:tc>
                  <a:txBody>
                    <a:bodyPr lIns="52560" rIns="5256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560" rIns="5256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52560" rIns="5256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52560" rIns="5256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52560" rIns="5256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52560" rIns="5256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52560" rIns="5256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7520">
                <a:tc>
                  <a:txBody>
                    <a:bodyPr lIns="52560" rIns="5256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veral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560" rIns="525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560" rIns="525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2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560" rIns="525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3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560" rIns="525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4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560" rIns="525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3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560" rIns="525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3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520">
                <a:tc>
                  <a:txBody>
                    <a:bodyPr lIns="52560" rIns="5256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nc Time[%]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52560" rIns="525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9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52560" rIns="525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9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7520">
                <a:tc>
                  <a:txBody>
                    <a:bodyPr lIns="52560" rIns="5256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c Time[%]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52560" rIns="525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5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52560" rIns="525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5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7520">
                <a:tc>
                  <a:txBody>
                    <a:bodyPr lIns="52560" rIns="5256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560" rIns="5256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560" rIns="5256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560" rIns="5256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560" rIns="5256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560" rIns="5256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560" rIns="5256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520">
                <a:tc>
                  <a:txBody>
                    <a:bodyPr lIns="52560" rIns="5256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52560" rIns="525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ow delay B H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52560" rIns="525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ow delay B L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7520">
                <a:tc>
                  <a:txBody>
                    <a:bodyPr lIns="52560" rIns="5256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560" rIns="525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560" rIns="525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560" rIns="525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560" rIns="525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560" rIns="525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560" rIns="525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520">
                <a:tc>
                  <a:txBody>
                    <a:bodyPr lIns="52560" rIns="5256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2560" rIns="5256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52560" rIns="5256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52560" rIns="5256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52560" rIns="5256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52560" rIns="5256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52560" rIns="5256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137520">
                <a:tc>
                  <a:txBody>
                    <a:bodyPr lIns="52560" rIns="5256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B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2560" rIns="525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2560" rIns="525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2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2560" rIns="525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9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2560" rIns="525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6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2560" rIns="525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2.4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2560" rIns="525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7520">
                <a:tc>
                  <a:txBody>
                    <a:bodyPr lIns="52560" rIns="5256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2560" rIns="525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5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2560" rIns="525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2560" rIns="525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5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2560" rIns="525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1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2560" rIns="525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6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2560" rIns="525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0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7520">
                <a:tc>
                  <a:txBody>
                    <a:bodyPr lIns="52560" rIns="5256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2560" rIns="525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1.2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2560" rIns="525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4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2560" rIns="525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6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2560" rIns="525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5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2560" rIns="525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9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2560" rIns="525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4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7520">
                <a:tc>
                  <a:txBody>
                    <a:bodyPr lIns="52560" rIns="5256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560" rIns="525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5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560" rIns="525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5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560" rIns="525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560" rIns="525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560" rIns="525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5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560" rIns="525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9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520">
                <a:tc>
                  <a:txBody>
                    <a:bodyPr lIns="52560" rIns="5256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veral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560" rIns="525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5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560" rIns="525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5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560" rIns="525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8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560" rIns="525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560" rIns="525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7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560" rIns="525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4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520">
                <a:tc>
                  <a:txBody>
                    <a:bodyPr lIns="52560" rIns="5256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nc Time[%]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52560" rIns="525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4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52560" rIns="525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5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7520">
                <a:tc>
                  <a:txBody>
                    <a:bodyPr lIns="52560" rIns="5256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c Time[%]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52560" rIns="525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52560" rIns="525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7520">
                <a:tc>
                  <a:txBody>
                    <a:bodyPr lIns="52560" rIns="5256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560" rIns="5256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560" rIns="5256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560" rIns="5256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560" rIns="5256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560" rIns="5256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560" rIns="5256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520">
                <a:tc>
                  <a:txBody>
                    <a:bodyPr lIns="52560" rIns="5256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52560" rIns="525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ow delay P H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52560" rIns="525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ow delay P L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7520">
                <a:tc>
                  <a:txBody>
                    <a:bodyPr lIns="52560" rIns="5256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560" rIns="525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560" rIns="525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560" rIns="525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560" rIns="525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560" rIns="525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560" rIns="525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520">
                <a:tc>
                  <a:txBody>
                    <a:bodyPr lIns="52560" rIns="5256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2560" rIns="5256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52560" rIns="5256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52560" rIns="5256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52560" rIns="5256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52560" rIns="5256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52560" rIns="5256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137520">
                <a:tc>
                  <a:txBody>
                    <a:bodyPr lIns="52560" rIns="5256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B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2560" rIns="525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2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2560" rIns="525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7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2560" rIns="525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5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2560" rIns="525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5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2560" rIns="525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2.3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2560" rIns="525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2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7520">
                <a:tc>
                  <a:txBody>
                    <a:bodyPr lIns="52560" rIns="5256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2560" rIns="525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6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2560" rIns="525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3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2560" rIns="525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2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2560" rIns="525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3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2560" rIns="525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6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2560" rIns="525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7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7520">
                <a:tc>
                  <a:txBody>
                    <a:bodyPr lIns="52560" rIns="5256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2560" rIns="525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1.4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2560" rIns="525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9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2560" rIns="525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1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2560" rIns="525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9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2560" rIns="525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6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2560" rIns="525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8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7520">
                <a:tc>
                  <a:txBody>
                    <a:bodyPr lIns="52560" rIns="5256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560" rIns="525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8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560" rIns="525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2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560" rIns="525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2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560" rIns="525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1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560" rIns="525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4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560" rIns="525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5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520">
                <a:tc>
                  <a:txBody>
                    <a:bodyPr lIns="52560" rIns="5256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veral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560" rIns="525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7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560" rIns="525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560" rIns="525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2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560" rIns="525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2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560" rIns="525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6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560" rIns="525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3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520">
                <a:tc>
                  <a:txBody>
                    <a:bodyPr lIns="52560" rIns="5256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nc Time[%]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52560" rIns="525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6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52560" rIns="525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9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7520">
                <a:tc>
                  <a:txBody>
                    <a:bodyPr lIns="52560" rIns="5256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c Time[%]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52560" rIns="525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52560" rIns="525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92" name=""/>
          <p:cNvGraphicFramePr/>
          <p:nvPr/>
        </p:nvGraphicFramePr>
        <p:xfrm>
          <a:off x="4944960" y="992160"/>
          <a:ext cx="3516480" cy="4389480"/>
        </p:xfrm>
        <a:graphic>
          <a:graphicData uri="http://schemas.openxmlformats.org/drawingml/2006/table">
            <a:tbl>
              <a:tblPr/>
              <a:tblGrid>
                <a:gridCol w="660600"/>
                <a:gridCol w="476280"/>
                <a:gridCol w="476280"/>
                <a:gridCol w="474480"/>
                <a:gridCol w="476280"/>
                <a:gridCol w="476280"/>
                <a:gridCol w="476280"/>
              </a:tblGrid>
              <a:tr h="137520">
                <a:tc rowSpan="2">
                  <a:txBody>
                    <a:bodyPr lIns="52560" rIns="525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52560" rIns="525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andom Access H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52560" rIns="525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andom Access L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7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2560" rIns="525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560" rIns="525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560" rIns="525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560" rIns="525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560" rIns="525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560" rIns="525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520">
                <a:tc>
                  <a:txBody>
                    <a:bodyPr lIns="52560" rIns="5256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2560" rIns="525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1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2560" rIns="525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2560" rIns="525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2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2560" rIns="525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3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2560" rIns="525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2560" rIns="525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2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37520">
                <a:tc>
                  <a:txBody>
                    <a:bodyPr lIns="52560" rIns="5256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B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2560" rIns="525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6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2560" rIns="525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7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2560" rIns="525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3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2560" rIns="525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5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2560" rIns="525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4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2560" rIns="525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1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7520">
                <a:tc>
                  <a:txBody>
                    <a:bodyPr lIns="52560" rIns="5256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2560" rIns="525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8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2560" rIns="525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2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2560" rIns="525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2560" rIns="525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7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2560" rIns="525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1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2560" rIns="525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3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7520">
                <a:tc>
                  <a:txBody>
                    <a:bodyPr lIns="52560" rIns="5256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2560" rIns="525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1.1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2560" rIns="525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3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2560" rIns="525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3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2560" rIns="525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1.1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2560" rIns="525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4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2560" rIns="525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6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7520">
                <a:tc>
                  <a:txBody>
                    <a:bodyPr lIns="52560" rIns="5256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560" rIns="5256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52560" rIns="5256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52560" rIns="5256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52560" rIns="5256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52560" rIns="5256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52560" rIns="5256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7520">
                <a:tc>
                  <a:txBody>
                    <a:bodyPr lIns="52560" rIns="5256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veral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560" rIns="525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6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560" rIns="525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2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560" rIns="525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1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560" rIns="525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5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560" rIns="525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560" rIns="525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3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520">
                <a:tc>
                  <a:txBody>
                    <a:bodyPr lIns="52560" rIns="5256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nc Time[%]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52560" rIns="525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9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52560" rIns="525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7520">
                <a:tc>
                  <a:txBody>
                    <a:bodyPr lIns="52560" rIns="5256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c Time[%]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52560" rIns="525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52560" rIns="525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4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7520">
                <a:tc>
                  <a:txBody>
                    <a:bodyPr lIns="52560" rIns="5256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560" rIns="5256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560" rIns="5256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560" rIns="5256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560" rIns="5256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560" rIns="5256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560" rIns="5256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520">
                <a:tc>
                  <a:txBody>
                    <a:bodyPr lIns="52560" rIns="5256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52560" rIns="525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ow delay B H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52560" rIns="525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ow delay B L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7520">
                <a:tc>
                  <a:txBody>
                    <a:bodyPr lIns="52560" rIns="5256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560" rIns="525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560" rIns="525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560" rIns="525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560" rIns="525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560" rIns="525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560" rIns="525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520">
                <a:tc>
                  <a:txBody>
                    <a:bodyPr lIns="52560" rIns="5256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2560" rIns="5256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52560" rIns="5256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52560" rIns="5256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52560" rIns="5256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52560" rIns="5256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52560" rIns="5256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137520">
                <a:tc>
                  <a:txBody>
                    <a:bodyPr lIns="52560" rIns="5256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B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2560" rIns="525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8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2560" rIns="525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1.1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2560" rIns="525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8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2560" rIns="525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7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2560" rIns="525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9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2560" rIns="525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1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7520">
                <a:tc>
                  <a:txBody>
                    <a:bodyPr lIns="52560" rIns="5256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2560" rIns="525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1.5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2560" rIns="525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7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2560" rIns="525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1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2560" rIns="525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1.4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2560" rIns="525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4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2560" rIns="525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6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7520">
                <a:tc>
                  <a:txBody>
                    <a:bodyPr lIns="52560" rIns="5256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2560" rIns="525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2.2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2560" rIns="525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6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2560" rIns="525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0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2560" rIns="525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2.1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2560" rIns="525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2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2560" rIns="525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2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7520">
                <a:tc>
                  <a:txBody>
                    <a:bodyPr lIns="52560" rIns="5256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560" rIns="525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8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560" rIns="525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0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560" rIns="525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3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560" rIns="525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8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560" rIns="525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9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560" rIns="525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4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520">
                <a:tc>
                  <a:txBody>
                    <a:bodyPr lIns="52560" rIns="5256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veral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560" rIns="525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1.3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560" rIns="525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2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560" rIns="525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560" rIns="525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1.2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560" rIns="525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1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560" rIns="525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5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520">
                <a:tc>
                  <a:txBody>
                    <a:bodyPr lIns="52560" rIns="5256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nc Time[%]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52560" rIns="525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6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52560" rIns="525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7520">
                <a:tc>
                  <a:txBody>
                    <a:bodyPr lIns="52560" rIns="5256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c Time[%]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52560" rIns="525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9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52560" rIns="525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6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7520">
                <a:tc>
                  <a:txBody>
                    <a:bodyPr lIns="52560" rIns="5256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560" rIns="5256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560" rIns="5256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560" rIns="5256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560" rIns="5256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560" rIns="5256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560" rIns="5256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520">
                <a:tc>
                  <a:txBody>
                    <a:bodyPr lIns="52560" rIns="5256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52560" rIns="525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ow delay P H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52560" rIns="525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ow delay P L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7520">
                <a:tc>
                  <a:txBody>
                    <a:bodyPr lIns="52560" rIns="5256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560" rIns="525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560" rIns="525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560" rIns="525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560" rIns="525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560" rIns="525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560" rIns="525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520">
                <a:tc>
                  <a:txBody>
                    <a:bodyPr lIns="52560" rIns="5256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2560" rIns="5256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52560" rIns="5256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52560" rIns="5256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52560" rIns="5256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52560" rIns="5256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52560" rIns="5256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137520">
                <a:tc>
                  <a:txBody>
                    <a:bodyPr lIns="52560" rIns="5256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B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2560" rIns="525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9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2560" rIns="525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1.6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2560" rIns="525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1.5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2560" rIns="525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5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2560" rIns="525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6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2560" rIns="525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2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7520">
                <a:tc>
                  <a:txBody>
                    <a:bodyPr lIns="52560" rIns="5256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2560" rIns="525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1.5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2560" rIns="525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9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2560" rIns="525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4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2560" rIns="525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1.4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2560" rIns="525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3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2560" rIns="525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5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7520">
                <a:tc>
                  <a:txBody>
                    <a:bodyPr lIns="52560" rIns="5256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2560" rIns="525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2.2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2560" rIns="525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5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2560" rIns="525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3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2560" rIns="525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2.2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2560" rIns="525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9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2560" rIns="525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5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7520">
                <a:tc>
                  <a:txBody>
                    <a:bodyPr lIns="52560" rIns="5256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560" rIns="525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1.1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560" rIns="525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3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560" rIns="525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5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560" rIns="525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9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560" rIns="525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5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560" rIns="525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7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520">
                <a:tc>
                  <a:txBody>
                    <a:bodyPr lIns="52560" rIns="5256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veral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560" rIns="525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1.4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560" rIns="525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5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560" rIns="525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4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560" rIns="525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1.2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560" rIns="525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2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560" rIns="525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4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520">
                <a:tc>
                  <a:txBody>
                    <a:bodyPr lIns="52560" rIns="5256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nc Time[%]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52560" rIns="525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8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52560" rIns="525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7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7520">
                <a:tc>
                  <a:txBody>
                    <a:bodyPr lIns="52560" rIns="5256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c Time[%]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52560" rIns="525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52560" rIns="525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380520" y="1295280"/>
            <a:ext cx="7774200" cy="766800"/>
          </a:xfrm>
          <a:prstGeom prst="rect">
            <a:avLst/>
          </a:prstGeom>
          <a:ln w="0">
            <a:noFill/>
          </a:ln>
        </p:spPr>
      </p:pic>
      <p:sp>
        <p:nvSpPr>
          <p:cNvPr id="194" name="TextBox 13"/>
          <p:cNvSpPr/>
          <p:nvPr/>
        </p:nvSpPr>
        <p:spPr>
          <a:xfrm>
            <a:off x="-34920" y="5668920"/>
            <a:ext cx="446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a862a"/>
                </a:solidFill>
                <a:latin typeface="Arial"/>
              </a:rPr>
              <a:t>TSM (in HM3.2 with Inter RQT off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a862a"/>
                </a:solidFill>
                <a:latin typeface="Arial"/>
              </a:rPr>
              <a:t>vs. HM3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Box 14"/>
          <p:cNvSpPr/>
          <p:nvPr/>
        </p:nvSpPr>
        <p:spPr>
          <a:xfrm>
            <a:off x="4392720" y="5668920"/>
            <a:ext cx="4716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a862a"/>
                </a:solidFill>
                <a:latin typeface="Arial"/>
              </a:rPr>
              <a:t>TSM (in HM3.2 with Inter RQT off)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a862a"/>
                </a:solidFill>
                <a:latin typeface="Arial"/>
              </a:rPr>
              <a:t>vs. HM3.2 with Inter RQT of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2708c"/>
                </a:solidFill>
                <a:latin typeface="Arial Bold"/>
              </a:rPr>
              <a:t>Conclusions</a:t>
            </a: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96360" y="1269720"/>
            <a:ext cx="7774200" cy="508644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marL="309600" indent="-30492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benefits of Transform Skip Mode (TSM)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63480" indent="-250560">
              <a:spcBef>
                <a:spcPts val="400"/>
              </a:spcBef>
              <a:buClr>
                <a:srgbClr val="6270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enables adaptation to given residual block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20600" indent="-20304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2D transform may not be always the best choic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63480" indent="-250560">
              <a:spcBef>
                <a:spcPts val="400"/>
              </a:spcBef>
              <a:buClr>
                <a:srgbClr val="6270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computationally heavy transform not needed when it is skipped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63480" indent="-250560">
              <a:spcBef>
                <a:spcPts val="400"/>
              </a:spcBef>
              <a:buClr>
                <a:srgbClr val="6270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non-recursive desig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63480" indent="-250560">
              <a:spcBef>
                <a:spcPts val="400"/>
              </a:spcBef>
              <a:buClr>
                <a:srgbClr val="6270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63480" indent="-250560">
              <a:spcBef>
                <a:spcPts val="400"/>
              </a:spcBef>
              <a:buClr>
                <a:srgbClr val="6270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63480" indent="-2505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63480" indent="-250560">
              <a:spcBef>
                <a:spcPts val="400"/>
              </a:spcBef>
              <a:buClr>
                <a:srgbClr val="6270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m</dc:creator>
  <dc:description/>
  <dc:language>en-US</dc:language>
  <cp:lastModifiedBy>martam</cp:lastModifiedBy>
  <dcterms:modified xsi:type="dcterms:W3CDTF">2011-07-15T12:48:48Z</dcterms:modified>
  <cp:revision>46</cp:revision>
  <dc:subject/>
  <dc:title>jctvc</dc:title>
</cp:coreProperties>
</file>