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lick to move the slide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1487F-256C-4D32-95C7-B892E4206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521DB-6342-436C-8918-5CAC3D66E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000" y="158760"/>
            <a:ext cx="55306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158760"/>
            <a:ext cx="55306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68120" y="98280"/>
            <a:ext cx="8772840" cy="102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1" marL="727920" indent="-2800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2" marL="1119960" indent="-223920">
              <a:spcBef>
                <a:spcPts val="799"/>
              </a:spcBef>
              <a:spcAft>
                <a:spcPts val="601"/>
              </a:spcAft>
              <a:buClr>
                <a:srgbClr val="606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3" marL="1568160" indent="-2239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4" marL="2016000" indent="-2239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5" marL="2016000" indent="-2239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6" marL="2016000" indent="-2239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3" name="Text Box 14"/>
          <p:cNvSpPr/>
          <p:nvPr/>
        </p:nvSpPr>
        <p:spPr>
          <a:xfrm>
            <a:off x="1878120" y="6561000"/>
            <a:ext cx="726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Myriad Web"/>
              </a:rPr>
              <a:t>JCTVC-F075 | SLIDE </a:t>
            </a:r>
            <a:fld id="{269D79B8-D83E-43E3-B045-27AA1DC0F3C1}" type="slidenum">
              <a:rPr b="1" lang="en-US" sz="1200" spc="-1" strike="noStrike">
                <a:solidFill>
                  <a:srgbClr val="404040"/>
                </a:solidFill>
                <a:latin typeface="Myriad Web"/>
              </a:rPr>
              <a:t>&lt;number&gt;</a:t>
            </a:fld>
            <a:r>
              <a:rPr b="1" lang="en-US" sz="1200" spc="-1" strike="noStrike">
                <a:solidFill>
                  <a:srgbClr val="404040"/>
                </a:solidFill>
                <a:latin typeface="Myriad Web"/>
              </a:rPr>
              <a:t> | Zenverge, Inc. | Copyright 2011 | All Rights Reserved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10"/>
          <p:cNvSpPr/>
          <p:nvPr/>
        </p:nvSpPr>
        <p:spPr>
          <a:xfrm>
            <a:off x="3368520" y="2033640"/>
            <a:ext cx="1262160" cy="1800000"/>
          </a:xfrm>
          <a:prstGeom prst="flowChartDelay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11"/>
          <p:cNvSpPr/>
          <p:nvPr/>
        </p:nvSpPr>
        <p:spPr>
          <a:xfrm>
            <a:off x="1512720" y="1979640"/>
            <a:ext cx="1884600" cy="1874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AutoShape 12"/>
          <p:cNvSpPr/>
          <p:nvPr/>
        </p:nvSpPr>
        <p:spPr>
          <a:xfrm rot="16200000">
            <a:off x="1837440" y="502560"/>
            <a:ext cx="1262160" cy="1800000"/>
          </a:xfrm>
          <a:prstGeom prst="flowChartDelay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AutoShape 13"/>
          <p:cNvSpPr/>
          <p:nvPr/>
        </p:nvSpPr>
        <p:spPr>
          <a:xfrm rot="10800000">
            <a:off x="298440" y="2033640"/>
            <a:ext cx="1262160" cy="1800000"/>
          </a:xfrm>
          <a:prstGeom prst="flowChartDelay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AutoShape 14"/>
          <p:cNvSpPr/>
          <p:nvPr/>
        </p:nvSpPr>
        <p:spPr>
          <a:xfrm rot="5400000">
            <a:off x="1845360" y="3564720"/>
            <a:ext cx="1262160" cy="1800000"/>
          </a:xfrm>
          <a:prstGeom prst="flowChartDelay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AutoShape 15"/>
          <p:cNvSpPr/>
          <p:nvPr/>
        </p:nvSpPr>
        <p:spPr>
          <a:xfrm rot="2700000">
            <a:off x="1032840" y="1495440"/>
            <a:ext cx="2867040" cy="2863800"/>
          </a:xfrm>
          <a:custGeom>
            <a:avLst/>
            <a:gdLst>
              <a:gd name="textAreaLeft" fmla="*/ 6120 w 2867040"/>
              <a:gd name="textAreaRight" fmla="*/ 2860920 w 2867040"/>
              <a:gd name="textAreaTop" fmla="*/ 1335600 h 2863800"/>
              <a:gd name="textAreaBottom" fmla="*/ 1528200 h 2863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075" y="47"/>
                </a:lnTo>
                <a:lnTo>
                  <a:pt x="10075" y="47"/>
                </a:lnTo>
                <a:lnTo>
                  <a:pt x="10075" y="10075"/>
                </a:lnTo>
                <a:lnTo>
                  <a:pt x="47" y="10075"/>
                </a:lnTo>
                <a:lnTo>
                  <a:pt x="47" y="10075"/>
                </a:lnTo>
                <a:lnTo>
                  <a:pt x="0" y="10800"/>
                </a:lnTo>
                <a:lnTo>
                  <a:pt x="47" y="11525"/>
                </a:lnTo>
                <a:lnTo>
                  <a:pt x="47" y="11525"/>
                </a:lnTo>
                <a:lnTo>
                  <a:pt x="10075" y="11525"/>
                </a:lnTo>
                <a:lnTo>
                  <a:pt x="10075" y="21553"/>
                </a:lnTo>
                <a:lnTo>
                  <a:pt x="10075" y="21553"/>
                </a:lnTo>
                <a:lnTo>
                  <a:pt x="10800" y="21600"/>
                </a:lnTo>
                <a:lnTo>
                  <a:pt x="11525" y="21553"/>
                </a:lnTo>
                <a:lnTo>
                  <a:pt x="11525" y="21553"/>
                </a:lnTo>
                <a:lnTo>
                  <a:pt x="11525" y="11525"/>
                </a:lnTo>
                <a:lnTo>
                  <a:pt x="21553" y="11525"/>
                </a:lnTo>
                <a:lnTo>
                  <a:pt x="21553" y="11525"/>
                </a:lnTo>
                <a:lnTo>
                  <a:pt x="21600" y="10800"/>
                </a:lnTo>
                <a:lnTo>
                  <a:pt x="21553" y="10075"/>
                </a:lnTo>
                <a:lnTo>
                  <a:pt x="21553" y="10075"/>
                </a:lnTo>
                <a:lnTo>
                  <a:pt x="11525" y="10075"/>
                </a:lnTo>
                <a:lnTo>
                  <a:pt x="11525" y="47"/>
                </a:lnTo>
                <a:lnTo>
                  <a:pt x="11525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Group 16"/>
          <p:cNvGrpSpPr/>
          <p:nvPr/>
        </p:nvGrpSpPr>
        <p:grpSpPr>
          <a:xfrm>
            <a:off x="2981160" y="2525760"/>
            <a:ext cx="1505160" cy="756720"/>
            <a:chOff x="2981160" y="2525760"/>
            <a:chExt cx="1505160" cy="756720"/>
          </a:xfrm>
        </p:grpSpPr>
        <p:sp>
          <p:nvSpPr>
            <p:cNvPr id="47" name="Rectangle 17"/>
            <p:cNvSpPr/>
            <p:nvPr/>
          </p:nvSpPr>
          <p:spPr>
            <a:xfrm>
              <a:off x="3623040" y="2525760"/>
              <a:ext cx="284040" cy="28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Rectangle 18"/>
            <p:cNvSpPr/>
            <p:nvPr/>
          </p:nvSpPr>
          <p:spPr>
            <a:xfrm>
              <a:off x="4023000" y="2998800"/>
              <a:ext cx="284040" cy="283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Rectangle 19"/>
            <p:cNvSpPr/>
            <p:nvPr/>
          </p:nvSpPr>
          <p:spPr>
            <a:xfrm>
              <a:off x="3221640" y="2998800"/>
              <a:ext cx="284040" cy="283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Line 20"/>
            <p:cNvSpPr/>
            <p:nvPr/>
          </p:nvSpPr>
          <p:spPr>
            <a:xfrm>
              <a:off x="2981160" y="2905560"/>
              <a:ext cx="15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Line 21"/>
            <p:cNvSpPr/>
            <p:nvPr/>
          </p:nvSpPr>
          <p:spPr>
            <a:xfrm>
              <a:off x="3359880" y="2905560"/>
              <a:ext cx="0" cy="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Line 22"/>
            <p:cNvSpPr/>
            <p:nvPr/>
          </p:nvSpPr>
          <p:spPr>
            <a:xfrm>
              <a:off x="4158360" y="2905560"/>
              <a:ext cx="0" cy="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Line 23"/>
            <p:cNvSpPr/>
            <p:nvPr/>
          </p:nvSpPr>
          <p:spPr>
            <a:xfrm>
              <a:off x="3761280" y="2809800"/>
              <a:ext cx="0" cy="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" name="AutoShape 29"/>
          <p:cNvSpPr/>
          <p:nvPr/>
        </p:nvSpPr>
        <p:spPr>
          <a:xfrm>
            <a:off x="1009800" y="2722680"/>
            <a:ext cx="879480" cy="135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AutoShape 30"/>
          <p:cNvSpPr/>
          <p:nvPr/>
        </p:nvSpPr>
        <p:spPr>
          <a:xfrm>
            <a:off x="1006560" y="2860560"/>
            <a:ext cx="985680" cy="133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AutoShape 31"/>
          <p:cNvSpPr/>
          <p:nvPr/>
        </p:nvSpPr>
        <p:spPr>
          <a:xfrm>
            <a:off x="1009800" y="2997360"/>
            <a:ext cx="941400" cy="133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32"/>
          <p:cNvSpPr/>
          <p:nvPr/>
        </p:nvSpPr>
        <p:spPr>
          <a:xfrm>
            <a:off x="1017720" y="3135240"/>
            <a:ext cx="857160" cy="111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33"/>
          <p:cNvSpPr/>
          <p:nvPr/>
        </p:nvSpPr>
        <p:spPr>
          <a:xfrm>
            <a:off x="741240" y="2557440"/>
            <a:ext cx="541440" cy="709560"/>
          </a:xfrm>
          <a:custGeom>
            <a:avLst/>
            <a:gdLst>
              <a:gd name="textAreaLeft" fmla="*/ 38880 w 541440"/>
              <a:gd name="textAreaRight" fmla="*/ 502560 w 541440"/>
              <a:gd name="textAreaTop" fmla="*/ 38880 h 709560"/>
              <a:gd name="textAreaBottom" fmla="*/ 670680 h 709560"/>
            </a:gdLst>
            <a:ahLst/>
            <a:rect l="textAreaLeft" t="textAreaTop" r="textAreaRight" b="textAreaBottom"/>
            <a:pathLst>
              <a:path w="21600" h="28302">
                <a:moveTo>
                  <a:pt x="5306" y="0"/>
                </a:moveTo>
                <a:arcTo wR="5306" hR="5306" stAng="16200000" swAng="-5400000"/>
                <a:lnTo>
                  <a:pt x="0" y="22996"/>
                </a:lnTo>
                <a:arcTo wR="5306" hR="5306" stAng="10800000" swAng="-5400000"/>
                <a:lnTo>
                  <a:pt x="16294" y="28302"/>
                </a:lnTo>
                <a:arcTo wR="5306" hR="5306" stAng="5400000" swAng="-5400000"/>
                <a:lnTo>
                  <a:pt x="21600" y="5306"/>
                </a:lnTo>
                <a:arcTo wR="5306" hR="5306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34"/>
          <p:cNvSpPr/>
          <p:nvPr/>
        </p:nvSpPr>
        <p:spPr>
          <a:xfrm>
            <a:off x="434880" y="2625840"/>
            <a:ext cx="549360" cy="577800"/>
          </a:xfrm>
          <a:custGeom>
            <a:avLst/>
            <a:gdLst>
              <a:gd name="textAreaLeft" fmla="*/ 39240 w 549360"/>
              <a:gd name="textAreaRight" fmla="*/ 510120 w 549360"/>
              <a:gd name="textAreaTop" fmla="*/ 39240 h 577800"/>
              <a:gd name="textAreaBottom" fmla="*/ 538560 h 577800"/>
            </a:gdLst>
            <a:ahLst/>
            <a:rect l="textAreaLeft" t="textAreaTop" r="textAreaRight" b="textAreaBottom"/>
            <a:pathLst>
              <a:path w="21600" h="22717">
                <a:moveTo>
                  <a:pt x="5306" y="0"/>
                </a:moveTo>
                <a:arcTo wR="5306" hR="5306" stAng="16200000" swAng="-5400000"/>
                <a:lnTo>
                  <a:pt x="0" y="17411"/>
                </a:lnTo>
                <a:arcTo wR="5306" hR="5306" stAng="10800000" swAng="-5400000"/>
                <a:lnTo>
                  <a:pt x="16294" y="22717"/>
                </a:lnTo>
                <a:arcTo wR="5306" hR="5306" stAng="5400000" swAng="-5400000"/>
                <a:lnTo>
                  <a:pt x="21600" y="5306"/>
                </a:lnTo>
                <a:arcTo wR="5306" hR="5306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" name="Group 35"/>
          <p:cNvGrpSpPr/>
          <p:nvPr/>
        </p:nvGrpSpPr>
        <p:grpSpPr>
          <a:xfrm>
            <a:off x="1266840" y="2452680"/>
            <a:ext cx="485640" cy="820800"/>
            <a:chOff x="1266840" y="2452680"/>
            <a:chExt cx="485640" cy="820800"/>
          </a:xfrm>
        </p:grpSpPr>
        <p:sp>
          <p:nvSpPr>
            <p:cNvPr id="61" name="AutoShape 36"/>
            <p:cNvSpPr/>
            <p:nvPr/>
          </p:nvSpPr>
          <p:spPr>
            <a:xfrm>
              <a:off x="1266840" y="2452680"/>
              <a:ext cx="485640" cy="820800"/>
            </a:xfrm>
            <a:custGeom>
              <a:avLst/>
              <a:gdLst>
                <a:gd name="textAreaLeft" fmla="*/ 23400 w 485640"/>
                <a:gd name="textAreaRight" fmla="*/ 462240 w 485640"/>
                <a:gd name="textAreaTop" fmla="*/ 23400 h 820800"/>
                <a:gd name="textAreaBottom" fmla="*/ 797400 h 820800"/>
              </a:gdLst>
              <a:ahLst/>
              <a:rect l="textAreaLeft" t="textAreaTop" r="textAreaRight" b="textAreaBottom"/>
              <a:pathLst>
                <a:path w="21600" h="36496">
                  <a:moveTo>
                    <a:pt x="3600" y="0"/>
                  </a:moveTo>
                  <a:arcTo wR="3600" hR="3600" stAng="16200000" swAng="-5400000"/>
                  <a:lnTo>
                    <a:pt x="0" y="32896"/>
                  </a:lnTo>
                  <a:arcTo wR="3600" hR="3600" stAng="10800000" swAng="-5400000"/>
                  <a:lnTo>
                    <a:pt x="18000" y="364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AutoShape 37"/>
            <p:cNvSpPr/>
            <p:nvPr/>
          </p:nvSpPr>
          <p:spPr>
            <a:xfrm>
              <a:off x="1337400" y="2530440"/>
              <a:ext cx="342720" cy="2455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Oval 38"/>
            <p:cNvSpPr/>
            <p:nvPr/>
          </p:nvSpPr>
          <p:spPr>
            <a:xfrm>
              <a:off x="1349280" y="2843280"/>
              <a:ext cx="338760" cy="365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Oval 39"/>
            <p:cNvSpPr/>
            <p:nvPr/>
          </p:nvSpPr>
          <p:spPr>
            <a:xfrm>
              <a:off x="1443960" y="2940480"/>
              <a:ext cx="152280" cy="168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AutoShape 40"/>
          <p:cNvSpPr/>
          <p:nvPr/>
        </p:nvSpPr>
        <p:spPr>
          <a:xfrm>
            <a:off x="993600" y="2557440"/>
            <a:ext cx="605160" cy="133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Film"/>
          <p:cNvSpPr/>
          <p:nvPr/>
        </p:nvSpPr>
        <p:spPr>
          <a:xfrm>
            <a:off x="1784520" y="1187280"/>
            <a:ext cx="537840" cy="858960"/>
          </a:xfrm>
          <a:custGeom>
            <a:avLst/>
            <a:gdLst>
              <a:gd name="textAreaLeft" fmla="*/ 123480 w 537840"/>
              <a:gd name="textAreaRight" fmla="*/ 425520 w 537840"/>
              <a:gd name="textAreaTop" fmla="*/ 323280 h 858960"/>
              <a:gd name="textAreaBottom" fmla="*/ 533880 h 85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Lock"/>
          <p:cNvSpPr/>
          <p:nvPr/>
        </p:nvSpPr>
        <p:spPr>
          <a:xfrm>
            <a:off x="2141640" y="1865160"/>
            <a:ext cx="500040" cy="625680"/>
          </a:xfrm>
          <a:custGeom>
            <a:avLst/>
            <a:gdLst>
              <a:gd name="textAreaLeft" fmla="*/ 16920 w 500040"/>
              <a:gd name="textAreaRight" fmla="*/ 489600 w 500040"/>
              <a:gd name="textAreaTop" fmla="*/ 286920 h 625680"/>
              <a:gd name="textAreaBottom" fmla="*/ 444240 h 62568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Sound"/>
          <p:cNvSpPr/>
          <p:nvPr/>
        </p:nvSpPr>
        <p:spPr>
          <a:xfrm>
            <a:off x="2095560" y="893880"/>
            <a:ext cx="747720" cy="568080"/>
          </a:xfrm>
          <a:custGeom>
            <a:avLst/>
            <a:gdLst>
              <a:gd name="textAreaLeft" fmla="*/ 8280 w 747720"/>
              <a:gd name="textAreaRight" fmla="*/ 372600 w 747720"/>
              <a:gd name="textAreaTop" fmla="*/ 199800 h 568080"/>
              <a:gd name="textAreaBottom" fmla="*/ 356400 h 568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hoto"/>
          <p:cNvSpPr/>
          <p:nvPr/>
        </p:nvSpPr>
        <p:spPr>
          <a:xfrm>
            <a:off x="2381400" y="1231920"/>
            <a:ext cx="693720" cy="515880"/>
          </a:xfrm>
          <a:custGeom>
            <a:avLst/>
            <a:gdLst>
              <a:gd name="textAreaLeft" fmla="*/ 249840 w 693720"/>
              <a:gd name="textAreaRight" fmla="*/ 441720 w 693720"/>
              <a:gd name="textAreaTop" fmla="*/ 196560 h 515880"/>
              <a:gd name="textAreaBottom" fmla="*/ 403560 h 51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Music"/>
          <p:cNvSpPr/>
          <p:nvPr/>
        </p:nvSpPr>
        <p:spPr>
          <a:xfrm>
            <a:off x="2460600" y="1535040"/>
            <a:ext cx="569880" cy="498600"/>
          </a:xfrm>
          <a:custGeom>
            <a:avLst/>
            <a:gdLst>
              <a:gd name="textAreaLeft" fmla="*/ 210240 w 569880"/>
              <a:gd name="textAreaRight" fmla="*/ 552600 w 569880"/>
              <a:gd name="textAreaTop" fmla="*/ 21240 h 498600"/>
              <a:gd name="textAreaBottom" fmla="*/ 123480 h 49860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" name="Group 46"/>
          <p:cNvGrpSpPr/>
          <p:nvPr/>
        </p:nvGrpSpPr>
        <p:grpSpPr>
          <a:xfrm>
            <a:off x="2031840" y="3689280"/>
            <a:ext cx="1005840" cy="1137600"/>
            <a:chOff x="2031840" y="3689280"/>
            <a:chExt cx="1005840" cy="1137600"/>
          </a:xfrm>
        </p:grpSpPr>
        <p:grpSp>
          <p:nvGrpSpPr>
            <p:cNvPr id="72" name="Group 47"/>
            <p:cNvGrpSpPr/>
            <p:nvPr/>
          </p:nvGrpSpPr>
          <p:grpSpPr>
            <a:xfrm>
              <a:off x="2031840" y="3689280"/>
              <a:ext cx="737640" cy="934200"/>
              <a:chOff x="2031840" y="3689280"/>
              <a:chExt cx="737640" cy="934200"/>
            </a:xfrm>
          </p:grpSpPr>
          <p:sp>
            <p:nvSpPr>
              <p:cNvPr id="73" name="Rectangle 48"/>
              <p:cNvSpPr/>
              <p:nvPr/>
            </p:nvSpPr>
            <p:spPr>
              <a:xfrm>
                <a:off x="2031840" y="3689280"/>
                <a:ext cx="737640" cy="93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AutoShape 49"/>
              <p:cNvSpPr/>
              <p:nvPr/>
            </p:nvSpPr>
            <p:spPr>
              <a:xfrm>
                <a:off x="2076840" y="3732120"/>
                <a:ext cx="644400" cy="831960"/>
              </a:xfrm>
              <a:custGeom>
                <a:avLst/>
                <a:gdLst>
                  <a:gd name="textAreaLeft" fmla="*/ 31320 w 644400"/>
                  <a:gd name="textAreaRight" fmla="*/ 613080 w 644400"/>
                  <a:gd name="textAreaTop" fmla="*/ 31320 h 831960"/>
                  <a:gd name="textAreaBottom" fmla="*/ 800640 h 831960"/>
                </a:gdLst>
                <a:ahLst/>
                <a:rect l="textAreaLeft" t="textAreaTop" r="textAreaRight" b="textAreaBottom"/>
                <a:pathLst>
                  <a:path w="21600" h="27883">
                    <a:moveTo>
                      <a:pt x="3600" y="0"/>
                    </a:moveTo>
                    <a:arcTo wR="3600" hR="3600" stAng="16200000" swAng="-5400000"/>
                    <a:lnTo>
                      <a:pt x="0" y="24283"/>
                    </a:lnTo>
                    <a:arcTo wR="3600" hR="3600" stAng="10800000" swAng="-5400000"/>
                    <a:lnTo>
                      <a:pt x="18000" y="278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Oval 50"/>
              <p:cNvSpPr/>
              <p:nvPr/>
            </p:nvSpPr>
            <p:spPr>
              <a:xfrm>
                <a:off x="2120400" y="3773880"/>
                <a:ext cx="565560" cy="543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51"/>
              <p:cNvSpPr/>
              <p:nvPr/>
            </p:nvSpPr>
            <p:spPr>
              <a:xfrm rot="2868600">
                <a:off x="2322000" y="4049280"/>
                <a:ext cx="165240" cy="4629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Oval 52"/>
              <p:cNvSpPr/>
              <p:nvPr/>
            </p:nvSpPr>
            <p:spPr>
              <a:xfrm>
                <a:off x="2341800" y="3994920"/>
                <a:ext cx="114120" cy="11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8" name="Rectangle 53"/>
            <p:cNvSpPr/>
            <p:nvPr/>
          </p:nvSpPr>
          <p:spPr>
            <a:xfrm>
              <a:off x="2404800" y="4368600"/>
              <a:ext cx="34092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9" name="Group 54"/>
            <p:cNvGrpSpPr/>
            <p:nvPr/>
          </p:nvGrpSpPr>
          <p:grpSpPr>
            <a:xfrm>
              <a:off x="2406240" y="4428360"/>
              <a:ext cx="631440" cy="398520"/>
              <a:chOff x="2406240" y="4428360"/>
              <a:chExt cx="631440" cy="398520"/>
            </a:xfrm>
          </p:grpSpPr>
          <p:sp>
            <p:nvSpPr>
              <p:cNvPr id="80" name="AutoShape 55"/>
              <p:cNvSpPr/>
              <p:nvPr/>
            </p:nvSpPr>
            <p:spPr>
              <a:xfrm rot="16200000">
                <a:off x="2513160" y="4321440"/>
                <a:ext cx="398520" cy="612360"/>
              </a:xfrm>
              <a:prstGeom prst="foldedCorner">
                <a:avLst>
                  <a:gd name="adj" fmla="val 125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AutoShape 56"/>
              <p:cNvSpPr/>
              <p:nvPr/>
            </p:nvSpPr>
            <p:spPr>
              <a:xfrm>
                <a:off x="2498040" y="4437720"/>
                <a:ext cx="361440" cy="3135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57"/>
              <p:cNvSpPr/>
              <p:nvPr/>
            </p:nvSpPr>
            <p:spPr>
              <a:xfrm>
                <a:off x="2923920" y="4457520"/>
                <a:ext cx="113760" cy="5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58"/>
              <p:cNvSpPr/>
              <p:nvPr/>
            </p:nvSpPr>
            <p:spPr>
              <a:xfrm>
                <a:off x="2923920" y="4527360"/>
                <a:ext cx="113760" cy="5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59"/>
              <p:cNvSpPr/>
              <p:nvPr/>
            </p:nvSpPr>
            <p:spPr>
              <a:xfrm>
                <a:off x="2923920" y="4595400"/>
                <a:ext cx="113760" cy="5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60"/>
              <p:cNvSpPr/>
              <p:nvPr/>
            </p:nvSpPr>
            <p:spPr>
              <a:xfrm>
                <a:off x="2923920" y="4663440"/>
                <a:ext cx="113760" cy="5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61"/>
              <p:cNvSpPr/>
              <p:nvPr/>
            </p:nvSpPr>
            <p:spPr>
              <a:xfrm>
                <a:off x="2923920" y="4734360"/>
                <a:ext cx="113760" cy="5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947880" y="5278320"/>
            <a:ext cx="3127320" cy="1204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1" marL="727920" indent="-2800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2" marL="1119960" indent="-223920">
              <a:spcBef>
                <a:spcPts val="799"/>
              </a:spcBef>
              <a:spcAft>
                <a:spcPts val="601"/>
              </a:spcAft>
              <a:buClr>
                <a:srgbClr val="606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3" marL="1568160" indent="-2239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4" marL="2016000" indent="-2239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5" marL="2016000" indent="-2239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6" marL="2016000" indent="-2239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Myriad We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51000" y="1974600"/>
            <a:ext cx="4172040" cy="18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Unified Scaling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with Adaptive Offset for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Reference Frame Compression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67000" y="5076360"/>
            <a:ext cx="359100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Myriad Web"/>
              </a:rPr>
              <a:t>Dzung Hoang   JCTVC-F075</a:t>
            </a:r>
            <a:endParaRPr b="1" lang="en-US" sz="1800" spc="-1" strike="noStrike">
              <a:solidFill>
                <a:srgbClr val="002060"/>
              </a:solidFill>
              <a:latin typeface="Myriad Web"/>
            </a:endParaRPr>
          </a:p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Myriad Web"/>
              </a:rPr>
              <a:t>July 2011</a:t>
            </a:r>
            <a:endParaRPr b="1" lang="en-US" sz="18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ding Range for Excess-N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Block minimum already coded, so we additionally need to code block maximum.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Code range = max – min using fixed number of bits k (depends upon N). Code k-MSB of range.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Reserve range=0 to flag not to use DPCM.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394000" y="3897360"/>
          <a:ext cx="4356000" cy="2338200"/>
        </p:xfrm>
        <a:graphic>
          <a:graphicData uri="http://schemas.openxmlformats.org/drawingml/2006/table">
            <a:tbl>
              <a:tblPr/>
              <a:tblGrid>
                <a:gridCol w="603000"/>
                <a:gridCol w="1111320"/>
                <a:gridCol w="463680"/>
                <a:gridCol w="647640"/>
                <a:gridCol w="1112760"/>
                <a:gridCol w="4176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for 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for 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-D Storage Format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23880" y="2276640"/>
          <a:ext cx="7894800" cy="2733480"/>
        </p:xfrm>
        <a:graphic>
          <a:graphicData uri="http://schemas.openxmlformats.org/drawingml/2006/table">
            <a:tbl>
              <a:tblPr/>
              <a:tblGrid>
                <a:gridCol w="789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k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* dpcm_flag_range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 ceil(log2(N−6))  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* S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N−S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* M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S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* offset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4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* M_index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(i=0; i&lt;15; i++) u(7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* P array excluding M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-D Compression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Compute S* as with USAO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Attempt to use lower S with DPCM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Myriad Web"/>
              </a:rPr>
              <a:t>search for lowest S such that all deltas can be coded in 7 bits</a:t>
            </a:r>
            <a:endParaRPr b="1" lang="en-US" sz="2800" spc="-1" strike="noStrike">
              <a:solidFill>
                <a:srgbClr val="40404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Myriad Web"/>
              </a:rPr>
              <a:t>found that when DPCM mode is chosen, more than 99% of time S*-1 is used</a:t>
            </a:r>
            <a:endParaRPr b="1" lang="en-US" sz="2800" spc="-1" strike="noStrike">
              <a:solidFill>
                <a:srgbClr val="40404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Myriad Web"/>
              </a:rPr>
              <a:t>so can limit DPCM search to only S*-1 to reduce complexity</a:t>
            </a:r>
            <a:endParaRPr b="1" lang="en-US" sz="2800" spc="-1" strike="noStrike">
              <a:solidFill>
                <a:srgbClr val="40404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 Results for LB-HE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577960"/>
          <a:ext cx="8229600" cy="3014640"/>
        </p:xfrm>
        <a:graphic>
          <a:graphicData uri="http://schemas.openxmlformats.org/drawingml/2006/table">
            <a:tbl>
              <a:tblPr/>
              <a:tblGrid>
                <a:gridCol w="1117440"/>
                <a:gridCol w="792360"/>
                <a:gridCol w="789120"/>
                <a:gridCol w="790560"/>
                <a:gridCol w="788760"/>
                <a:gridCol w="789120"/>
                <a:gridCol w="790560"/>
                <a:gridCol w="790560"/>
                <a:gridCol w="789120"/>
                <a:gridCol w="79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.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6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.4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4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.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4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En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De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3"/>
          <p:cNvSpPr/>
          <p:nvPr/>
        </p:nvSpPr>
        <p:spPr>
          <a:xfrm>
            <a:off x="457200" y="1600200"/>
            <a:ext cx="8236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mpared to HM-3.0-svn-memory anch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-D Results for LB-HE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2577960"/>
          <a:ext cx="8229600" cy="3014640"/>
        </p:xfrm>
        <a:graphic>
          <a:graphicData uri="http://schemas.openxmlformats.org/drawingml/2006/table">
            <a:tbl>
              <a:tblPr/>
              <a:tblGrid>
                <a:gridCol w="1117440"/>
                <a:gridCol w="792360"/>
                <a:gridCol w="789120"/>
                <a:gridCol w="790560"/>
                <a:gridCol w="788760"/>
                <a:gridCol w="789120"/>
                <a:gridCol w="790560"/>
                <a:gridCol w="790560"/>
                <a:gridCol w="789120"/>
                <a:gridCol w="79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.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9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En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De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9" name="Rectangle 3"/>
          <p:cNvSpPr/>
          <p:nvPr/>
        </p:nvSpPr>
        <p:spPr>
          <a:xfrm>
            <a:off x="457200" y="1600200"/>
            <a:ext cx="8236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mpared to HM-3.0-svn-memory anch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 Results for RA-HE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577960"/>
          <a:ext cx="8229600" cy="3014640"/>
        </p:xfrm>
        <a:graphic>
          <a:graphicData uri="http://schemas.openxmlformats.org/drawingml/2006/table">
            <a:tbl>
              <a:tblPr/>
              <a:tblGrid>
                <a:gridCol w="1117440"/>
                <a:gridCol w="792360"/>
                <a:gridCol w="789120"/>
                <a:gridCol w="790560"/>
                <a:gridCol w="788760"/>
                <a:gridCol w="789120"/>
                <a:gridCol w="790560"/>
                <a:gridCol w="790560"/>
                <a:gridCol w="789120"/>
                <a:gridCol w="79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2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En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De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2" name="Rectangle 3"/>
          <p:cNvSpPr/>
          <p:nvPr/>
        </p:nvSpPr>
        <p:spPr>
          <a:xfrm>
            <a:off x="457200" y="1600200"/>
            <a:ext cx="8236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mpared to HM-3.0-svn-memory anch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-D Results for RA-HE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2577960"/>
          <a:ext cx="8229600" cy="3014640"/>
        </p:xfrm>
        <a:graphic>
          <a:graphicData uri="http://schemas.openxmlformats.org/drawingml/2006/table">
            <a:tbl>
              <a:tblPr/>
              <a:tblGrid>
                <a:gridCol w="1117440"/>
                <a:gridCol w="792360"/>
                <a:gridCol w="789120"/>
                <a:gridCol w="790560"/>
                <a:gridCol w="788760"/>
                <a:gridCol w="789120"/>
                <a:gridCol w="790560"/>
                <a:gridCol w="790560"/>
                <a:gridCol w="789120"/>
                <a:gridCol w="79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2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0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En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De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2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3"/>
          <p:cNvSpPr/>
          <p:nvPr/>
        </p:nvSpPr>
        <p:spPr>
          <a:xfrm>
            <a:off x="457200" y="1600200"/>
            <a:ext cx="8236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mpared to HM-3.0-svn-memory anch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nclusion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Designs can support wide range of internal bit depths: 8 &lt; N &lt; 15. Same algorithm is used for all chroma formats.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ding loss for LB-HE of 0.48% (0.35%) for USAO (USAO-D).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ding loss for RA-HE of 0.09% (0.08%) for USAO (USAO-D).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Recommend study in CE with goal of adopting some RFC scheme in next meeting.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We would like to thank Santa Clara University and MediaTek for cross checking.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 Results for LB-HE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2577960"/>
          <a:ext cx="8229600" cy="3014640"/>
        </p:xfrm>
        <a:graphic>
          <a:graphicData uri="http://schemas.openxmlformats.org/drawingml/2006/table">
            <a:tbl>
              <a:tblPr/>
              <a:tblGrid>
                <a:gridCol w="1117440"/>
                <a:gridCol w="792360"/>
                <a:gridCol w="789120"/>
                <a:gridCol w="790560"/>
                <a:gridCol w="788760"/>
                <a:gridCol w="789120"/>
                <a:gridCol w="790560"/>
                <a:gridCol w="790560"/>
                <a:gridCol w="789120"/>
                <a:gridCol w="79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0.3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7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0.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1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6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0.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1.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8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2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8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7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2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6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8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5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7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8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8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4.7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1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5.3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2.7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9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4.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3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8.7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8.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3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En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De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3"/>
          <p:cNvSpPr/>
          <p:nvPr/>
        </p:nvSpPr>
        <p:spPr>
          <a:xfrm>
            <a:off x="457200" y="1600200"/>
            <a:ext cx="8236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mpared to HM-3.0 w/o IBD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-D Results for LB-HE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2577960"/>
          <a:ext cx="8229600" cy="3014640"/>
        </p:xfrm>
        <a:graphic>
          <a:graphicData uri="http://schemas.openxmlformats.org/drawingml/2006/table">
            <a:tbl>
              <a:tblPr/>
              <a:tblGrid>
                <a:gridCol w="1117440"/>
                <a:gridCol w="792360"/>
                <a:gridCol w="789120"/>
                <a:gridCol w="790560"/>
                <a:gridCol w="788760"/>
                <a:gridCol w="789120"/>
                <a:gridCol w="790560"/>
                <a:gridCol w="790560"/>
                <a:gridCol w="789120"/>
                <a:gridCol w="79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7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0.2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0.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1.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7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0.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1.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8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3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8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2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6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7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7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9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8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4.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1.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9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5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2.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6.2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5.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3.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3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8.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8.5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4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4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9.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En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De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3" name="Rectangle 3"/>
          <p:cNvSpPr/>
          <p:nvPr/>
        </p:nvSpPr>
        <p:spPr>
          <a:xfrm>
            <a:off x="457200" y="1600200"/>
            <a:ext cx="8236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mpared to HM-3.0 w/o IBD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Summary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Myriad Web"/>
              </a:rPr>
              <a:t>We propose two variants of reference frame compression (RFC) to:</a:t>
            </a:r>
            <a:endParaRPr b="1" lang="en-US" sz="1800" spc="-1" strike="noStrike">
              <a:solidFill>
                <a:srgbClr val="002060"/>
              </a:solidFill>
              <a:latin typeface="Myriad Web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Myriad Web"/>
              </a:rPr>
              <a:t>code and decode native N-bit video using same frame memory as 8-bit video, or</a:t>
            </a:r>
            <a:endParaRPr b="1" lang="en-US" sz="1600" spc="-1" strike="noStrike">
              <a:solidFill>
                <a:srgbClr val="404040"/>
              </a:solidFill>
              <a:latin typeface="Myriad Web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Myriad Web"/>
              </a:rPr>
              <a:t>code and decode video using N-bit IBDI using same frame memory as 8-bit video</a:t>
            </a:r>
            <a:endParaRPr b="1" lang="en-US" sz="1600" spc="-1" strike="noStrike">
              <a:solidFill>
                <a:srgbClr val="404040"/>
              </a:solidFill>
              <a:latin typeface="Myriad Web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Myriad Web"/>
              </a:rPr>
              <a:t>8 &lt; N &lt; 16</a:t>
            </a:r>
            <a:endParaRPr b="1" lang="en-US" sz="1600" spc="-1" strike="noStrike">
              <a:solidFill>
                <a:srgbClr val="404040"/>
              </a:solidFill>
              <a:latin typeface="Myriad We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Myriad Web"/>
              </a:rPr>
              <a:t>First variant is Unified Scaling with Adaptive Offset (USAO) previously proposed in JCTVC-D035, which is based upon Toshiba’s Adaptive Scaling JCTVC-C075.</a:t>
            </a:r>
            <a:endParaRPr b="1" lang="en-US" sz="18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Myriad Web"/>
              </a:rPr>
              <a:t>Second variant adds DPCM coding and is referred to as USAO-D. Limitation is N &lt; 15.</a:t>
            </a:r>
            <a:endParaRPr b="1" lang="en-US" sz="18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Myriad Web"/>
              </a:rPr>
              <a:t>USAO cross-checked by MediaTek in JCTVC-F079.</a:t>
            </a:r>
            <a:endParaRPr b="1" lang="en-US" sz="18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Myriad Web"/>
              </a:rPr>
              <a:t>USAO-D cross-checked by Santa Clara University in JCTVC-E463.</a:t>
            </a:r>
            <a:endParaRPr b="1" lang="en-US" sz="18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 Results for RA-HE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2577960"/>
          <a:ext cx="8229600" cy="3014640"/>
        </p:xfrm>
        <a:graphic>
          <a:graphicData uri="http://schemas.openxmlformats.org/drawingml/2006/table">
            <a:tbl>
              <a:tblPr/>
              <a:tblGrid>
                <a:gridCol w="1117440"/>
                <a:gridCol w="792360"/>
                <a:gridCol w="789120"/>
                <a:gridCol w="790560"/>
                <a:gridCol w="788760"/>
                <a:gridCol w="789120"/>
                <a:gridCol w="790560"/>
                <a:gridCol w="790560"/>
                <a:gridCol w="789120"/>
                <a:gridCol w="79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4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5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5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4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6.9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5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9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6.9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4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8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1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7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8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8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0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2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9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7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7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5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9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8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9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0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En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De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3"/>
          <p:cNvSpPr/>
          <p:nvPr/>
        </p:nvSpPr>
        <p:spPr>
          <a:xfrm>
            <a:off x="457200" y="1600200"/>
            <a:ext cx="8236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mpared to HM-3.0 w/o IBD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-D Results for RA-HE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2577960"/>
          <a:ext cx="8229600" cy="3014640"/>
        </p:xfrm>
        <a:graphic>
          <a:graphicData uri="http://schemas.openxmlformats.org/drawingml/2006/table">
            <a:tbl>
              <a:tblPr/>
              <a:tblGrid>
                <a:gridCol w="1117440"/>
                <a:gridCol w="792360"/>
                <a:gridCol w="789120"/>
                <a:gridCol w="790560"/>
                <a:gridCol w="788760"/>
                <a:gridCol w="789120"/>
                <a:gridCol w="790560"/>
                <a:gridCol w="790560"/>
                <a:gridCol w="789120"/>
                <a:gridCol w="79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internal bit depth 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9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7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4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7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4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6.8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9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0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5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8.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7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7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8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2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8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8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0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Class 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9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7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0.7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2.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3.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Al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9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4.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0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1.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-5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En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9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Dec Ti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10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9" name="Rectangle 3"/>
          <p:cNvSpPr/>
          <p:nvPr/>
        </p:nvSpPr>
        <p:spPr>
          <a:xfrm>
            <a:off x="457200" y="1600200"/>
            <a:ext cx="8236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mpared to HM-3.0 w/o IBD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actus Luma MSE Histogram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91" name="Rectangle 4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actus Luma MSE Histogram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94" name="Rectangle 4"/>
          <p:cNvGraphicFramePr/>
          <p:nvPr/>
        </p:nvGraphicFramePr>
        <p:xfrm>
          <a:off x="378000" y="2060640"/>
          <a:ext cx="8388000" cy="330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2060640"/>
                    <a:ext cx="838800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Cactus Chroma MSE Histogram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197" name="Rectangle 4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Cactus Chroma MSE Histogram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200" name="Rectangle 4"/>
          <p:cNvGraphicFramePr/>
          <p:nvPr/>
        </p:nvGraphicFramePr>
        <p:xfrm>
          <a:off x="1222200" y="2354400"/>
          <a:ext cx="6697800" cy="214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2354400"/>
                    <a:ext cx="669780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Comments on Cactus Histogram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Histograms indicate MSE=0 (very near lossless) coding for most blocks, especially for chroma.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Maximum Luma MSE = 13, which corresponds to PSNR of 49.03 dB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Myriad Web"/>
              </a:rPr>
              <a:t>PSNR = 10log(1020*1020/13) = 49.03</a:t>
            </a:r>
            <a:endParaRPr b="1" lang="en-US" sz="2800" spc="-1" strike="noStrike">
              <a:solidFill>
                <a:srgbClr val="40404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Maximum Chroma MSE = 3, which corresponds to PSNR of 55.40 dB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Histogram Comparison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Compare histogram of USAO vs. Toshiba Adaptive Scaling with Offset (TASO)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Chosen sequences: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Myriad Web"/>
              </a:rPr>
              <a:t>BQSquare: TASO has lower coding loss</a:t>
            </a:r>
            <a:endParaRPr b="1" lang="en-US" sz="2800" spc="-1" strike="noStrike">
              <a:solidFill>
                <a:srgbClr val="40404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Myriad Web"/>
              </a:rPr>
              <a:t>Vidyo4: USAO has lower coding loss</a:t>
            </a:r>
            <a:endParaRPr b="1" lang="en-US" sz="2800" spc="-1" strike="noStrike">
              <a:solidFill>
                <a:srgbClr val="40404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What is behind the above behavior?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BQSquare Histogram Comparison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207" name="Rectangle 4"/>
          <p:cNvGraphicFramePr/>
          <p:nvPr/>
        </p:nvGraphicFramePr>
        <p:xfrm>
          <a:off x="1228680" y="1376280"/>
          <a:ext cx="6684840" cy="44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8680" y="1376280"/>
                    <a:ext cx="668484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BQSquare Histogram Comparison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210" name="Rectangle 4"/>
          <p:cNvGraphicFramePr/>
          <p:nvPr/>
        </p:nvGraphicFramePr>
        <p:xfrm>
          <a:off x="162000" y="933480"/>
          <a:ext cx="8820000" cy="592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933480"/>
                    <a:ext cx="882000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Unified Scaling with Adaptive Offset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Introduced in JCTVC-D035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Based upon Toshiba JCTVC-C075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Remove fixed rounding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Encoder computes scaling factor S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Encoder computes reconstruction offset as the average of quantizer error and transmits offset using S bits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Encoder computes and transmits the block minimum value (spatial predictor) using N-S bits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BQSquare S Histogram Comparison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213" name="Rectangle 4"/>
          <p:cNvGraphicFramePr/>
          <p:nvPr/>
        </p:nvGraphicFramePr>
        <p:xfrm>
          <a:off x="1800360" y="1697040"/>
          <a:ext cx="5538600" cy="38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1697040"/>
                    <a:ext cx="553860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Vidyo4 Histogram Comparison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216" name="Rectangle 4"/>
          <p:cNvGraphicFramePr/>
          <p:nvPr/>
        </p:nvGraphicFramePr>
        <p:xfrm>
          <a:off x="1455840" y="1555920"/>
          <a:ext cx="622764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555920"/>
                    <a:ext cx="62276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Vidyo4 Histogram Comparison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219" name="Rectangle 4"/>
          <p:cNvGraphicFramePr/>
          <p:nvPr/>
        </p:nvGraphicFramePr>
        <p:xfrm>
          <a:off x="0" y="1014480"/>
          <a:ext cx="9144000" cy="58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14480"/>
                    <a:ext cx="914400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Vidyo4 S Histogram Comparison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graphicFrame>
        <p:nvGraphicFramePr>
          <p:cNvPr id="222" name="Rectangle 4"/>
          <p:cNvGraphicFramePr/>
          <p:nvPr/>
        </p:nvGraphicFramePr>
        <p:xfrm>
          <a:off x="1800360" y="1697040"/>
          <a:ext cx="5538600" cy="38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1697040"/>
                    <a:ext cx="553860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Conclusion from Histogram Study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TASO benefits from putting a hard limit on the maximum MSE with fixed-rounding: observed with BQSquare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USAO and USAO-D benefit from potentially getting lower MSE even with higher S with use of offset: observed with Vidyo4.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Shows potential for merging TASO and USAO/USAO-D to get benefit from both.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Recommend studying USAO/USAO-D, TASO, and merging of them in a CE.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Myriad Web"/>
              </a:rPr>
              <a:t>Technical details of merging to be provided in CE document</a:t>
            </a:r>
            <a:endParaRPr b="1" lang="en-US" sz="2000" spc="-1" strike="noStrike">
              <a:solidFill>
                <a:srgbClr val="40404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 Storage Format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3480"/>
            <a:ext cx="8229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Myriad Web"/>
              </a:rPr>
              <a:t>Store quantizer scale S using 2 to 4 bits, depends on N.</a:t>
            </a:r>
            <a:endParaRPr b="1" lang="en-US" sz="20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Myriad Web"/>
              </a:rPr>
              <a:t>Store minimum and offset using total of N bits.</a:t>
            </a:r>
            <a:endParaRPr b="1" lang="en-US" sz="20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Myriad Web"/>
              </a:rPr>
              <a:t>Indicate position of minimum sample using 4 bits.</a:t>
            </a:r>
            <a:endParaRPr b="1" lang="en-US" sz="20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Myriad Web"/>
              </a:rPr>
              <a:t>Subtract minimum sample value and quantize (right shift by S) to form residuals.</a:t>
            </a:r>
            <a:endParaRPr b="1" lang="en-US" sz="20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Myriad Web"/>
              </a:rPr>
              <a:t>Store 15 residuals using 7 bits.</a:t>
            </a:r>
            <a:endParaRPr b="1" lang="en-US" sz="20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3716280"/>
          <a:ext cx="8229600" cy="2387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u(ceil(log2(N-6)));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/* S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u(N-S);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/* M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u(S);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/* offset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u(4);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/* M_index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for (i=0; i&lt;15; i++) u(8);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Myriad Web"/>
                          <a:ea typeface="Arial"/>
                        </a:rPr>
                        <a:t>/* P residual array */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 Bit Count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28760" y="1881360"/>
          <a:ext cx="6485040" cy="3644640"/>
        </p:xfrm>
        <a:graphic>
          <a:graphicData uri="http://schemas.openxmlformats.org/drawingml/2006/table">
            <a:tbl>
              <a:tblPr/>
              <a:tblGrid>
                <a:gridCol w="1117800"/>
                <a:gridCol w="5367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used per 4×4 block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4080"/>
                          <a:tab algn="l" pos="325440"/>
                          <a:tab algn="l" pos="496800"/>
                          <a:tab algn="l" pos="668160"/>
                          <a:tab algn="l" pos="847800"/>
                          <a:tab algn="l" pos="1679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omputation of Offset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Least squares method yields optimal offset to be average of error.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Empirical data suggests using 7 as rounding constant instead of 8 given in JCTVC-D035: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Myriad Web"/>
              </a:rPr>
              <a:t>offset = (sum(error) + 7) / 16</a:t>
            </a:r>
            <a:endParaRPr b="1" lang="en-US" sz="2800" spc="-1" strike="noStrike">
              <a:solidFill>
                <a:srgbClr val="404040"/>
              </a:solidFill>
              <a:latin typeface="Myriad Web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Myriad Web"/>
              </a:rPr>
              <a:t>Exhaustive search on offset compared to above and did not find any differences.</a:t>
            </a:r>
            <a:endParaRPr b="1" lang="en-US" sz="2800" spc="-1" strike="noStrike">
              <a:solidFill>
                <a:srgbClr val="40404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USAO with DPCM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With USAO, scale factor S decided using block minimum and maximum so that residual can always be coded using 7 bits.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For smoothly varying block content, above decision can be too conservative.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Idea: use DPCM to signal delta between successive pixels. Might be able to use lower S, but not guaranteed.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Myriad Web"/>
              </a:rPr>
              <a:t>Requires a scan pattern and delta coding:</a:t>
            </a:r>
            <a:endParaRPr b="1" lang="en-US" sz="2400" spc="-1" strike="noStrike">
              <a:solidFill>
                <a:srgbClr val="002060"/>
              </a:solidFill>
              <a:latin typeface="Myriad We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Myriad Web"/>
              </a:rPr>
              <a:t>scan start at minimum pixel and cyclic scan</a:t>
            </a:r>
            <a:endParaRPr b="1" lang="en-US" sz="2000" spc="-1" strike="noStrike">
              <a:solidFill>
                <a:srgbClr val="404040"/>
              </a:solidFill>
              <a:latin typeface="Myriad We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Myriad Web"/>
              </a:rPr>
              <a:t>use adaptive excess-N to code delta using 7 bits</a:t>
            </a:r>
            <a:endParaRPr b="1" lang="en-US" sz="2000" spc="-1" strike="noStrike">
              <a:solidFill>
                <a:srgbClr val="404040"/>
              </a:solidFill>
              <a:latin typeface="Myriad Web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06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Cyclic Scan Pattern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yriad Web"/>
              </a:rPr>
              <a:t>Use cyclic scan pattern so that every delta is computed on adjacent pixels when we start with minimum pixel.</a:t>
            </a:r>
            <a:endParaRPr b="1" lang="en-US" sz="32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193920" y="3284640"/>
          <a:ext cx="275436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3920" y="3284640"/>
                    <a:ext cx="275436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158760"/>
            <a:ext cx="5530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Adaptive Excess-N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yriad Web"/>
              </a:rPr>
              <a:t>Idea: make best use of 7 bits to code differences when we know block minimum and maximum.</a:t>
            </a:r>
            <a:endParaRPr b="1" lang="en-US" sz="2800" spc="-1" strike="noStrike">
              <a:solidFill>
                <a:srgbClr val="002060"/>
              </a:solidFill>
              <a:latin typeface="Myriad Web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cur_pel = (sample at current scan position) &gt;&gt; S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prev_pel = (sample at previous scan position) &gt;&gt; S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min_delta = −64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if (coded_min − prev_ pel &gt; −64)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Myriad Web"/>
              </a:rPr>
              <a:t>min_delta = coded_min − prev_pel</a:t>
            </a:r>
            <a:endParaRPr b="0" lang="en-US" sz="2000" spc="-1" strike="noStrike">
              <a:solidFill>
                <a:srgbClr val="606060"/>
              </a:solidFill>
              <a:latin typeface="Myriad Web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else if (coded_max − prev_ pel &lt; 63)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6060"/>
                </a:solidFill>
                <a:latin typeface="Myriad Web"/>
              </a:rPr>
              <a:t>min_delta = coded_max − prev_pel − 127</a:t>
            </a:r>
            <a:endParaRPr b="0" lang="en-US" sz="2000" spc="-1" strike="noStrike">
              <a:solidFill>
                <a:srgbClr val="606060"/>
              </a:solidFill>
              <a:latin typeface="Myriad Web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Myriad Web"/>
              </a:rPr>
              <a:t>delta = (cur_pel − prev_pel − min_delta)</a:t>
            </a:r>
            <a:endParaRPr b="1" lang="en-US" sz="2400" spc="-1" strike="noStrike">
              <a:solidFill>
                <a:srgbClr val="404040"/>
              </a:solidFill>
              <a:latin typeface="Myriad W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6:21:05Z</dcterms:created>
  <dc:creator>tony</dc:creator>
  <dc:description/>
  <dc:language>en-US</dc:language>
  <cp:lastModifiedBy>Dzung Hoang</cp:lastModifiedBy>
  <dcterms:modified xsi:type="dcterms:W3CDTF">2011-07-19T09:40:06Z</dcterms:modified>
  <cp:revision>969</cp:revision>
  <dc:subject/>
  <dc:title>Xilient</dc:title>
</cp:coreProperties>
</file>