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489B-FF94-4235-83CE-E8E7D2C1E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20D6-D0CC-458E-9324-C981B3597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77B83-084B-4D0C-A6EB-966F8F74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FA20D-27CE-4EA4-9B48-D7ACF81F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F7787-A11B-4F74-AB52-8F87257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7673F-74C8-4CE9-9433-45103477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2C9E3-2514-4CB1-BF76-E4B15DFA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2D8A1-3F2E-4064-A350-D1ADF6A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BD271-2C9F-46E6-8D0D-27B0FABB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55EF5-5738-4811-A379-09092670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B280B-7CCD-49B3-99AF-2469D146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D0ACB-A194-45A2-B336-23BD47B0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99C10-D6A5-4A22-A9F7-C1EA1D1F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FFBAB-5AF5-4D9C-9DB3-4D9BFE73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B55C0-10F1-4B49-BFBB-C86F4B13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6275C-4E5E-4412-8B66-FEFD1112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48D34-D204-49A7-B1B6-CE30C756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E9EFD-A636-46F0-BC99-7C4C0DD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39898-A449-4CEE-B697-A360F0D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03261-4958-4223-8D1A-BFD37F10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A36F1-E8C6-43A2-BC3E-163A3CF2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14694-DB78-464E-B2AF-B2DB3C05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334F1-CBEB-420C-A26D-57E4C76D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9D5DD-00B4-4E61-8B88-48ABEEA7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D320F-7B17-4739-B384-A5BD6964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7F338-C8F2-4A57-B529-15B1F1B7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B3178-E940-46BA-85E1-945EB582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26F56-8519-47DA-B517-ED4934E5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704F3-88FF-4FD2-B659-78942C1E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7ABF0-70B6-4CBB-A3FA-1B0CE78C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E942C-3E28-4C63-ADF9-76BCFC61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B409F-FC3E-4857-A90E-F9903F7E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F02-AA7F-4930-8214-49B7BA7F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07CBC-3A49-41C3-9255-56F49ECD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CA496-AD40-4619-8DE0-D744F2AC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71715-30F3-4F8C-A6F3-22540CC3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F1B-BC6D-4A3B-B39A-08922FA7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246-2534-47F2-8A64-1041B574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06B-E075-4549-B4C1-CE86C6DD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806-581B-4DE8-8822-DADA4C17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E11-8109-41C5-BE94-E8E6AF72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DC9-6CA1-4846-9687-19A789BE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5D5-DAA4-4B5F-B935-A02C5761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F18-D4B6-4CE0-A41D-2BE5E075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67C-9486-40D0-95BF-5DAF198A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287-5641-40A6-B511-F395E34E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02F-6108-488C-8496-B84F1C0C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B5FF-E58E-48AF-BA21-ABABFFF6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8207-1FD9-4AFA-B696-3C58117E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A123-2550-4ECD-8A98-F77BBC56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6C90-9B2E-49A5-844E-F22BDF9E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EA2C-FB73-4436-AC0D-80581C43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2956-F0EF-4498-9727-740B08FF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5AD0-F2D9-4A3F-A714-2D3AB794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E698-8847-4C63-B45E-03F6FB17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5E15-9C1B-4270-A729-31E93537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7759-1A11-4010-8FDB-AE690218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AB83-D658-4054-88B7-DEFF13BC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148B-5909-4314-AA7F-C271CF03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80F1-6049-452F-ADAE-9CB1D664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DB20-7834-407B-9FB9-A42A3FDC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2D1B-116C-4141-9FF3-9B0AFF90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7884-D331-4BCE-BA75-99348B87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F3D06-0385-4CFB-8BD9-5F8DA9F5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4832-AEF7-4F43-B5F3-B6D94F40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CBDF-6891-4376-B3E3-35CA466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2733-4C40-40BB-B49D-7576B1B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DF5F-6BD8-4415-A226-A009399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D8F6-920E-4F2C-ABE0-DC0CBDB5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0A49-1B32-4CEA-8D34-A425306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43DF-C6A0-4AC1-A112-F9041D12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8757-B236-435F-8AE4-C24709DF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56DB-AFB4-46D9-B69E-4AD3BE07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F5A0-30E4-4C69-9984-32CEA238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7BE3-DD6C-4E3C-B744-1FAE1F44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CDCF-F31B-4DD6-9239-3ABEFBCC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F980-DD5A-42EC-BCD7-A3D6202D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1CAF-76EF-441D-836A-125E70F8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E588-468C-40BE-8272-0B49000C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5F3BB-B87B-484C-93EC-A4B1F593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5695-04A7-4167-BB79-69A160C6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7EDC6-0453-43C3-B0C2-732D43EF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BEAA4-EA3D-425E-90B7-13CBDFAD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BFD1-8AC0-4B95-ADBB-9914B5D5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B84A4-D1C5-4941-A4BF-C680A204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E769-65BB-431C-98D5-F8986BE6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15239-2879-4EF8-8D00-3C9EAFB6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1703-DD48-4EFA-9D53-E2B20115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4FC0C-7FD1-4688-9441-7A6C75FD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28CA8-330C-4C46-B936-F5F2267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9BBD-6FC1-4C09-9997-A2B03D17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76B3-F65A-45C8-95C8-7817CED3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F339-E049-4354-9F05-F340714E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C649C-1C63-46BD-A72A-487DB64A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7388F-392C-4C27-BA3C-CD6A320C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EB4E-FA20-4222-B09D-541C05C8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E3403-51F3-47E3-BE09-6B6A6336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84EA6-A7E0-422E-B8B8-BCCB557F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85478-E97F-4B81-A9F7-3ACC9E10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AEA8A-B622-4230-ADCF-7B30D480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91EA-6CF1-40F4-85FC-9F6F587F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55A2A-561B-43EA-8A24-E55F79A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75521-CAE0-4123-A59E-F22A095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83CF3-4B78-4CAA-8DCE-62405818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C5CA6-11B7-4E53-B4CC-D9AA58E3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4A298-5368-476F-BF05-1344FA55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C95F8-D00B-4ADC-AA08-C467D088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9E374-DE73-4E43-8FBA-4455291B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78A3C-2C5C-4E22-AC2A-97F38D7A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079E6-00B4-40D4-BD23-C60763C3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952E-67C5-4B17-AAFA-B550D807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98C9F-676A-47AF-BB06-B995A870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4FBF3-52A4-44B4-B08C-0F665A4B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4C8CD-B1A8-4AF7-A9FB-89A242D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A2EC4-047F-4CD6-BD9B-469C09D0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FA50A-3465-4593-9C6D-BEDBE6F7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73AF8-C169-4072-A3E3-CE39402E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6DD7E-D8D7-4C41-843A-BADC3237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5953F-FD5F-40F8-805C-D6649894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9719E-E197-449F-9EAF-7B63CB77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CEC16-684E-4C4C-A873-56B70C5D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7C3BF-56F6-4091-952C-35BF7400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5897-4ECB-44EC-A77F-BB9F7E4F0070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8859-9C32-4A9C-8455-FEC367C08CEE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3DDC-339D-414A-B643-E8AAEA389E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7215-3B4F-4A2D-84F7-A267E2F4B6DB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2506-00E0-4DD4-8432-521DDB873B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62E3-B2B5-42FC-A83A-587115E7D7AF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35A9-0EC6-4DC5-8337-0CDF9F28FE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CFAB-7D64-4D1D-954B-9AC4A730B2B5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8371-1583-4747-82DB-48BAA49309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2DDE-89F5-4BF3-BA35-71DF544C6D61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6ED9-1F88-4666-9730-48155F3C18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CD4B-8308-4244-A3B2-42AFD7031536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DC25-F6D7-42E2-A3F0-2E1C489C51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63F5-C6F7-4884-A370-DAF3FAC14F76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5D1E-8957-4608-B294-D93AADF679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50AF-DE9E-4A4B-9AFC-F418EC0A8375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A904-EC91-4F9D-A2EA-652DDC5B22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07A0-45AE-4C22-9555-4C9B56D70DEF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A7B8-D738-4106-B8D9-4F90434270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7"/>
          <p:cNvSpPr/>
          <p:nvPr/>
        </p:nvSpPr>
        <p:spPr>
          <a:xfrm>
            <a:off x="4572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6a6a6"/>
                </a:solidFill>
                <a:latin typeface="Calibri"/>
              </a:rPr>
              <a:t>6th JCT-VC Meeting: Torino, IT, 14-22 July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82296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D577-4912-433C-BAEE-639C74DD580C}" type="slidenum">
              <a:rPr b="0" i="1" lang="en-US" sz="18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8340-0804-477E-BCE1-E1F3F23AE8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mmended Complexity Assessment 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niele Alfonso, STMicroelectro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CTVC-F0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xity” = amount of resources consumed to realize and operate a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xity assessment methodology based on three kinds of system modeling: algorithmic, software and hardw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lexity Assessment AhG recommends to adopt the proposed methodology as JCT-VC project management practice for the HEVC standardization pro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ontribution addresses the first two mandates of the Complexity Assessment AhG, which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mmarize and evaluate the various complexity assessment methods with regard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ational complexit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llelism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bandwidt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capacit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namic range requirement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other aspects of complexity identified as being of intere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nd propose a set of general measurement metr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4343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composition of interacting elements with the purpose of applying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order to produce a certain result or solve a certain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amount of resources consumed to realize and operate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3" name="Group 11"/>
          <p:cNvGrpSpPr/>
          <p:nvPr/>
        </p:nvGrpSpPr>
        <p:grpSpPr>
          <a:xfrm>
            <a:off x="1523880" y="1219320"/>
            <a:ext cx="6019920" cy="2723760"/>
            <a:chOff x="1523880" y="1219320"/>
            <a:chExt cx="6019920" cy="2723760"/>
          </a:xfrm>
        </p:grpSpPr>
        <p:grpSp>
          <p:nvGrpSpPr>
            <p:cNvPr id="484" name="Group 8"/>
            <p:cNvGrpSpPr/>
            <p:nvPr/>
          </p:nvGrpSpPr>
          <p:grpSpPr>
            <a:xfrm>
              <a:off x="1523880" y="2866320"/>
              <a:ext cx="6019920" cy="1076760"/>
              <a:chOff x="1523880" y="2866320"/>
              <a:chExt cx="6019920" cy="1076760"/>
            </a:xfrm>
          </p:grpSpPr>
          <p:sp>
            <p:nvSpPr>
              <p:cNvPr id="485" name="Rounded Rectangle 3"/>
              <p:cNvSpPr/>
              <p:nvPr/>
            </p:nvSpPr>
            <p:spPr>
              <a:xfrm>
                <a:off x="2727720" y="2866320"/>
                <a:ext cx="2281320" cy="1076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SYSTEM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Right Arrow 4"/>
              <p:cNvSpPr/>
              <p:nvPr/>
            </p:nvSpPr>
            <p:spPr>
              <a:xfrm>
                <a:off x="1967400" y="3182760"/>
                <a:ext cx="760320" cy="443160"/>
              </a:xfrm>
              <a:prstGeom prst="rightArrow">
                <a:avLst>
                  <a:gd name="adj1" fmla="val 50000"/>
                  <a:gd name="adj2" fmla="val 5004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ight Arrow 5"/>
              <p:cNvSpPr/>
              <p:nvPr/>
            </p:nvSpPr>
            <p:spPr>
              <a:xfrm>
                <a:off x="5009040" y="3182760"/>
                <a:ext cx="760320" cy="443160"/>
              </a:xfrm>
              <a:prstGeom prst="rightArrow">
                <a:avLst>
                  <a:gd name="adj1" fmla="val 50000"/>
                  <a:gd name="adj2" fmla="val 5004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TextBox 6"/>
              <p:cNvSpPr/>
              <p:nvPr/>
            </p:nvSpPr>
            <p:spPr>
              <a:xfrm>
                <a:off x="1523880" y="3049920"/>
                <a:ext cx="44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TextBox 7"/>
              <p:cNvSpPr/>
              <p:nvPr/>
            </p:nvSpPr>
            <p:spPr>
              <a:xfrm>
                <a:off x="5769720" y="3056400"/>
                <a:ext cx="177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Y=</a:t>
                </a:r>
                <a:r>
                  <a:rPr b="0" i="1" lang="en-US" sz="3600" spc="-1" strike="noStrike">
                    <a:solidFill>
                      <a:srgbClr val="000000"/>
                    </a:solidFill>
                    <a:latin typeface="Calibri"/>
                  </a:rPr>
                  <a:t>f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(X)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Cloud Callout 9"/>
            <p:cNvSpPr/>
            <p:nvPr/>
          </p:nvSpPr>
          <p:spPr>
            <a:xfrm>
              <a:off x="3741840" y="1219320"/>
              <a:ext cx="2471400" cy="1330200"/>
            </a:xfrm>
            <a:prstGeom prst="cloudCallout">
              <a:avLst>
                <a:gd name="adj1" fmla="val -23657"/>
                <a:gd name="adj2" fmla="val 81157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ROCES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ources consum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tatic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resources needed to realize the system, like silicon footprint, memory size, number of elementary processing units, et cet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ources consum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ynamic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resources needed to operate the system, in particular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mput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amount of elementary operations performed per time unit) and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mmunic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amount of data transferred per time unit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4648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ame problem can be solved with several different systems, each one characterized by a different complex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n exhaustive complexity assessment we need to consider several different implement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25"/>
          <p:cNvGrpSpPr/>
          <p:nvPr/>
        </p:nvGrpSpPr>
        <p:grpSpPr>
          <a:xfrm>
            <a:off x="1066680" y="1081080"/>
            <a:ext cx="6717240" cy="3159000"/>
            <a:chOff x="1066680" y="1081080"/>
            <a:chExt cx="6717240" cy="3159000"/>
          </a:xfrm>
        </p:grpSpPr>
        <p:sp>
          <p:nvSpPr>
            <p:cNvPr id="496" name="Rounded Rectangle 22"/>
            <p:cNvSpPr/>
            <p:nvPr/>
          </p:nvSpPr>
          <p:spPr>
            <a:xfrm>
              <a:off x="1066680" y="2976480"/>
              <a:ext cx="5117760" cy="1263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Rounded Rectangle 21"/>
            <p:cNvSpPr/>
            <p:nvPr/>
          </p:nvSpPr>
          <p:spPr>
            <a:xfrm>
              <a:off x="4415400" y="1586520"/>
              <a:ext cx="2148120" cy="1200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8" name="Group 20"/>
            <p:cNvGrpSpPr/>
            <p:nvPr/>
          </p:nvGrpSpPr>
          <p:grpSpPr>
            <a:xfrm>
              <a:off x="1256040" y="1649520"/>
              <a:ext cx="5167800" cy="2455920"/>
              <a:chOff x="1256040" y="1649520"/>
              <a:chExt cx="5167800" cy="2455920"/>
            </a:xfrm>
          </p:grpSpPr>
          <p:sp>
            <p:nvSpPr>
              <p:cNvPr id="499" name="Rounded Rectangle 13"/>
              <p:cNvSpPr/>
              <p:nvPr/>
            </p:nvSpPr>
            <p:spPr>
              <a:xfrm>
                <a:off x="1528560" y="3060720"/>
                <a:ext cx="1489320" cy="772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Rounded Rectangle 12"/>
              <p:cNvSpPr/>
              <p:nvPr/>
            </p:nvSpPr>
            <p:spPr>
              <a:xfrm>
                <a:off x="1437480" y="3151800"/>
                <a:ext cx="1489320" cy="772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Rounded Rectangle 11"/>
              <p:cNvSpPr/>
              <p:nvPr/>
            </p:nvSpPr>
            <p:spPr>
              <a:xfrm>
                <a:off x="1346760" y="3242520"/>
                <a:ext cx="1489320" cy="772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ounded Rectangle 3"/>
              <p:cNvSpPr/>
              <p:nvPr/>
            </p:nvSpPr>
            <p:spPr>
              <a:xfrm>
                <a:off x="1256040" y="3333240"/>
                <a:ext cx="1489320" cy="772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(s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Cloud Callout 9"/>
              <p:cNvSpPr/>
              <p:nvPr/>
            </p:nvSpPr>
            <p:spPr>
              <a:xfrm>
                <a:off x="1842120" y="1649520"/>
                <a:ext cx="1911960" cy="1029600"/>
              </a:xfrm>
              <a:prstGeom prst="cloudCallout">
                <a:avLst>
                  <a:gd name="adj1" fmla="val -23657"/>
                  <a:gd name="adj2" fmla="val 81157"/>
                </a:avLst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in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Rounded Rectangle 15"/>
              <p:cNvSpPr/>
              <p:nvPr/>
            </p:nvSpPr>
            <p:spPr>
              <a:xfrm>
                <a:off x="4198320" y="3060720"/>
                <a:ext cx="1489320" cy="772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Rounded Rectangle 16"/>
              <p:cNvSpPr/>
              <p:nvPr/>
            </p:nvSpPr>
            <p:spPr>
              <a:xfrm>
                <a:off x="4107240" y="3151800"/>
                <a:ext cx="1489320" cy="772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Rounded Rectangle 17"/>
              <p:cNvSpPr/>
              <p:nvPr/>
            </p:nvSpPr>
            <p:spPr>
              <a:xfrm>
                <a:off x="4016520" y="3242520"/>
                <a:ext cx="1489320" cy="772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ncoder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Rounded Rectangle 18"/>
              <p:cNvSpPr/>
              <p:nvPr/>
            </p:nvSpPr>
            <p:spPr>
              <a:xfrm>
                <a:off x="3925440" y="3333240"/>
                <a:ext cx="1489320" cy="772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decoder(s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Cloud Callout 19"/>
              <p:cNvSpPr/>
              <p:nvPr/>
            </p:nvSpPr>
            <p:spPr>
              <a:xfrm>
                <a:off x="4511880" y="1649520"/>
                <a:ext cx="1911960" cy="1029600"/>
              </a:xfrm>
              <a:prstGeom prst="cloudCallout">
                <a:avLst>
                  <a:gd name="adj1" fmla="val -23657"/>
                  <a:gd name="adj2" fmla="val 81157"/>
                </a:avLst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EV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decodin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9" name="TextBox 23"/>
            <p:cNvSpPr/>
            <p:nvPr/>
          </p:nvSpPr>
          <p:spPr>
            <a:xfrm>
              <a:off x="6278760" y="1081080"/>
              <a:ext cx="1505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Scope of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standardiz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TextBox 24"/>
            <p:cNvSpPr/>
            <p:nvPr/>
          </p:nvSpPr>
          <p:spPr>
            <a:xfrm>
              <a:off x="6223320" y="3166200"/>
              <a:ext cx="1145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Scope of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complexity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assess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e Level Complexity Assess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Group 19"/>
          <p:cNvGrpSpPr/>
          <p:nvPr/>
        </p:nvGrpSpPr>
        <p:grpSpPr>
          <a:xfrm>
            <a:off x="533520" y="1295280"/>
            <a:ext cx="8076960" cy="4648320"/>
            <a:chOff x="533520" y="1295280"/>
            <a:chExt cx="8076960" cy="4648320"/>
          </a:xfrm>
        </p:grpSpPr>
        <p:sp>
          <p:nvSpPr>
            <p:cNvPr id="513" name="Rounded Rectangle 18"/>
            <p:cNvSpPr/>
            <p:nvPr/>
          </p:nvSpPr>
          <p:spPr>
            <a:xfrm>
              <a:off x="6019920" y="1295280"/>
              <a:ext cx="2590560" cy="4648320"/>
            </a:xfrm>
            <a:custGeom>
              <a:avLst/>
              <a:gdLst>
                <a:gd name="textAreaLeft" fmla="*/ 126360 w 2590560"/>
                <a:gd name="textAreaRight" fmla="*/ 2464200 w 2590560"/>
                <a:gd name="textAreaTop" fmla="*/ 126360 h 4648320"/>
                <a:gd name="textAreaBottom" fmla="*/ 4521960 h 4648320"/>
              </a:gdLst>
              <a:ahLst/>
              <a:rect l="textAreaLeft" t="textAreaTop" r="textAreaRight" b="textAreaBottom"/>
              <a:pathLst>
                <a:path w="21600" h="38755">
                  <a:moveTo>
                    <a:pt x="3600" y="0"/>
                  </a:moveTo>
                  <a:arcTo wR="3600" hR="3600" stAng="16200000" swAng="-5400000"/>
                  <a:lnTo>
                    <a:pt x="0" y="35155"/>
                  </a:lnTo>
                  <a:arcTo wR="3600" hR="3600" stAng="10800000" swAng="-5400000"/>
                  <a:lnTo>
                    <a:pt x="18000" y="38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Rounded Rectangle 17"/>
            <p:cNvSpPr/>
            <p:nvPr/>
          </p:nvSpPr>
          <p:spPr>
            <a:xfrm>
              <a:off x="3276720" y="1295280"/>
              <a:ext cx="2590560" cy="4648320"/>
            </a:xfrm>
            <a:custGeom>
              <a:avLst/>
              <a:gdLst>
                <a:gd name="textAreaLeft" fmla="*/ 126360 w 2590560"/>
                <a:gd name="textAreaRight" fmla="*/ 2464200 w 2590560"/>
                <a:gd name="textAreaTop" fmla="*/ 126360 h 4648320"/>
                <a:gd name="textAreaBottom" fmla="*/ 4521960 h 4648320"/>
              </a:gdLst>
              <a:ahLst/>
              <a:rect l="textAreaLeft" t="textAreaTop" r="textAreaRight" b="textAreaBottom"/>
              <a:pathLst>
                <a:path w="21600" h="38755">
                  <a:moveTo>
                    <a:pt x="3600" y="0"/>
                  </a:moveTo>
                  <a:arcTo wR="3600" hR="3600" stAng="16200000" swAng="-5400000"/>
                  <a:lnTo>
                    <a:pt x="0" y="35155"/>
                  </a:lnTo>
                  <a:arcTo wR="3600" hR="3600" stAng="10800000" swAng="-5400000"/>
                  <a:lnTo>
                    <a:pt x="18000" y="38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Rounded Rectangle 16"/>
            <p:cNvSpPr/>
            <p:nvPr/>
          </p:nvSpPr>
          <p:spPr>
            <a:xfrm>
              <a:off x="533520" y="1295280"/>
              <a:ext cx="2590560" cy="4648320"/>
            </a:xfrm>
            <a:custGeom>
              <a:avLst/>
              <a:gdLst>
                <a:gd name="textAreaLeft" fmla="*/ 126360 w 2590560"/>
                <a:gd name="textAreaRight" fmla="*/ 2464200 w 2590560"/>
                <a:gd name="textAreaTop" fmla="*/ 126360 h 4648320"/>
                <a:gd name="textAreaBottom" fmla="*/ 4521960 h 4648320"/>
              </a:gdLst>
              <a:ahLst/>
              <a:rect l="textAreaLeft" t="textAreaTop" r="textAreaRight" b="textAreaBottom"/>
              <a:pathLst>
                <a:path w="21600" h="38755">
                  <a:moveTo>
                    <a:pt x="3600" y="0"/>
                  </a:moveTo>
                  <a:arcTo wR="3600" hR="3600" stAng="16200000" swAng="-5400000"/>
                  <a:lnTo>
                    <a:pt x="0" y="35155"/>
                  </a:lnTo>
                  <a:arcTo wR="3600" hR="3600" stAng="10800000" swAng="-5400000"/>
                  <a:lnTo>
                    <a:pt x="18000" y="38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Rounded Rectangle 4"/>
            <p:cNvSpPr/>
            <p:nvPr/>
          </p:nvSpPr>
          <p:spPr>
            <a:xfrm>
              <a:off x="914400" y="47242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Abstrac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Rounded Rectangle 6"/>
            <p:cNvSpPr/>
            <p:nvPr/>
          </p:nvSpPr>
          <p:spPr>
            <a:xfrm>
              <a:off x="3657600" y="47242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GP CPU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Rounded Rectangle 8"/>
            <p:cNvSpPr/>
            <p:nvPr/>
          </p:nvSpPr>
          <p:spPr>
            <a:xfrm>
              <a:off x="6400800" y="47242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Rounded Rectangle 10"/>
            <p:cNvSpPr/>
            <p:nvPr/>
          </p:nvSpPr>
          <p:spPr>
            <a:xfrm>
              <a:off x="762120" y="1599840"/>
              <a:ext cx="2133360" cy="838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bstract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Rounded Rectangle 11"/>
            <p:cNvSpPr/>
            <p:nvPr/>
          </p:nvSpPr>
          <p:spPr>
            <a:xfrm>
              <a:off x="3505320" y="1599840"/>
              <a:ext cx="2133360" cy="83808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Software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Right Arrow 13"/>
            <p:cNvSpPr/>
            <p:nvPr/>
          </p:nvSpPr>
          <p:spPr>
            <a:xfrm rot="5400000">
              <a:off x="1370880" y="3962160"/>
              <a:ext cx="914400" cy="609480"/>
            </a:xfrm>
            <a:prstGeom prst="rightArrow">
              <a:avLst>
                <a:gd name="adj1" fmla="val 50000"/>
                <a:gd name="adj2" fmla="val 5001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Right Arrow 14"/>
            <p:cNvSpPr/>
            <p:nvPr/>
          </p:nvSpPr>
          <p:spPr>
            <a:xfrm rot="5400000">
              <a:off x="4114080" y="3962160"/>
              <a:ext cx="914400" cy="609480"/>
            </a:xfrm>
            <a:prstGeom prst="rightArrow">
              <a:avLst>
                <a:gd name="adj1" fmla="val 50000"/>
                <a:gd name="adj2" fmla="val 5001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Right Arrow 15"/>
            <p:cNvSpPr/>
            <p:nvPr/>
          </p:nvSpPr>
          <p:spPr>
            <a:xfrm rot="5400000">
              <a:off x="6857280" y="3962160"/>
              <a:ext cx="914400" cy="609480"/>
            </a:xfrm>
            <a:prstGeom prst="rightArrow">
              <a:avLst>
                <a:gd name="adj1" fmla="val 50000"/>
                <a:gd name="adj2" fmla="val 50010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Rounded Rectangle 12"/>
            <p:cNvSpPr/>
            <p:nvPr/>
          </p:nvSpPr>
          <p:spPr>
            <a:xfrm>
              <a:off x="6248520" y="1599840"/>
              <a:ext cx="2133360" cy="83808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Hardware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Rounded Rectangle 5"/>
            <p:cNvSpPr/>
            <p:nvPr/>
          </p:nvSpPr>
          <p:spPr>
            <a:xfrm>
              <a:off x="3657600" y="28954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oftwa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Rounded Rectangle 3"/>
            <p:cNvSpPr/>
            <p:nvPr/>
          </p:nvSpPr>
          <p:spPr>
            <a:xfrm>
              <a:off x="914400" y="28954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Algorithmic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Rounded Rectangle 7"/>
            <p:cNvSpPr/>
            <p:nvPr/>
          </p:nvSpPr>
          <p:spPr>
            <a:xfrm>
              <a:off x="6400800" y="2895480"/>
              <a:ext cx="18288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Hardwa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tract 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352320" y="1447560"/>
            <a:ext cx="5334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gorithmic model executed over abstract architec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lexity assessment perform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lgorithmic analy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lementary arithmetic operations cou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orage memory requir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lementary data transfer operations cou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complexity dimen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umber of processing stages, to understand pipelining possibiliti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ata dependency analysis, to understand possibility of data paralleliz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ark: average, worst-case and best-case analysis recommend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ounded Rectangle 3"/>
          <p:cNvSpPr/>
          <p:nvPr/>
        </p:nvSpPr>
        <p:spPr>
          <a:xfrm>
            <a:off x="228600" y="1447920"/>
            <a:ext cx="2743200" cy="45720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4572000"/>
              <a:gd name="textAreaBottom" fmla="*/ 4438080 h 4572000"/>
            </a:gdLst>
            <a:ahLst/>
            <a:rect l="textAreaLeft" t="textAreaTop" r="textAreaRight" b="textAreaBottom"/>
            <a:pathLst>
              <a:path w="21600" h="35998">
                <a:moveTo>
                  <a:pt x="3600" y="0"/>
                </a:moveTo>
                <a:arcTo wR="3600" hR="3600" stAng="16200000" swAng="-5400000"/>
                <a:lnTo>
                  <a:pt x="0" y="32398"/>
                </a:lnTo>
                <a:arcTo wR="3600" hR="3600" stAng="10800000" swAng="-5400000"/>
                <a:lnTo>
                  <a:pt x="18000" y="35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ounded Rectangle 4"/>
          <p:cNvSpPr/>
          <p:nvPr/>
        </p:nvSpPr>
        <p:spPr>
          <a:xfrm>
            <a:off x="685800" y="480060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ounded Rectangle 5"/>
          <p:cNvSpPr/>
          <p:nvPr/>
        </p:nvSpPr>
        <p:spPr>
          <a:xfrm>
            <a:off x="533520" y="1676520"/>
            <a:ext cx="213336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bstra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Arrow 6"/>
          <p:cNvSpPr/>
          <p:nvPr/>
        </p:nvSpPr>
        <p:spPr>
          <a:xfrm rot="5400000">
            <a:off x="1143000" y="4038480"/>
            <a:ext cx="914400" cy="6098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ounded Rectangle 7"/>
          <p:cNvSpPr/>
          <p:nvPr/>
        </p:nvSpPr>
        <p:spPr>
          <a:xfrm>
            <a:off x="685800" y="297180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orithm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ounded Rectangle 17"/>
          <p:cNvSpPr/>
          <p:nvPr/>
        </p:nvSpPr>
        <p:spPr>
          <a:xfrm>
            <a:off x="228600" y="1523880"/>
            <a:ext cx="2666880" cy="45720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572000"/>
              <a:gd name="textAreaBottom" fmla="*/ 4442040 h 4572000"/>
            </a:gdLst>
            <a:ahLst/>
            <a:rect l="textAreaLeft" t="textAreaTop" r="textAreaRight" b="textAreaBottom"/>
            <a:pathLst>
              <a:path w="21600" h="37028">
                <a:moveTo>
                  <a:pt x="3600" y="0"/>
                </a:moveTo>
                <a:arcTo wR="3600" hR="3600" stAng="16200000" swAng="-5400000"/>
                <a:lnTo>
                  <a:pt x="0" y="33428"/>
                </a:lnTo>
                <a:arcTo wR="3600" hR="3600" stAng="10800000" swAng="-5400000"/>
                <a:lnTo>
                  <a:pt x="18000" y="37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ftware 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200400" y="15238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model (HM) executed over general-purpose CPU architecture (e.g. Intel or AR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ity assessment by runtime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ation resources: HM execution user time or CPU clock cy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resources: HM bandwid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resources: HM memory allocat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er complexity assessment can be done b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fil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ounded Rectangle 6"/>
          <p:cNvSpPr/>
          <p:nvPr/>
        </p:nvSpPr>
        <p:spPr>
          <a:xfrm>
            <a:off x="609480" y="487692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P C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ounded Rectangle 11"/>
          <p:cNvSpPr/>
          <p:nvPr/>
        </p:nvSpPr>
        <p:spPr>
          <a:xfrm>
            <a:off x="457200" y="1752480"/>
            <a:ext cx="2133720" cy="838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ftw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ight Arrow 14"/>
          <p:cNvSpPr/>
          <p:nvPr/>
        </p:nvSpPr>
        <p:spPr>
          <a:xfrm rot="5400000">
            <a:off x="1066320" y="4114800"/>
            <a:ext cx="914400" cy="609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ounded Rectangle 5"/>
          <p:cNvSpPr/>
          <p:nvPr/>
        </p:nvSpPr>
        <p:spPr>
          <a:xfrm>
            <a:off x="609480" y="304812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ounded Rectangle 18"/>
          <p:cNvSpPr/>
          <p:nvPr/>
        </p:nvSpPr>
        <p:spPr>
          <a:xfrm>
            <a:off x="228600" y="1523880"/>
            <a:ext cx="2666880" cy="45720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572000"/>
              <a:gd name="textAreaBottom" fmla="*/ 4442040 h 4572000"/>
            </a:gdLst>
            <a:ahLst/>
            <a:rect l="textAreaLeft" t="textAreaTop" r="textAreaRight" b="textAreaBottom"/>
            <a:pathLst>
              <a:path w="21600" h="37028">
                <a:moveTo>
                  <a:pt x="3600" y="0"/>
                </a:moveTo>
                <a:arcTo wR="3600" hR="3600" stAng="16200000" swAng="-5400000"/>
                <a:lnTo>
                  <a:pt x="0" y="33428"/>
                </a:lnTo>
                <a:arcTo wR="3600" hR="3600" stAng="10800000" swAng="-5400000"/>
                <a:lnTo>
                  <a:pt x="18000" y="37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ware 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124080" y="1599840"/>
            <a:ext cx="5562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ware Description Language implementation over technology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ity assessment by hardware performa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licon area, or equivalently the number of logic gates or standard cells in the given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ck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ounded Rectangle 8"/>
          <p:cNvSpPr/>
          <p:nvPr/>
        </p:nvSpPr>
        <p:spPr>
          <a:xfrm>
            <a:off x="609480" y="487692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ight Arrow 15"/>
          <p:cNvSpPr/>
          <p:nvPr/>
        </p:nvSpPr>
        <p:spPr>
          <a:xfrm rot="5400000">
            <a:off x="1066320" y="4114800"/>
            <a:ext cx="914400" cy="609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ounded Rectangle 12"/>
          <p:cNvSpPr/>
          <p:nvPr/>
        </p:nvSpPr>
        <p:spPr>
          <a:xfrm>
            <a:off x="457200" y="1752480"/>
            <a:ext cx="2133720" cy="838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rdw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ounded Rectangle 7"/>
          <p:cNvSpPr/>
          <p:nvPr/>
        </p:nvSpPr>
        <p:spPr>
          <a:xfrm>
            <a:off x="609480" y="3048120"/>
            <a:ext cx="1828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aniele Alfonso</cp:lastModifiedBy>
  <dcterms:modified xsi:type="dcterms:W3CDTF">2011-06-22T16:14:13Z</dcterms:modified>
  <cp:revision>16</cp:revision>
  <dc:subject/>
  <dc:title>Slide 1</dc:title>
</cp:coreProperties>
</file>