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F26A-3F36-4301-81DD-AEE2B87E7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5796-620F-4189-BE7D-833BA25D5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28C3-8144-4A02-807C-5417D75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F009-E084-43B4-94F7-93DD31F7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AEAA-1E63-41FF-9D11-3B8C5F6C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96053-4134-474D-A615-A5039DD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CB7A-EDEB-4E30-8553-6B1799A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FB323-9D4A-4280-9864-974FF90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7743-84D1-4945-8E68-3FEFC938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EB0BA-CE66-4571-940D-9F8433F6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EB61-AB97-4032-9D66-E9F77EE7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0DA28-D2E8-4BA2-8C52-F85F3D16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DC28C-9F43-4905-9B04-22F825D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647FF-D473-48F7-8325-76A5E62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F3A55-D771-47DB-8AA2-1705E4EC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9F52C-3EC0-4ECE-9EA9-C9320B6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EF41E-E272-40B6-AC1F-A843B38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0978B-BB40-4528-82F5-2511475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D5E43-8FD5-4492-8BE9-D3EBE4B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27FB0-C3A5-42AD-96DE-4AA1583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A351F-787D-4389-BBEC-B0E499FD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B745C-18E0-4777-B504-D1B28E20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493CA-90E9-40D5-8B23-BA39C29C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50658-10C8-40E9-AF1D-45E413F1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0E23E-EC1C-4E93-9BD1-76E0E7D8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7E4CA-837C-4C37-9892-B263971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5363C-DFB1-469F-B4EE-8F6038B8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9F214-9529-4274-BC34-2684B19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A1A7E-C0EF-417E-8408-734FECEA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84FBB-8A11-44AA-ADD5-8ED56AA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30DA0-AC2F-41C5-AFF1-203EF63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4F045-EED2-4882-A374-8937C74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238-1FD4-4B1A-B1AF-58103FC2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025A0-BA02-4934-82A4-9309A0A3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80BFA-08A6-4E77-83CA-4DC15FAB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5DFA9-9D7C-4856-842E-9CA311E3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9E9-8A96-447B-9C04-BB7D4031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415-261D-4760-B819-F87E3852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994-4D0D-45B7-8284-45139C8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11F-3C2F-431C-A55C-43F5307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91A-E73C-4B2D-AD3C-269D73C5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495-FED7-4059-8AFF-EAECBC4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DF6-FF99-4FE9-9BBC-0310D9E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F0D-05CC-4A9B-AAD3-538181B3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390-BB3B-4496-8278-BFDE3F2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828-0BBF-40E8-B99D-10087B1A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D41-2F62-4B4D-A35A-9E1FAAB3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5DDF-355D-4322-8AF4-8AD80DC4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FD3-A775-4385-933E-81219D02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ABAA-E705-4C57-A5F5-BE55382C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C02-A4AF-4FF0-B3D4-C3BFBD7D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69D6-225E-4794-A90C-486892D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F486-2676-4219-A224-AEDC439F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D4F-6699-452D-A43B-6F379E4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E6E-CC98-439B-9104-4C9584B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BB90-74C2-4AD1-993A-052BE0E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B1DC-9733-420F-B12B-FED2A027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A484-C63D-49E0-BD2D-D0E273C4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860A-352A-4782-8EEA-D9C88A60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8252-02DC-4AFB-96FD-7CCF620B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E810-DA5B-4D04-AE4F-966D580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6C1A-A085-4303-A443-6EFC9B06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2F29-D6E1-4835-BE16-664A9DA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9AC1-7865-4CEF-BACB-056DBB79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F6FE-8B47-4570-8408-BF2CAC5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E6BE-5674-4695-8CFF-33B3ADC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52E0-5F54-430B-B2CE-A9E3D587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EEFB-CF27-44FA-8509-A092038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2228-0698-49A4-83E8-0E52E930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68EF-479A-491A-A2D2-397154D6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4587-1254-43C9-9FF1-B3AA6900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1286-37EE-43B3-B209-5824CA5F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EFAE-127D-4A02-840C-758697E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95AB-DC0C-4DC4-983F-B9EAD2BD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F69C-CFE7-4001-9EBD-AB345C40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591D-64AA-476D-990D-8ECC9C8F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64F5-FF66-4BF7-9B39-551B493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3D2B-AF0E-484A-AAF9-B105C696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7A80-9A14-47AB-B13A-38EF9373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7843-19BE-4AC4-92A3-3169544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A86B-857D-4D99-B7D0-62EA72FB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D186-20C6-4A6D-A6B6-85796EF9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E0B6-4615-4DF9-AFBA-1C717BA1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98DB7-136B-43A5-8ACC-3D4460C8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1E20-0DB2-415C-8884-6381330F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0A0BF-05FD-4580-BF2A-21C9DCD3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A3E8-BB74-45B4-981A-68EC418D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A942-3505-467B-B6A0-1A2B407F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4508-3D83-48D5-AE3E-70E0EFC6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58A3-3EB4-4ABA-8817-47E6509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B37CF-D8A9-48D8-9B40-FE1051E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CD126-2AD9-4F67-BC32-5E382C9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BD63-13B4-433F-86FE-F9232254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C1320-86FC-41D5-9DF2-057D4CB2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CB89-B57B-45AE-8902-EE16910A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C410-7D32-42A4-8C5A-8A24A1D0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0434D-C138-4F01-8E00-9BA86018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7F4B8-0FFA-4BCE-8573-5A2800BB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D319-B6BD-422A-8F80-7FD0948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B83B-9734-443C-9D9D-0D27DE9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E37E-CEEC-4C74-993B-4238F4D3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4AE7C-41F8-4EF6-91FF-FDE52BE7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D482-F9DA-4B57-AE2D-91827FA3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B89A2-3482-41DE-BA06-658757E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2F386-747E-41E2-88A9-6AE0C050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5EE8D-96BA-45FC-8829-7CF77AFD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98B2-A832-4AFE-B251-F49F0970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114F-4640-4D13-B155-DEDE3169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31ECB-8527-423D-ABF4-6552F7F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A29A1-8972-4473-A4A9-A35F72FF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12709-6370-457C-978E-3ED92EA8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D87F6-BAC1-4A4E-8988-194AE93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DC20C-8C46-4275-933C-40E0150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78285-5885-4F9A-BA44-900CCD1F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E39D1-5AD0-481E-B14A-08870D7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3B66A-105F-49E8-A311-499DC2A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2EC0-D2FD-4552-9EB6-AC2EE275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A0E1-18A6-4F46-BB72-7451BDD2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23E0-1780-4317-B2AC-DA5B8D15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D352-9B47-4CD5-9BD6-B94CF462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DB2F-44DC-4907-BD91-B8C0B794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46F93-C685-4D6B-A5AF-EECEAABD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16A3-8FAC-4642-9A78-A8EE9242D9B7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D46-2BA7-46EB-AFDF-8253B232184C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CCA-8401-4173-89CC-F0B8BDC351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6AD-5572-4864-AFB8-6A4F8861727E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781-04E0-405D-8A89-4C0D0C4705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916-D602-48EE-A95A-BC94C3AF8BF6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0851-0634-419A-AE28-B3A8E20A16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FA14-5B3C-4199-82D8-F7DF3DD07EB0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1E5-D6DF-4576-8ADC-F0E1275A6D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5A2-41AE-4AD1-9F8F-04EBF17B558A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E4D-D7B0-46B3-9E3D-5B4BB34D46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ED23-F255-4494-90C1-18D0A9913851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229-A654-4178-BA0F-26AEBCF75E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C10-0024-4AB6-828E-54D27C6E837F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D5C0-B1F2-4751-942A-689DD2AC66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8D4-4BBA-40A5-BBF6-33B505A727ED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CC34-CF4A-412F-8AD4-D557E235EE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EDF8-ED14-4F3F-B661-10DACA718EF1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173-E259-41E7-A588-2D77FAFE83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B6AD-83B3-4CDD-BE0D-F9B2D88D3CCE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843-7B30-43EF-9084-132FA83B75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xity Assessment 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aniele Alfonso, STMicroelectronic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Justin Ridge, Nokia Research Cen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Xing Wen, Hong Kong Univ. of Science and Technolog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JCTVC-F04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” = amount of resources consumed to realize and operate a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 assessment methodology based on three kinds of system modeling: algorithmic, software and hardw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lexity Assessment AhG recommends considering the proposed methodology as JCT-VC project management practice for the HEVC standardization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ontribution addresses the first two mandates of the Complexity Assessment AhG, which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ize and evaluate the various complexity assessment methods with regard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ational complexit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llelis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bandwidt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capacit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namic range requirement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other aspects of complexity identified as being of inter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nd propose a set of general measurement metr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omposition of interacting elements with the purpose of applying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order to produce a certain result or solve a certain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amount of resources consumed to realize and operate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3" name="Group 11"/>
          <p:cNvGrpSpPr/>
          <p:nvPr/>
        </p:nvGrpSpPr>
        <p:grpSpPr>
          <a:xfrm>
            <a:off x="1523880" y="1219320"/>
            <a:ext cx="6019920" cy="2723760"/>
            <a:chOff x="1523880" y="1219320"/>
            <a:chExt cx="6019920" cy="2723760"/>
          </a:xfrm>
        </p:grpSpPr>
        <p:grpSp>
          <p:nvGrpSpPr>
            <p:cNvPr id="484" name="Group 8"/>
            <p:cNvGrpSpPr/>
            <p:nvPr/>
          </p:nvGrpSpPr>
          <p:grpSpPr>
            <a:xfrm>
              <a:off x="1523880" y="2866320"/>
              <a:ext cx="6019920" cy="1076760"/>
              <a:chOff x="1523880" y="2866320"/>
              <a:chExt cx="6019920" cy="1076760"/>
            </a:xfrm>
          </p:grpSpPr>
          <p:sp>
            <p:nvSpPr>
              <p:cNvPr id="485" name="Rounded Rectangle 3"/>
              <p:cNvSpPr/>
              <p:nvPr/>
            </p:nvSpPr>
            <p:spPr>
              <a:xfrm>
                <a:off x="2727000" y="2866320"/>
                <a:ext cx="2281320" cy="1076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SYST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ight Arrow 4"/>
              <p:cNvSpPr/>
              <p:nvPr/>
            </p:nvSpPr>
            <p:spPr>
              <a:xfrm>
                <a:off x="1966680" y="3182400"/>
                <a:ext cx="760320" cy="444600"/>
              </a:xfrm>
              <a:prstGeom prst="rightArrow">
                <a:avLst>
                  <a:gd name="adj1" fmla="val 50000"/>
                  <a:gd name="adj2" fmla="val 4999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ight Arrow 5"/>
              <p:cNvSpPr/>
              <p:nvPr/>
            </p:nvSpPr>
            <p:spPr>
              <a:xfrm>
                <a:off x="5008680" y="3182400"/>
                <a:ext cx="760320" cy="444600"/>
              </a:xfrm>
              <a:prstGeom prst="rightArrow">
                <a:avLst>
                  <a:gd name="adj1" fmla="val 50000"/>
                  <a:gd name="adj2" fmla="val 4999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Box 6"/>
              <p:cNvSpPr/>
              <p:nvPr/>
            </p:nvSpPr>
            <p:spPr>
              <a:xfrm>
                <a:off x="1523880" y="3049560"/>
                <a:ext cx="44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Box 7"/>
              <p:cNvSpPr/>
              <p:nvPr/>
            </p:nvSpPr>
            <p:spPr>
              <a:xfrm>
                <a:off x="5769720" y="3055680"/>
                <a:ext cx="177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Y=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Calibri"/>
                  </a:rPr>
                  <a:t>f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(X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Cloud Callout 9"/>
            <p:cNvSpPr/>
            <p:nvPr/>
          </p:nvSpPr>
          <p:spPr>
            <a:xfrm>
              <a:off x="3741480" y="1219320"/>
              <a:ext cx="2471760" cy="1330200"/>
            </a:xfrm>
            <a:prstGeom prst="cloudCallout">
              <a:avLst>
                <a:gd name="adj1" fmla="val -23657"/>
                <a:gd name="adj2" fmla="val 8115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ources consum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tat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resources needed to realize the system, like silicon footprint, memory size, number of elementary processing units, et cet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ources consum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ynam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resources needed to operate the system, in particula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mpu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amount of elementary operations performed per time unit) and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amount of data transferred per time uni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4648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problem can be solved with several different systems, each one characterized by a different complex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n exhaustive complexity assessment we need to consider several different implemen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25"/>
          <p:cNvGrpSpPr/>
          <p:nvPr/>
        </p:nvGrpSpPr>
        <p:grpSpPr>
          <a:xfrm>
            <a:off x="1066680" y="1081080"/>
            <a:ext cx="6717240" cy="3159000"/>
            <a:chOff x="1066680" y="1081080"/>
            <a:chExt cx="6717240" cy="3159000"/>
          </a:xfrm>
        </p:grpSpPr>
        <p:sp>
          <p:nvSpPr>
            <p:cNvPr id="496" name="Rounded Rectangle 22"/>
            <p:cNvSpPr/>
            <p:nvPr/>
          </p:nvSpPr>
          <p:spPr>
            <a:xfrm>
              <a:off x="1066680" y="2976480"/>
              <a:ext cx="5118480" cy="126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ounded Rectangle 21"/>
            <p:cNvSpPr/>
            <p:nvPr/>
          </p:nvSpPr>
          <p:spPr>
            <a:xfrm>
              <a:off x="4414680" y="1585800"/>
              <a:ext cx="2147760" cy="120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20"/>
            <p:cNvGrpSpPr/>
            <p:nvPr/>
          </p:nvGrpSpPr>
          <p:grpSpPr>
            <a:xfrm>
              <a:off x="1256040" y="1649520"/>
              <a:ext cx="5167800" cy="2455920"/>
              <a:chOff x="1256040" y="1649520"/>
              <a:chExt cx="5167800" cy="2455920"/>
            </a:xfrm>
          </p:grpSpPr>
          <p:sp>
            <p:nvSpPr>
              <p:cNvPr id="499" name="Rounded Rectangle 13"/>
              <p:cNvSpPr/>
              <p:nvPr/>
            </p:nvSpPr>
            <p:spPr>
              <a:xfrm>
                <a:off x="1528920" y="3060720"/>
                <a:ext cx="1488960" cy="77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ounded Rectangle 12"/>
              <p:cNvSpPr/>
              <p:nvPr/>
            </p:nvSpPr>
            <p:spPr>
              <a:xfrm>
                <a:off x="1436760" y="3151440"/>
                <a:ext cx="1490760" cy="772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ounded Rectangle 11"/>
              <p:cNvSpPr/>
              <p:nvPr/>
            </p:nvSpPr>
            <p:spPr>
              <a:xfrm>
                <a:off x="1346400" y="3241800"/>
                <a:ext cx="1488960" cy="772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ounded Rectangle 3"/>
              <p:cNvSpPr/>
              <p:nvPr/>
            </p:nvSpPr>
            <p:spPr>
              <a:xfrm>
                <a:off x="1256040" y="3333960"/>
                <a:ext cx="1488960" cy="77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(s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Cloud Callout 9"/>
              <p:cNvSpPr/>
              <p:nvPr/>
            </p:nvSpPr>
            <p:spPr>
              <a:xfrm>
                <a:off x="1841760" y="1649520"/>
                <a:ext cx="1913040" cy="1030320"/>
              </a:xfrm>
              <a:prstGeom prst="cloudCallout">
                <a:avLst>
                  <a:gd name="adj1" fmla="val -23657"/>
                  <a:gd name="adj2" fmla="val 81157"/>
                </a:avLst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ounded Rectangle 15"/>
              <p:cNvSpPr/>
              <p:nvPr/>
            </p:nvSpPr>
            <p:spPr>
              <a:xfrm>
                <a:off x="4197960" y="3060720"/>
                <a:ext cx="1488960" cy="77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ounded Rectangle 16"/>
              <p:cNvSpPr/>
              <p:nvPr/>
            </p:nvSpPr>
            <p:spPr>
              <a:xfrm>
                <a:off x="4107600" y="3151440"/>
                <a:ext cx="1488960" cy="772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ounded Rectangle 17"/>
              <p:cNvSpPr/>
              <p:nvPr/>
            </p:nvSpPr>
            <p:spPr>
              <a:xfrm>
                <a:off x="4016880" y="3241800"/>
                <a:ext cx="1488960" cy="772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ounded Rectangle 18"/>
              <p:cNvSpPr/>
              <p:nvPr/>
            </p:nvSpPr>
            <p:spPr>
              <a:xfrm>
                <a:off x="3924720" y="3333960"/>
                <a:ext cx="1490760" cy="77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decoder(s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Cloud Callout 19"/>
              <p:cNvSpPr/>
              <p:nvPr/>
            </p:nvSpPr>
            <p:spPr>
              <a:xfrm>
                <a:off x="4512240" y="1649520"/>
                <a:ext cx="1911600" cy="1030320"/>
              </a:xfrm>
              <a:prstGeom prst="cloudCallout">
                <a:avLst>
                  <a:gd name="adj1" fmla="val -23657"/>
                  <a:gd name="adj2" fmla="val 81157"/>
                </a:avLst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decod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TextBox 23"/>
            <p:cNvSpPr/>
            <p:nvPr/>
          </p:nvSpPr>
          <p:spPr>
            <a:xfrm>
              <a:off x="6278760" y="1081080"/>
              <a:ext cx="150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Scope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standard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4"/>
            <p:cNvSpPr/>
            <p:nvPr/>
          </p:nvSpPr>
          <p:spPr>
            <a:xfrm>
              <a:off x="6223320" y="3166200"/>
              <a:ext cx="114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Scope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complexity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assess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Level Complexity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Group 19"/>
          <p:cNvGrpSpPr/>
          <p:nvPr/>
        </p:nvGrpSpPr>
        <p:grpSpPr>
          <a:xfrm>
            <a:off x="533520" y="1295280"/>
            <a:ext cx="8076960" cy="4648320"/>
            <a:chOff x="533520" y="1295280"/>
            <a:chExt cx="8076960" cy="4648320"/>
          </a:xfrm>
        </p:grpSpPr>
        <p:sp>
          <p:nvSpPr>
            <p:cNvPr id="513" name="Rounded Rectangle 18"/>
            <p:cNvSpPr/>
            <p:nvPr/>
          </p:nvSpPr>
          <p:spPr>
            <a:xfrm>
              <a:off x="6019920" y="1295280"/>
              <a:ext cx="2590560" cy="4648320"/>
            </a:xfrm>
            <a:custGeom>
              <a:avLst/>
              <a:gdLst>
                <a:gd name="textAreaLeft" fmla="*/ 126360 w 2590560"/>
                <a:gd name="textAreaRight" fmla="*/ 2464200 w 2590560"/>
                <a:gd name="textAreaTop" fmla="*/ 126360 h 4648320"/>
                <a:gd name="textAreaBottom" fmla="*/ 4521960 h 4648320"/>
              </a:gdLst>
              <a:ahLst/>
              <a:rect l="textAreaLeft" t="textAreaTop" r="textAreaRight" b="textAreaBottom"/>
              <a:pathLst>
                <a:path w="21600" h="38755">
                  <a:moveTo>
                    <a:pt x="3600" y="0"/>
                  </a:moveTo>
                  <a:arcTo wR="3600" hR="3600" stAng="16200000" swAng="-5400000"/>
                  <a:lnTo>
                    <a:pt x="0" y="35155"/>
                  </a:lnTo>
                  <a:arcTo wR="3600" hR="3600" stAng="10800000" swAng="-5400000"/>
                  <a:lnTo>
                    <a:pt x="18000" y="38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ounded Rectangle 17"/>
            <p:cNvSpPr/>
            <p:nvPr/>
          </p:nvSpPr>
          <p:spPr>
            <a:xfrm>
              <a:off x="3276720" y="1295280"/>
              <a:ext cx="2590560" cy="4648320"/>
            </a:xfrm>
            <a:custGeom>
              <a:avLst/>
              <a:gdLst>
                <a:gd name="textAreaLeft" fmla="*/ 126360 w 2590560"/>
                <a:gd name="textAreaRight" fmla="*/ 2464200 w 2590560"/>
                <a:gd name="textAreaTop" fmla="*/ 126360 h 4648320"/>
                <a:gd name="textAreaBottom" fmla="*/ 4521960 h 4648320"/>
              </a:gdLst>
              <a:ahLst/>
              <a:rect l="textAreaLeft" t="textAreaTop" r="textAreaRight" b="textAreaBottom"/>
              <a:pathLst>
                <a:path w="21600" h="38755">
                  <a:moveTo>
                    <a:pt x="3600" y="0"/>
                  </a:moveTo>
                  <a:arcTo wR="3600" hR="3600" stAng="16200000" swAng="-5400000"/>
                  <a:lnTo>
                    <a:pt x="0" y="35155"/>
                  </a:lnTo>
                  <a:arcTo wR="3600" hR="3600" stAng="10800000" swAng="-5400000"/>
                  <a:lnTo>
                    <a:pt x="18000" y="38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ounded Rectangle 16"/>
            <p:cNvSpPr/>
            <p:nvPr/>
          </p:nvSpPr>
          <p:spPr>
            <a:xfrm>
              <a:off x="533520" y="1295280"/>
              <a:ext cx="2590560" cy="4648320"/>
            </a:xfrm>
            <a:custGeom>
              <a:avLst/>
              <a:gdLst>
                <a:gd name="textAreaLeft" fmla="*/ 126360 w 2590560"/>
                <a:gd name="textAreaRight" fmla="*/ 2464200 w 2590560"/>
                <a:gd name="textAreaTop" fmla="*/ 126360 h 4648320"/>
                <a:gd name="textAreaBottom" fmla="*/ 4521960 h 4648320"/>
              </a:gdLst>
              <a:ahLst/>
              <a:rect l="textAreaLeft" t="textAreaTop" r="textAreaRight" b="textAreaBottom"/>
              <a:pathLst>
                <a:path w="21600" h="38755">
                  <a:moveTo>
                    <a:pt x="3600" y="0"/>
                  </a:moveTo>
                  <a:arcTo wR="3600" hR="3600" stAng="16200000" swAng="-5400000"/>
                  <a:lnTo>
                    <a:pt x="0" y="35155"/>
                  </a:lnTo>
                  <a:arcTo wR="3600" hR="3600" stAng="10800000" swAng="-5400000"/>
                  <a:lnTo>
                    <a:pt x="18000" y="38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ounded Rectangle 4"/>
            <p:cNvSpPr/>
            <p:nvPr/>
          </p:nvSpPr>
          <p:spPr>
            <a:xfrm>
              <a:off x="914400" y="47242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bstr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ounded Rectangle 6"/>
            <p:cNvSpPr/>
            <p:nvPr/>
          </p:nvSpPr>
          <p:spPr>
            <a:xfrm>
              <a:off x="3657600" y="47242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GP CP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ounded Rectangle 8"/>
            <p:cNvSpPr/>
            <p:nvPr/>
          </p:nvSpPr>
          <p:spPr>
            <a:xfrm>
              <a:off x="6400800" y="47242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ounded Rectangle 10"/>
            <p:cNvSpPr/>
            <p:nvPr/>
          </p:nvSpPr>
          <p:spPr>
            <a:xfrm>
              <a:off x="762120" y="1599840"/>
              <a:ext cx="2133360" cy="838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bstract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11"/>
            <p:cNvSpPr/>
            <p:nvPr/>
          </p:nvSpPr>
          <p:spPr>
            <a:xfrm>
              <a:off x="3505320" y="1599840"/>
              <a:ext cx="2133360" cy="8380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Software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ight Arrow 13"/>
            <p:cNvSpPr/>
            <p:nvPr/>
          </p:nvSpPr>
          <p:spPr>
            <a:xfrm rot="5400000">
              <a:off x="1370880" y="3962160"/>
              <a:ext cx="914400" cy="609480"/>
            </a:xfrm>
            <a:prstGeom prst="rightArrow">
              <a:avLst>
                <a:gd name="adj1" fmla="val 50000"/>
                <a:gd name="adj2" fmla="val 5001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ight Arrow 14"/>
            <p:cNvSpPr/>
            <p:nvPr/>
          </p:nvSpPr>
          <p:spPr>
            <a:xfrm rot="5400000">
              <a:off x="4114080" y="3962160"/>
              <a:ext cx="914400" cy="609480"/>
            </a:xfrm>
            <a:prstGeom prst="rightArrow">
              <a:avLst>
                <a:gd name="adj1" fmla="val 50000"/>
                <a:gd name="adj2" fmla="val 5001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ight Arrow 15"/>
            <p:cNvSpPr/>
            <p:nvPr/>
          </p:nvSpPr>
          <p:spPr>
            <a:xfrm rot="5400000">
              <a:off x="6857280" y="3962160"/>
              <a:ext cx="914400" cy="609480"/>
            </a:xfrm>
            <a:prstGeom prst="rightArrow">
              <a:avLst>
                <a:gd name="adj1" fmla="val 50000"/>
                <a:gd name="adj2" fmla="val 5001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ounded Rectangle 12"/>
            <p:cNvSpPr/>
            <p:nvPr/>
          </p:nvSpPr>
          <p:spPr>
            <a:xfrm>
              <a:off x="6248520" y="1599840"/>
              <a:ext cx="2133360" cy="8380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Hardware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ounded Rectangle 5"/>
            <p:cNvSpPr/>
            <p:nvPr/>
          </p:nvSpPr>
          <p:spPr>
            <a:xfrm>
              <a:off x="3657600" y="28954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oftwa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ounded Rectangle 3"/>
            <p:cNvSpPr/>
            <p:nvPr/>
          </p:nvSpPr>
          <p:spPr>
            <a:xfrm>
              <a:off x="914400" y="28954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lgorithmic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ounded Rectangle 7"/>
            <p:cNvSpPr/>
            <p:nvPr/>
          </p:nvSpPr>
          <p:spPr>
            <a:xfrm>
              <a:off x="6400800" y="28954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Hardwa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352320" y="14475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gorithmic model executed over abstract architec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lexity assessment perform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gorithmic analy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lementary arithmetic operations cou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orage memory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lementary data transfer operations cou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complexity dimen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mber of processing stages, to understand pipelining possibiliti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ata dependency analysis, to understand possibility of data paralleliz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ark: average, worst-case and best-case analysis recommen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ounded Rectangle 3"/>
          <p:cNvSpPr/>
          <p:nvPr/>
        </p:nvSpPr>
        <p:spPr>
          <a:xfrm>
            <a:off x="228600" y="1447920"/>
            <a:ext cx="2743200" cy="45720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572000"/>
              <a:gd name="textAreaBottom" fmla="*/ 4438080 h 4572000"/>
            </a:gdLst>
            <a:ahLst/>
            <a:rect l="textAreaLeft" t="textAreaTop" r="textAreaRight" b="textAreaBottom"/>
            <a:pathLst>
              <a:path w="21600" h="35998">
                <a:moveTo>
                  <a:pt x="3600" y="0"/>
                </a:moveTo>
                <a:arcTo wR="3600" hR="3600" stAng="16200000" swAng="-5400000"/>
                <a:lnTo>
                  <a:pt x="0" y="32398"/>
                </a:lnTo>
                <a:arcTo wR="3600" hR="3600" stAng="10800000" swAng="-5400000"/>
                <a:lnTo>
                  <a:pt x="18000" y="35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ounded Rectangle 4"/>
          <p:cNvSpPr/>
          <p:nvPr/>
        </p:nvSpPr>
        <p:spPr>
          <a:xfrm>
            <a:off x="685800" y="480060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ounded Rectangle 5"/>
          <p:cNvSpPr/>
          <p:nvPr/>
        </p:nvSpPr>
        <p:spPr>
          <a:xfrm>
            <a:off x="533520" y="1676520"/>
            <a:ext cx="213336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bstr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ight Arrow 6"/>
          <p:cNvSpPr/>
          <p:nvPr/>
        </p:nvSpPr>
        <p:spPr>
          <a:xfrm rot="5400000">
            <a:off x="1143000" y="4038480"/>
            <a:ext cx="914400" cy="6098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7"/>
          <p:cNvSpPr/>
          <p:nvPr/>
        </p:nvSpPr>
        <p:spPr>
          <a:xfrm>
            <a:off x="685800" y="297180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orithm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ounded Rectangle 17"/>
          <p:cNvSpPr/>
          <p:nvPr/>
        </p:nvSpPr>
        <p:spPr>
          <a:xfrm>
            <a:off x="228600" y="1523880"/>
            <a:ext cx="2666880" cy="45720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572000"/>
              <a:gd name="textAreaBottom" fmla="*/ 4442040 h 4572000"/>
            </a:gdLst>
            <a:ahLst/>
            <a:rect l="textAreaLeft" t="textAreaTop" r="textAreaRight" b="textAreaBottom"/>
            <a:pathLst>
              <a:path w="21600" h="37028">
                <a:moveTo>
                  <a:pt x="3600" y="0"/>
                </a:moveTo>
                <a:arcTo wR="3600" hR="3600" stAng="16200000" swAng="-5400000"/>
                <a:lnTo>
                  <a:pt x="0" y="33428"/>
                </a:lnTo>
                <a:arcTo wR="3600" hR="3600" stAng="10800000" swAng="-5400000"/>
                <a:lnTo>
                  <a:pt x="18000" y="37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ftware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200400" y="15238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model (HM) executed over general-purpose CPU architecture (e.g. Intel or A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assessment by runtime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ation resources: HM execution user time or CPU clock cy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resources: HM bandwid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resources: HM memory allocat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complexity assessment can be done b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fil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ounded Rectangle 6"/>
          <p:cNvSpPr/>
          <p:nvPr/>
        </p:nvSpPr>
        <p:spPr>
          <a:xfrm>
            <a:off x="609480" y="48769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P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1"/>
          <p:cNvSpPr/>
          <p:nvPr/>
        </p:nvSpPr>
        <p:spPr>
          <a:xfrm>
            <a:off x="457200" y="17524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ftw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ight Arrow 14"/>
          <p:cNvSpPr/>
          <p:nvPr/>
        </p:nvSpPr>
        <p:spPr>
          <a:xfrm rot="5400000">
            <a:off x="1066320" y="4114800"/>
            <a:ext cx="9144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5"/>
          <p:cNvSpPr/>
          <p:nvPr/>
        </p:nvSpPr>
        <p:spPr>
          <a:xfrm>
            <a:off x="609480" y="30481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ounded Rectangle 18"/>
          <p:cNvSpPr/>
          <p:nvPr/>
        </p:nvSpPr>
        <p:spPr>
          <a:xfrm>
            <a:off x="228600" y="1523880"/>
            <a:ext cx="2666880" cy="45720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572000"/>
              <a:gd name="textAreaBottom" fmla="*/ 4442040 h 4572000"/>
            </a:gdLst>
            <a:ahLst/>
            <a:rect l="textAreaLeft" t="textAreaTop" r="textAreaRight" b="textAreaBottom"/>
            <a:pathLst>
              <a:path w="21600" h="37028">
                <a:moveTo>
                  <a:pt x="3600" y="0"/>
                </a:moveTo>
                <a:arcTo wR="3600" hR="3600" stAng="16200000" swAng="-5400000"/>
                <a:lnTo>
                  <a:pt x="0" y="33428"/>
                </a:lnTo>
                <a:arcTo wR="3600" hR="3600" stAng="10800000" swAng="-5400000"/>
                <a:lnTo>
                  <a:pt x="18000" y="37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ware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124080" y="1599840"/>
            <a:ext cx="5562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 Description Language implementation over technology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assessment by hardware performa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licon area, or equivalently the number of logic gates or standard cells in the given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ounded Rectangle 8"/>
          <p:cNvSpPr/>
          <p:nvPr/>
        </p:nvSpPr>
        <p:spPr>
          <a:xfrm>
            <a:off x="609480" y="48769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ight Arrow 15"/>
          <p:cNvSpPr/>
          <p:nvPr/>
        </p:nvSpPr>
        <p:spPr>
          <a:xfrm rot="5400000">
            <a:off x="1066320" y="4114800"/>
            <a:ext cx="9144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12"/>
          <p:cNvSpPr/>
          <p:nvPr/>
        </p:nvSpPr>
        <p:spPr>
          <a:xfrm>
            <a:off x="457200" y="17524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rdw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7"/>
          <p:cNvSpPr/>
          <p:nvPr/>
        </p:nvSpPr>
        <p:spPr>
          <a:xfrm>
            <a:off x="609480" y="30481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aniele Alfonso</cp:lastModifiedBy>
  <dcterms:modified xsi:type="dcterms:W3CDTF">2011-07-17T09:01:05Z</dcterms:modified>
  <cp:revision>18</cp:revision>
  <dc:subject/>
  <dc:title>Slide 1</dc:title>
</cp:coreProperties>
</file>