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AE88-4F05-4D97-9585-30F14A380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166F-42D9-4F2C-8B66-6D2EF6943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E4C8-7CD0-4BF7-996B-848EAF74E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D719-495F-4124-954B-03CDE2988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8643-F32E-48A9-B94C-CDA33D19F3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593C-5ADD-41BE-867D-35B89F1EF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0609-983C-461D-B144-41083DCA96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1CA3-7497-4328-B61C-255C2FE82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0A21-C325-48A5-8667-A0E8C2310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8FFD-7344-48F2-A4D3-D4A6A31B84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BD54-CEF4-418F-B4FB-BA7093541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298E-7619-4FDC-B36B-C4816ACE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F781-FF73-4D4C-BB59-AC552B9DD5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E6D2-09A6-4828-9FD6-A2ECF2F42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81D5-2FD7-4BB8-8618-30FB677F9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1068-1816-47F3-B553-212E239C48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50DC-A549-4B2E-9612-D9C2AF4E19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BB0-B62E-4974-A2F9-07EB94AE7B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383-4679-4C42-BB54-4E541EBBD1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535-EEAF-4A64-85B2-FF46C31569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6B5-6B3F-4EF3-AD8B-5F085E20C9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5D7-74D9-4C36-96E0-268EE6FF0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74F8-3691-4C01-A30B-19E001A783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4AE-D94D-4036-8AF7-6D6E0B3970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FC8-D417-4D53-AF93-06F12BD4DE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7EE-3922-44B2-B870-66757CFEF3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377-FBAB-4C6D-9CDC-E5E76C9F26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991-9B1B-4998-8237-C80978C931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48D-76E4-489F-A813-C0202680F8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0AF-7626-4340-A139-4635FBBD0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CF8B-2C2C-45D9-AE97-35DDE271F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FAED-264C-409F-8133-7140642E6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7060-C0C7-4850-81A1-FFA81930C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3DCE-C1D4-46C3-B90B-AF3EAC82D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535D-A920-489A-85F9-6C75BD4D5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86DB-DDDA-4494-856E-8D58D6E8D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2CB-B990-4E7F-9CCF-727E40E3BF5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0836-B425-4B3D-BBC8-F3A2907D5941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36E-9F82-4EE8-A990-05B594C6A90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4B4D-CF61-40B2-A94F-EF721DA46F4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113-CE5F-4CF6-BE69-B23DD695071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09480" y="1523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F042 (CE8)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: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ALF of Luma and Chroma Samples Using Same Filtering Shape, Structure and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905120" y="3809880"/>
            <a:ext cx="5333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, eBrisk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14-22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42640" y="1295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hroma BD-rate gai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1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BD-rate los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decoder complexity reduc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ve to HM 3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filter size reduc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-case decoder complexity reduc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ve to HM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bined with AIF, efficiency loss due to less complex ALF filters goes to 0.10% and chroma gains are l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4305240"/>
          <a:ext cx="6553440" cy="952560"/>
        </p:xfrm>
        <a:graphic>
          <a:graphicData uri="http://schemas.openxmlformats.org/drawingml/2006/table">
            <a:tbl>
              <a:tblPr/>
              <a:tblGrid>
                <a:gridCol w="1113120"/>
                <a:gridCol w="1123920"/>
                <a:gridCol w="1114200"/>
                <a:gridCol w="946080"/>
                <a:gridCol w="1071720"/>
                <a:gridCol w="1184400"/>
              </a:tblGrid>
              <a:tr h="304920">
                <a:tc gridSpan="3"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(MD7x5+C11x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+ 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23880" y="5349960"/>
          <a:ext cx="6553440" cy="974520"/>
        </p:xfrm>
        <a:graphic>
          <a:graphicData uri="http://schemas.openxmlformats.org/drawingml/2006/table">
            <a:tbl>
              <a:tblPr/>
              <a:tblGrid>
                <a:gridCol w="2336760"/>
                <a:gridCol w="2399040"/>
                <a:gridCol w="1817640"/>
              </a:tblGrid>
              <a:tr h="27252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(MD7x5+C11x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+ 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% </a:t>
                      </a: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35100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937-7ABB-428F-A70C-B53F40AE311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LF + A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: Combination ALF+AIF offers  better complexity-cod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5D40-E5FF-4D1C-9CCC-B82DEF44AEC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B41D-3EF5-4C08-A0DA-45CDDA4751F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AIF + AL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799-E916-4908-989A-CCDA50115EA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AIF + AL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44C-F250-4CAC-ABCA-990F4D58B07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AIF + AL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D64-68A4-4A69-920E-56EA605EC38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 (AIF + AL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1494000"/>
          <a:ext cx="7620120" cy="167616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Box 6"/>
          <p:cNvSpPr/>
          <p:nvPr/>
        </p:nvSpPr>
        <p:spPr>
          <a:xfrm>
            <a:off x="547200" y="10666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Encoder/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622800" y="37339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Case 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4076640"/>
          <a:ext cx="7620120" cy="167652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BAF6-7184-4C13-B49B-6483787FAD7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EFC8-913E-424A-ADB9-0FB159C2F36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F of Chroma Samp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M 3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9"/>
          <p:cNvGraphicFramePr/>
          <p:nvPr/>
        </p:nvGraphicFramePr>
        <p:xfrm>
          <a:off x="3200400" y="1600200"/>
          <a:ext cx="32767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3276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9"/>
          <p:cNvSpPr/>
          <p:nvPr/>
        </p:nvSpPr>
        <p:spPr>
          <a:xfrm>
            <a:off x="533520" y="388620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5x5 Square-Shaped Symmetrical Filter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rame-Based ALF (i.e. no CU adap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F Not Applied to Luma, ALF Also Not Applied to 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F Applied to Luma, ALF May or May Not be Applied to 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04B-0A14-40C5-BF2F-4AC125FE37A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01D-A5F6-4232-B426-FA42353885E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osed ALF of Chroma Sample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Shape as ALF-Lu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80880" y="419112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 one of the two shape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slice, emplo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me sha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for luma-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U adaptivity chroma follows same adaptivity map as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 filters designed using samples from regions where luma ALF i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1752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533520" y="1676520"/>
          <a:ext cx="304776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0477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1"/>
          <p:cNvGraphicFramePr/>
          <p:nvPr/>
        </p:nvGraphicFramePr>
        <p:xfrm>
          <a:off x="4038480" y="1676520"/>
          <a:ext cx="4876920" cy="16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676520"/>
                    <a:ext cx="48769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2"/>
          <p:cNvSpPr/>
          <p:nvPr/>
        </p:nvSpPr>
        <p:spPr>
          <a:xfrm>
            <a:off x="536760" y="358128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c8c93"/>
                </a:solidFill>
                <a:latin typeface="Arial"/>
                <a:ea typeface="SimHei"/>
              </a:rPr>
              <a:t>TI’s 7x5 Modified Diamo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5256360" y="35812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c8c93"/>
                </a:solidFill>
                <a:latin typeface="Arial"/>
                <a:ea typeface="SimHei"/>
              </a:rPr>
              <a:t>eBrisk’s Cross 11x5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669-4870-4E38-941F-F9340F843A4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CF5-1CA7-49E6-9C2B-ADA858CE42A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1752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166680" y="1828800"/>
            <a:ext cx="8672400" cy="3657240"/>
            <a:chOff x="166680" y="1828800"/>
            <a:chExt cx="8672400" cy="3657240"/>
          </a:xfrm>
        </p:grpSpPr>
        <p:grpSp>
          <p:nvGrpSpPr>
            <p:cNvPr id="157" name="Group 5"/>
            <p:cNvGrpSpPr/>
            <p:nvPr/>
          </p:nvGrpSpPr>
          <p:grpSpPr>
            <a:xfrm>
              <a:off x="166680" y="1828800"/>
              <a:ext cx="8672400" cy="3657240"/>
              <a:chOff x="166680" y="1828800"/>
              <a:chExt cx="8672400" cy="3657240"/>
            </a:xfrm>
          </p:grpSpPr>
          <p:cxnSp>
            <p:nvCxnSpPr>
              <p:cNvPr id="158" name="AutoShape 30"/>
              <p:cNvCxnSpPr/>
              <p:nvPr/>
            </p:nvCxnSpPr>
            <p:spPr>
              <a:xfrm flipH="1">
                <a:off x="639360" y="3638880"/>
                <a:ext cx="8200080" cy="1080"/>
              </a:xfrm>
              <a:prstGeom prst="straightConnector1">
                <a:avLst/>
              </a:prstGeom>
              <a:ln w="28440">
                <a:solidFill>
                  <a:srgbClr val="a5a5a5"/>
                </a:solidFill>
                <a:prstDash val="dash"/>
                <a:miter/>
              </a:ln>
            </p:spPr>
          </p:cxnSp>
          <p:sp>
            <p:nvSpPr>
              <p:cNvPr id="159" name="Rectangle 29"/>
              <p:cNvSpPr/>
              <p:nvPr/>
            </p:nvSpPr>
            <p:spPr>
              <a:xfrm>
                <a:off x="1947960" y="1831680"/>
                <a:ext cx="1406520" cy="1157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4f81bd"/>
                    </a:solidFill>
                    <a:latin typeface="Arial"/>
                    <a:ea typeface="Times New Roman"/>
                  </a:rPr>
                  <a:t>OF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8"/>
              <p:cNvSpPr/>
              <p:nvPr/>
            </p:nvSpPr>
            <p:spPr>
              <a:xfrm>
                <a:off x="4105080" y="1828800"/>
                <a:ext cx="1422360" cy="1160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21"/>
              <p:cNvGrpSpPr/>
              <p:nvPr/>
            </p:nvGrpSpPr>
            <p:grpSpPr>
              <a:xfrm>
                <a:off x="6638040" y="1828800"/>
                <a:ext cx="1407600" cy="1160280"/>
                <a:chOff x="6638040" y="1828800"/>
                <a:chExt cx="1407600" cy="1160280"/>
              </a:xfrm>
            </p:grpSpPr>
            <p:sp>
              <p:nvSpPr>
                <p:cNvPr id="162" name="Rectangle 27"/>
                <p:cNvSpPr/>
                <p:nvPr/>
              </p:nvSpPr>
              <p:spPr>
                <a:xfrm>
                  <a:off x="6641280" y="1828800"/>
                  <a:ext cx="1398960" cy="11574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4f81bd"/>
                  </a:solidFill>
                  <a:miter/>
                </a:ln>
                <a:effectLst>
                  <a:outerShdw dist="17819" dir="2700000" blurRad="0" rotWithShape="0">
                    <a:srgbClr val="243f6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26"/>
                <p:cNvSpPr/>
                <p:nvPr/>
              </p:nvSpPr>
              <p:spPr>
                <a:xfrm>
                  <a:off x="6638040" y="1831680"/>
                  <a:ext cx="698400" cy="594720"/>
                </a:xfrm>
                <a:prstGeom prst="rect">
                  <a:avLst/>
                </a:prstGeom>
                <a:solidFill>
                  <a:srgbClr val="4f81bd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25"/>
                <p:cNvSpPr/>
                <p:nvPr/>
              </p:nvSpPr>
              <p:spPr>
                <a:xfrm>
                  <a:off x="7336440" y="2431440"/>
                  <a:ext cx="708840" cy="5544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65" name="AutoShape 24"/>
                <p:cNvCxnSpPr/>
                <p:nvPr/>
              </p:nvCxnSpPr>
              <p:spPr>
                <a:xfrm>
                  <a:off x="7705440" y="2426400"/>
                  <a:ext cx="1080" cy="563040"/>
                </a:xfrm>
                <a:prstGeom prst="straightConnector1">
                  <a:avLst/>
                </a:prstGeom>
                <a:ln w="31680">
                  <a:solidFill>
                    <a:srgbClr val="4f81bd"/>
                  </a:solidFill>
                  <a:miter/>
                </a:ln>
              </p:spPr>
            </p:cxnSp>
            <p:cxnSp>
              <p:nvCxnSpPr>
                <p:cNvPr id="166" name="AutoShape 23"/>
                <p:cNvCxnSpPr/>
                <p:nvPr/>
              </p:nvCxnSpPr>
              <p:spPr>
                <a:xfrm>
                  <a:off x="7346880" y="2713680"/>
                  <a:ext cx="699120" cy="1080"/>
                </a:xfrm>
                <a:prstGeom prst="straightConnector1">
                  <a:avLst/>
                </a:prstGeom>
                <a:ln w="31680">
                  <a:solidFill>
                    <a:srgbClr val="4f81bd"/>
                  </a:solidFill>
                  <a:miter/>
                </a:ln>
              </p:spPr>
            </p:cxnSp>
            <p:sp>
              <p:nvSpPr>
                <p:cNvPr id="167" name="Rectangle 22"/>
                <p:cNvSpPr/>
                <p:nvPr/>
              </p:nvSpPr>
              <p:spPr>
                <a:xfrm>
                  <a:off x="7719840" y="2741400"/>
                  <a:ext cx="325440" cy="244440"/>
                </a:xfrm>
                <a:prstGeom prst="rect">
                  <a:avLst/>
                </a:prstGeom>
                <a:solidFill>
                  <a:srgbClr val="4f81bd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7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Rectangle 20"/>
              <p:cNvSpPr/>
              <p:nvPr/>
            </p:nvSpPr>
            <p:spPr>
              <a:xfrm>
                <a:off x="1935000" y="4328640"/>
                <a:ext cx="1407600" cy="1157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4f81bd"/>
                    </a:solidFill>
                    <a:latin typeface="Arial"/>
                    <a:ea typeface="Times New Roman"/>
                  </a:rPr>
                  <a:t>OF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9"/>
              <p:cNvSpPr/>
              <p:nvPr/>
            </p:nvSpPr>
            <p:spPr>
              <a:xfrm>
                <a:off x="3785760" y="4313160"/>
                <a:ext cx="847800" cy="1157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4f81bd"/>
                    </a:solidFill>
                    <a:latin typeface="Arial"/>
                    <a:ea typeface="Times New Roman"/>
                  </a:rPr>
                  <a:t>OF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8"/>
              <p:cNvSpPr/>
              <p:nvPr/>
            </p:nvSpPr>
            <p:spPr>
              <a:xfrm>
                <a:off x="4988160" y="4310280"/>
                <a:ext cx="909000" cy="1160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7"/>
              <p:cNvSpPr/>
              <p:nvPr/>
            </p:nvSpPr>
            <p:spPr>
              <a:xfrm>
                <a:off x="6283440" y="4310280"/>
                <a:ext cx="846000" cy="1157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4f81bd"/>
                    </a:solidFill>
                    <a:latin typeface="Arial"/>
                    <a:ea typeface="Times New Roman"/>
                  </a:rPr>
                  <a:t>OF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10"/>
              <p:cNvGrpSpPr/>
              <p:nvPr/>
            </p:nvGrpSpPr>
            <p:grpSpPr>
              <a:xfrm>
                <a:off x="7545600" y="4309560"/>
                <a:ext cx="964440" cy="1157400"/>
                <a:chOff x="7545600" y="4309560"/>
                <a:chExt cx="964440" cy="1157400"/>
              </a:xfrm>
            </p:grpSpPr>
            <p:sp>
              <p:nvSpPr>
                <p:cNvPr id="173" name="Rectangle 16"/>
                <p:cNvSpPr/>
                <p:nvPr/>
              </p:nvSpPr>
              <p:spPr>
                <a:xfrm>
                  <a:off x="7545600" y="4309560"/>
                  <a:ext cx="964440" cy="1156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4f81bd"/>
                  </a:solidFill>
                  <a:miter/>
                </a:ln>
                <a:effectLst>
                  <a:outerShdw dist="17819" dir="2700000" blurRad="0" rotWithShape="0">
                    <a:srgbClr val="243f6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15"/>
                <p:cNvSpPr/>
                <p:nvPr/>
              </p:nvSpPr>
              <p:spPr>
                <a:xfrm>
                  <a:off x="7545600" y="4310280"/>
                  <a:ext cx="478440" cy="594360"/>
                </a:xfrm>
                <a:prstGeom prst="rect">
                  <a:avLst/>
                </a:prstGeom>
                <a:solidFill>
                  <a:srgbClr val="4f81bd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4"/>
                <p:cNvSpPr/>
                <p:nvPr/>
              </p:nvSpPr>
              <p:spPr>
                <a:xfrm>
                  <a:off x="8024040" y="4910040"/>
                  <a:ext cx="485640" cy="55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76" name="AutoShape 13"/>
                <p:cNvCxnSpPr/>
                <p:nvPr/>
              </p:nvCxnSpPr>
              <p:spPr>
                <a:xfrm>
                  <a:off x="8276400" y="4904640"/>
                  <a:ext cx="1080" cy="562680"/>
                </a:xfrm>
                <a:prstGeom prst="straightConnector1">
                  <a:avLst/>
                </a:prstGeom>
                <a:ln w="31680">
                  <a:solidFill>
                    <a:srgbClr val="4f81bd"/>
                  </a:solidFill>
                  <a:miter/>
                </a:ln>
              </p:spPr>
            </p:cxnSp>
            <p:cxnSp>
              <p:nvCxnSpPr>
                <p:cNvPr id="177" name="AutoShape 12"/>
                <p:cNvCxnSpPr/>
                <p:nvPr/>
              </p:nvCxnSpPr>
              <p:spPr>
                <a:xfrm>
                  <a:off x="8030880" y="5191560"/>
                  <a:ext cx="479160" cy="1080"/>
                </a:xfrm>
                <a:prstGeom prst="straightConnector1">
                  <a:avLst/>
                </a:prstGeom>
                <a:ln w="31680">
                  <a:solidFill>
                    <a:srgbClr val="4f81bd"/>
                  </a:solidFill>
                  <a:miter/>
                </a:ln>
              </p:spPr>
            </p:cxnSp>
            <p:sp>
              <p:nvSpPr>
                <p:cNvPr id="178" name="Rectangle 11"/>
                <p:cNvSpPr/>
                <p:nvPr/>
              </p:nvSpPr>
              <p:spPr>
                <a:xfrm>
                  <a:off x="8286480" y="5219280"/>
                  <a:ext cx="222840" cy="244440"/>
                </a:xfrm>
                <a:prstGeom prst="rect">
                  <a:avLst/>
                </a:prstGeom>
                <a:solidFill>
                  <a:srgbClr val="4f81bd"/>
                </a:solidFill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AutoShape 9"/>
              <p:cNvSpPr/>
              <p:nvPr/>
            </p:nvSpPr>
            <p:spPr>
              <a:xfrm rot="1705800">
                <a:off x="6638400" y="3107880"/>
                <a:ext cx="415800" cy="1112760"/>
              </a:xfrm>
              <a:prstGeom prst="downArrow">
                <a:avLst>
                  <a:gd name="adj1" fmla="val 50000"/>
                  <a:gd name="adj2" fmla="val 66905"/>
                </a:avLst>
              </a:prstGeom>
              <a:solidFill>
                <a:srgbClr val="4f81bd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8"/>
              <p:cNvSpPr/>
              <p:nvPr/>
            </p:nvSpPr>
            <p:spPr>
              <a:xfrm rot="20184600">
                <a:off x="7657920" y="3107520"/>
                <a:ext cx="415800" cy="1112760"/>
              </a:xfrm>
              <a:prstGeom prst="downArrow">
                <a:avLst>
                  <a:gd name="adj1" fmla="val 50000"/>
                  <a:gd name="adj2" fmla="val 66905"/>
                </a:avLst>
              </a:prstGeom>
              <a:solidFill>
                <a:srgbClr val="4f81bd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17819" dir="270000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>
                <a:off x="166680" y="2399400"/>
                <a:ext cx="141732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c0504d"/>
                    </a:solidFill>
                    <a:latin typeface="Arial"/>
                    <a:ea typeface="Times New Roman"/>
                  </a:rPr>
                  <a:t>LU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6"/>
              <p:cNvSpPr/>
              <p:nvPr/>
            </p:nvSpPr>
            <p:spPr>
              <a:xfrm>
                <a:off x="258480" y="4557240"/>
                <a:ext cx="1417320" cy="6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76923c"/>
                    </a:solidFill>
                    <a:latin typeface="Arial"/>
                    <a:ea typeface="Times New Roman"/>
                  </a:rPr>
                  <a:t>CHRO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AutoShape 4"/>
            <p:cNvSpPr/>
            <p:nvPr/>
          </p:nvSpPr>
          <p:spPr>
            <a:xfrm>
              <a:off x="2438640" y="3091680"/>
              <a:ext cx="415800" cy="1113120"/>
            </a:xfrm>
            <a:prstGeom prst="downArrow">
              <a:avLst>
                <a:gd name="adj1" fmla="val 50000"/>
                <a:gd name="adj2" fmla="val 66926"/>
              </a:avLst>
            </a:pr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 rot="1705800">
              <a:off x="4104720" y="3107880"/>
              <a:ext cx="415800" cy="1112760"/>
            </a:xfrm>
            <a:prstGeom prst="downArrow">
              <a:avLst>
                <a:gd name="adj1" fmla="val 50000"/>
                <a:gd name="adj2" fmla="val 66905"/>
              </a:avLst>
            </a:pr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"/>
            <p:cNvSpPr/>
            <p:nvPr/>
          </p:nvSpPr>
          <p:spPr>
            <a:xfrm rot="20184600">
              <a:off x="5124240" y="3107520"/>
              <a:ext cx="415800" cy="1112760"/>
            </a:xfrm>
            <a:prstGeom prst="downArrow">
              <a:avLst>
                <a:gd name="adj1" fmla="val 50000"/>
                <a:gd name="adj2" fmla="val 66905"/>
              </a:avLst>
            </a:pr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osed ALF of Chroma Sample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Structure &amp; Same Map as ALF-Lu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603-0D88-400C-B9AA-FB2AD2E595A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99% </a:t>
                      </a:r>
                      <a:r>
                        <a:rPr b="0" lang="fr-FR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0.1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18% </a:t>
                      </a: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3.7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7260-C165-4DC8-AEC1-5588B9D03FF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67% </a:t>
                      </a:r>
                      <a:r>
                        <a:rPr b="0" lang="fr-FR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9.7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.03% </a:t>
                      </a: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3.5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B0F-8DF5-4109-BA29-CB4DAAC9BE6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% </a:t>
                      </a: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0.9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.63% </a:t>
                      </a:r>
                      <a:r>
                        <a:rPr b="0" lang="fr-FR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5.3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2E9-03B4-435B-BAFE-D2D22B51C67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.45% </a:t>
                      </a: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1.7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.84% </a:t>
                      </a:r>
                      <a:r>
                        <a:rPr b="0" lang="fr-FR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1.5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530-55AB-4A7D-B0FE-E9618D9F445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09480" y="1494000"/>
          <a:ext cx="7620120" cy="209520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.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.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.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Box 6"/>
          <p:cNvSpPr/>
          <p:nvPr/>
        </p:nvSpPr>
        <p:spPr>
          <a:xfrm>
            <a:off x="547200" y="10666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Encoder/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622800" y="37339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Case 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4076640"/>
          <a:ext cx="7620120" cy="209556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cer</cp:lastModifiedBy>
  <cp:lastPrinted>2009-04-22T19:24:48Z</cp:lastPrinted>
  <dcterms:modified xsi:type="dcterms:W3CDTF">2011-07-12T01:22:47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