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DA34-3F74-437A-B2E8-B29EFB71EBF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: last meeting MD 7x5  &amp; 19x5 cross in context of HM 2.0 adopted into HM SW for CE testing. We merged these shapes into HM 3.0 and released AC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041 is a modified ACDS where 19x5 cross -&gt; 11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0528-DF11-4564-8013-D36839E8D9C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1-pass is really 2x1 pass so there are 15 p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34CF-C298-49C2-A2E2-A8E351C674E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loss, 5% decrease in decoder execution time due to fewer coefficients …  Worst case computational complexity is reduced even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are more relevant for SW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HAT IS THE ANCHOR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094B-1467-4D5F-AE64-9C70567F6B8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535A-B9D2-4019-BEA0-CB29B4DE720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2B8E-9CEF-4522-B812-70C288D3F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AD95-3520-458A-A5A3-A24B53CF6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3E76-1B60-452D-9A9A-4BAD3CD75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C5FF4-0F52-406D-8250-3A97E2A47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A679-CA3E-42CB-8006-90231DA865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64A9-E004-414D-8669-B8E9B2FE8F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700AF-E72F-445C-9C0C-339BAEEF9C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3460-9A20-439A-B94E-CA928546CD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13A2-1058-4D10-9ED5-B077315DB5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E2FF5-3A03-4DDA-BDAF-0605859701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D0448-A589-4269-B8A3-5A4897FBB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CF5E-AE28-4C8A-B2FE-38795A8FE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F80D-9E8B-42F1-BF47-3EAFFA2BBE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BFB8-17C2-4D43-931F-E424AB8E6A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8D2F-9443-47A8-9C71-59D0D97FA5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CAF3F-6260-4AB0-AA11-7643290B01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D9AA-8A8B-4238-9EA5-7086770097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767-453F-4414-A257-26C72458E5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4D9-0A3E-44B1-B1AD-C47B3D48F6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68F-D502-4509-B01F-EBB3A5AA7F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1BC-C2B1-4BA9-89F6-C2AFE506C0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3F6-07F3-4F40-9432-D7BF871F2C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F193-1C1C-496F-94AF-FD04FC63DF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EC9-3272-472C-91A1-81D6427B20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AF1-884B-4FA5-8CE8-E04A6A631B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453-AD54-4B24-835B-84E7C269E7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30B-660D-44E2-BF64-A5F15C59BE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337-B304-48D2-8E8B-BC42AB87C8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320-FEAA-443B-82E7-720BCF3D14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DC5-58F5-446A-A812-2B894881E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B649-DB66-4E8B-8290-768A3300A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2DB3-0CDF-4AEA-97A5-74C01D882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0835-32C2-49C9-B72D-3FF6C7975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D0F8-776A-4903-B140-D76B69583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C005-6B85-44A1-B590-6DD91C28B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A04F-AA0E-483A-927A-8A05968CC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A7B4-882D-45A9-9C9C-4A9F097DE3F7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9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6143-7770-41A9-AB65-CC19080E2128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198A-174A-4A02-A709-292430A98596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7539-1F62-489C-B743-D107F1BAC5D6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E4A1-55B8-4DB7-B36F-AE674421FC55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2941560"/>
            <a:ext cx="91440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28600" y="15238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SimHei"/>
              </a:rPr>
              <a:t>JCTVC-F041 (CE8)</a:t>
            </a:r>
            <a:r>
              <a:rPr b="1" lang="en-CA" sz="3200" spc="-1" strike="noStrike">
                <a:solidFill>
                  <a:srgbClr val="3c8c93"/>
                </a:solidFill>
                <a:latin typeface="Arial"/>
                <a:ea typeface="SimHei"/>
              </a:rPr>
              <a:t>: </a:t>
            </a: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SimHei"/>
              </a:rPr>
              <a:t>Results on Combination of TI’s 7x5 Modified Diamond and eBrisk’s Cross 11x5 Sh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905120" y="3809880"/>
            <a:ext cx="53337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Michael Horowitz, eBrisk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To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SimHei"/>
              </a:rPr>
              <a:t>14-22 July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3365-4C8B-4206-A117-46CC66422A6E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 ALF + A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: Combination ALF+AIF offers  better complexity-cod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0FFC-2D4B-4DBC-B29C-617C8658951B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D456-A20E-4F03-9264-667FB78ED367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IF + AL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80C2-0E08-4B11-AE80-9FA7952A6DEE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IF + AL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IF + AL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CC4B-A363-4D37-B35B-1D60623FFC3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8CED-0807-43D6-89F8-D5DF647F06E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 Analysi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IF + AL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494000"/>
          <a:ext cx="7620120" cy="1744560"/>
        </p:xfrm>
        <a:graphic>
          <a:graphicData uri="http://schemas.openxmlformats.org/drawingml/2006/table">
            <a:tbl>
              <a:tblPr/>
              <a:tblGrid>
                <a:gridCol w="2362320"/>
                <a:gridCol w="2438280"/>
                <a:gridCol w="2819520"/>
              </a:tblGrid>
              <a:tr h="4107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Box 6"/>
          <p:cNvSpPr/>
          <p:nvPr/>
        </p:nvSpPr>
        <p:spPr>
          <a:xfrm>
            <a:off x="547200" y="10666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Encoder/Decod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622800" y="373392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st-Case Decod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09480" y="4076640"/>
          <a:ext cx="7620120" cy="1676520"/>
        </p:xfrm>
        <a:graphic>
          <a:graphicData uri="http://schemas.openxmlformats.org/drawingml/2006/table">
            <a:tbl>
              <a:tblPr/>
              <a:tblGrid>
                <a:gridCol w="2362320"/>
                <a:gridCol w="2438280"/>
                <a:gridCol w="2819520"/>
              </a:tblGrid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C Dec Tim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lass 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C Dec Tim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lass 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4A51-91BA-4E62-8ECE-C7834D83A6C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B706-A8D0-49F0-871A-388B4D9ED36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Tech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9"/>
          <p:cNvGraphicFramePr/>
          <p:nvPr/>
        </p:nvGraphicFramePr>
        <p:xfrm>
          <a:off x="565200" y="2349360"/>
          <a:ext cx="3048120" cy="17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2349360"/>
                    <a:ext cx="304812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11"/>
          <p:cNvGraphicFramePr/>
          <p:nvPr/>
        </p:nvGraphicFramePr>
        <p:xfrm>
          <a:off x="4125960" y="2394000"/>
          <a:ext cx="4876920" cy="16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5960" y="2394000"/>
                    <a:ext cx="487692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12"/>
          <p:cNvSpPr/>
          <p:nvPr/>
        </p:nvSpPr>
        <p:spPr>
          <a:xfrm>
            <a:off x="594000" y="4191120"/>
            <a:ext cx="30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c8c93"/>
                </a:solidFill>
                <a:latin typeface="Arial"/>
                <a:ea typeface="SimHei"/>
              </a:rPr>
              <a:t>TI’s 7x5 Modified Diamond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5337360" y="419112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c8c93"/>
                </a:solidFill>
                <a:latin typeface="Arial"/>
                <a:ea typeface="SimHei"/>
              </a:rPr>
              <a:t>eBrisk’s Cross 11x5 Sh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7E5B-0395-4DE7-9C22-E7C29135F46E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B7AD-BC45-4B9F-984F-86E778862ED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8991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posed ALF Algorith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1752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1371600" y="1219320"/>
          <a:ext cx="594360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94360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C30B-94CC-4533-BD6B-56F7EDFC61F0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ulti-p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9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5.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C331-7C7F-4D7D-882B-CA62CD815E67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ulti-p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69% </a:t>
                      </a: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100.7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6.02% </a:t>
                      </a: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94.73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BFF0-4F23-42AC-B744-6D35F7455EAC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ulti-pa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1.07% </a:t>
                      </a: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103.3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43% </a:t>
                      </a: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96.7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6B5C-14B2-407D-BBCC-C681FD53CB28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ulti-pa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90720" y="1676520"/>
          <a:ext cx="6933960" cy="4111560"/>
        </p:xfrm>
        <a:graphic>
          <a:graphicData uri="http://schemas.openxmlformats.org/drawingml/2006/table">
            <a:tbl>
              <a:tblPr/>
              <a:tblGrid>
                <a:gridCol w="2151000"/>
                <a:gridCol w="1587600"/>
                <a:gridCol w="1604880"/>
                <a:gridCol w="1590480"/>
              </a:tblGrid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 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2.38% </a:t>
                      </a: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105.8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52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3.36% </a:t>
                      </a: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93.5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8760-B1E4-41CC-9770-3B94D38F1813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ity Analysi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ulti-pa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09480" y="1494000"/>
          <a:ext cx="7620120" cy="2095200"/>
        </p:xfrm>
        <a:graphic>
          <a:graphicData uri="http://schemas.openxmlformats.org/drawingml/2006/table">
            <a:tbl>
              <a:tblPr/>
              <a:tblGrid>
                <a:gridCol w="2362320"/>
                <a:gridCol w="2438280"/>
                <a:gridCol w="2819520"/>
              </a:tblGrid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5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0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6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1.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8.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02.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3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TextBox 6"/>
          <p:cNvSpPr/>
          <p:nvPr/>
        </p:nvSpPr>
        <p:spPr>
          <a:xfrm>
            <a:off x="547200" y="10666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Encoder/Decod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622800" y="373392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st-Case Decod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9480" y="4076640"/>
          <a:ext cx="7620120" cy="2095560"/>
        </p:xfrm>
        <a:graphic>
          <a:graphicData uri="http://schemas.openxmlformats.org/drawingml/2006/table">
            <a:tbl>
              <a:tblPr/>
              <a:tblGrid>
                <a:gridCol w="2362320"/>
                <a:gridCol w="2438280"/>
                <a:gridCol w="2819520"/>
              </a:tblGrid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g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C Dec Tim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lass 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C Dec Time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lass 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P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(B)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a Only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7162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erage decoder complexity reduced by ~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5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 to HM 3.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erage coding efficiency loss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.27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l filter size reduced 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st-case decoder complexity reduced by ~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lative to HM 3.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combined with AIF, the efficiency loss due to the less complex ALF filters goes to zer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371600" y="4114800"/>
          <a:ext cx="6553080" cy="952560"/>
        </p:xfrm>
        <a:graphic>
          <a:graphicData uri="http://schemas.openxmlformats.org/drawingml/2006/table">
            <a:tbl>
              <a:tblPr/>
              <a:tblGrid>
                <a:gridCol w="1112760"/>
                <a:gridCol w="1123920"/>
                <a:gridCol w="1114560"/>
                <a:gridCol w="946080"/>
                <a:gridCol w="1071720"/>
                <a:gridCol w="1184040"/>
              </a:tblGrid>
              <a:tr h="304920">
                <a:tc gridSpan="3"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F (MD7x5+C11x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F + A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0840" marR="60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371600" y="5197320"/>
          <a:ext cx="6553080" cy="974880"/>
        </p:xfrm>
        <a:graphic>
          <a:graphicData uri="http://schemas.openxmlformats.org/drawingml/2006/table">
            <a:tbl>
              <a:tblPr/>
              <a:tblGrid>
                <a:gridCol w="2336760"/>
                <a:gridCol w="2398680"/>
                <a:gridCol w="1817640"/>
              </a:tblGrid>
              <a:tr h="272880">
                <a:tc>
                  <a:txBody>
                    <a:bodyPr lIns="52920" rIns="5292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F (MD7x5+C11x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F + A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2920" rIns="5292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6% </a:t>
                      </a: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  <a:ea typeface="바탕"/>
                        </a:rPr>
                        <a:t>(9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aeef3"/>
                    </a:solidFill>
                  </a:tcPr>
                </a:tc>
              </a:tr>
              <a:tr h="351000">
                <a:tc>
                  <a:txBody>
                    <a:bodyPr lIns="52920" rIns="5292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C 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e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Acer</cp:lastModifiedBy>
  <cp:lastPrinted>2009-04-22T19:24:48Z</cp:lastPrinted>
  <dcterms:modified xsi:type="dcterms:W3CDTF">2011-07-12T01:12:43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