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F9FD-FE99-4F4E-9D1F-80F34F6CE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スライド番号プレースホルダ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FB5-6470-4005-8692-01C13FACD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DEDE-CD07-47BC-B1A6-2B0CDB083B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7DC6-C8EC-4FC0-9ED9-0158C7302B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0FFA-8CBD-4955-8385-D168A1FBD2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AECE3-9DAB-4236-A2B4-EA1E215F6D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50AF-C70E-4F50-BED6-0B2F4D8D1A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DD9B-D9B0-49F7-9540-F43622A74F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E602-B920-4946-96AD-60232ECF028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A2B8-B804-43CE-852B-D9889C25D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2D946-1CC7-4481-8ECD-1D3C518F59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85739-1E20-415D-92DD-A0480BD75F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716B-9789-456B-B14F-6FFC7507C7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B6DB-0281-4148-A54D-8DB5A16E7A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2574-B39B-402C-9552-E2B10276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C1F54-9F5A-47BB-861C-DD90D68F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1AEE5-3E38-49DF-8495-1974459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BB2E-7591-4496-BA50-BC2EA985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D8B5-61D2-4943-AD60-24B91B6F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99B71-4633-4D79-B211-71DED169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1275F-5336-4CAE-826F-4B2B34EC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A49D3-DB8F-4308-AB6D-07126D73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5DCF1-B0D1-4C1D-95BC-DAE1FD74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0DEA0-1851-4ECE-AB33-C110B8E2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1318A-9B42-4D7B-9A17-BC6D1C33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B1935-7E08-4FB3-9F22-44FE8BA2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36" descr="16_9_logo位置0902w"/>
          <p:cNvPicPr/>
          <p:nvPr/>
        </p:nvPicPr>
        <p:blipFill>
          <a:blip r:embed="rId3"/>
          <a:stretch/>
        </p:blipFill>
        <p:spPr>
          <a:xfrm>
            <a:off x="7932600" y="276120"/>
            <a:ext cx="878040" cy="3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正方形/長方形 22"/>
          <p:cNvSpPr/>
          <p:nvPr/>
        </p:nvSpPr>
        <p:spPr>
          <a:xfrm>
            <a:off x="-1440" y="-111240"/>
            <a:ext cx="9142200" cy="642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0" y="631512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0" y="0"/>
            <a:ext cx="9140760" cy="54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線コネクタ 25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sldNum" idx="1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306-580F-4177-8389-2334E5299EC6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JCTVC-F9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正方形/長方形 22"/>
          <p:cNvSpPr/>
          <p:nvPr/>
        </p:nvSpPr>
        <p:spPr>
          <a:xfrm>
            <a:off x="1440" y="0"/>
            <a:ext cx="9142560" cy="642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3"/>
          <p:cNvSpPr/>
          <p:nvPr/>
        </p:nvSpPr>
        <p:spPr>
          <a:xfrm>
            <a:off x="0" y="6426360"/>
            <a:ext cx="9140760" cy="43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6" descr="16_9_logo位置0902w"/>
          <p:cNvPicPr/>
          <p:nvPr/>
        </p:nvPicPr>
        <p:blipFill>
          <a:blip r:embed="rId2"/>
          <a:stretch/>
        </p:blipFill>
        <p:spPr>
          <a:xfrm>
            <a:off x="8175600" y="144360"/>
            <a:ext cx="77328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直線コネクタ 18"/>
          <p:cNvSpPr/>
          <p:nvPr/>
        </p:nvSpPr>
        <p:spPr>
          <a:xfrm flipH="1">
            <a:off x="430200" y="6473880"/>
            <a:ext cx="1440" cy="216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ftr" idx="3"/>
          </p:nvPr>
        </p:nvSpPr>
        <p:spPr>
          <a:xfrm>
            <a:off x="1260000" y="6473880"/>
            <a:ext cx="5759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Department    Copyrigh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4"/>
          </p:nvPr>
        </p:nvSpPr>
        <p:spPr>
          <a:xfrm>
            <a:off x="576000" y="6473880"/>
            <a:ext cx="6476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09.10.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2AB2-189B-4C6C-9256-299915BA6074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メイリオ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図 23" descr="GBM_top_4-3.jpg"/>
          <p:cNvPicPr/>
          <p:nvPr/>
        </p:nvPicPr>
        <p:blipFill>
          <a:blip r:embed="rId2"/>
          <a:srcRect l="0" t="0" r="285" b="375"/>
          <a:stretch/>
        </p:blipFill>
        <p:spPr>
          <a:xfrm>
            <a:off x="-6480" y="0"/>
            <a:ext cx="9153720" cy="6862680"/>
          </a:xfrm>
          <a:prstGeom prst="rect">
            <a:avLst/>
          </a:prstGeom>
          <a:ln w="0">
            <a:noFill/>
          </a:ln>
        </p:spPr>
      </p:pic>
      <p:sp>
        <p:nvSpPr>
          <p:cNvPr id="163" name="正方形/長方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図 9" descr="mblogo_w.pdf"/>
          <p:cNvPicPr/>
          <p:nvPr/>
        </p:nvPicPr>
        <p:blipFill>
          <a:blip r:embed="rId3"/>
          <a:stretch/>
        </p:blipFill>
        <p:spPr>
          <a:xfrm>
            <a:off x="3600360" y="3114720"/>
            <a:ext cx="1943280" cy="658800"/>
          </a:xfrm>
          <a:prstGeom prst="rect">
            <a:avLst/>
          </a:prstGeom>
          <a:ln w="0">
            <a:noFill/>
          </a:ln>
        </p:spPr>
      </p:pic>
      <p:sp>
        <p:nvSpPr>
          <p:cNvPr id="165" name="テキスト ボックス 3"/>
          <p:cNvSpPr/>
          <p:nvPr/>
        </p:nvSpPr>
        <p:spPr>
          <a:xfrm>
            <a:off x="360360" y="6012000"/>
            <a:ext cx="8423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397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7f7f7f"/>
                </a:solidFill>
                <a:latin typeface="Arial"/>
                <a:ea typeface="メイリオ"/>
              </a:rPr>
              <a:t>“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Sony” or “make.believe” is a registered trademark of Sony Corporation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Names of Sony products and services are the registered trademarks and/or trademarks of Sony Corporation or its Group companies.</a:t>
            </a:r>
            <a:br>
              <a:rPr sz="1000"/>
            </a:br>
            <a:r>
              <a:rPr b="0" lang="en-US" sz="1000" spc="-1" strike="noStrike">
                <a:solidFill>
                  <a:srgbClr val="7f7f7f"/>
                </a:solidFill>
                <a:latin typeface="Arial"/>
                <a:ea typeface="メイリオ"/>
              </a:rPr>
              <a:t>Other company names and product names are the registered trademarks and/or trademarks of the respective compan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GP創英角ｺﾞｼｯｸUB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0720" y="2340000"/>
            <a:ext cx="770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Century Gothic"/>
              </a:rPr>
              <a:t>JCTVC-F026 Overview</a:t>
            </a:r>
            <a:endParaRPr b="0" lang="en-US" sz="3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20720" y="3060360"/>
            <a:ext cx="77025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A. Tabatabai, K. Chono, M. Budagavi, R. Joshi, A. Segall and H. Yu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720720" y="6048000"/>
            <a:ext cx="77025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ITC Avant Garde Std Bk"/>
                <a:ea typeface="メイリオ"/>
              </a:rPr>
              <a:t>July 12 2011</a:t>
            </a:r>
            <a:endParaRPr b="0" lang="en-US" sz="1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20720" y="3908520"/>
            <a:ext cx="62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6: Intra Prediction Improvements Summary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56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entury Gothic"/>
              </a:rPr>
              <a:t>CE6.c: Differentia Coding of Intra Mode (DCIM)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83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0D8B-AE20-4011-A3F1-17B77E46FE39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678120" y="1876320"/>
            <a:ext cx="2427480" cy="258840"/>
          </a:xfrm>
          <a:prstGeom prst="rect">
            <a:avLst/>
          </a:prstGeom>
          <a:solidFill>
            <a:srgbClr val="002b8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Arial"/>
              </a:rPr>
              <a:t>DCIM  Key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599160" y="1806480"/>
            <a:ext cx="24289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  <a:ea typeface="Arial"/>
              </a:rPr>
              <a:t>HM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6434280" y="2351160"/>
            <a:ext cx="2593800" cy="3012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4"/>
          <p:cNvSpPr/>
          <p:nvPr/>
        </p:nvSpPr>
        <p:spPr>
          <a:xfrm>
            <a:off x="3618000" y="2438280"/>
            <a:ext cx="281628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s current U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icient signaling of direction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ificant Coding &amp; Visual Improv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6"/>
          <p:cNvGraphicFramePr/>
          <p:nvPr/>
        </p:nvGraphicFramePr>
        <p:xfrm>
          <a:off x="65160" y="1674720"/>
          <a:ext cx="3552840" cy="33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0" y="1674720"/>
                    <a:ext cx="355284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90392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entury Gothic"/>
              </a:rPr>
              <a:t>CE6.c: Differential Coding of Intra Modes (DCIM) JCTVC-E318  – Test List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D8E-605B-454C-9FBE-96EBD4A1F40E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78000" y="1117440"/>
          <a:ext cx="8300880" cy="1086120"/>
        </p:xfrm>
        <a:graphic>
          <a:graphicData uri="http://schemas.openxmlformats.org/drawingml/2006/table">
            <a:tbl>
              <a:tblPr/>
              <a:tblGrid>
                <a:gridCol w="1493640"/>
                <a:gridCol w="1438200"/>
                <a:gridCol w="2408400"/>
                <a:gridCol w="2960640"/>
              </a:tblGrid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DC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ny, Sharp, Toshiba, Panasonic (JCTVC-F56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(JCTVC-F240, JCTVC-F41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 (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CTVC-F53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04760" y="2895480"/>
          <a:ext cx="3595680" cy="1589040"/>
        </p:xfrm>
        <a:graphic>
          <a:graphicData uri="http://schemas.openxmlformats.org/drawingml/2006/table">
            <a:tbl>
              <a:tblPr/>
              <a:tblGrid>
                <a:gridCol w="1728720"/>
                <a:gridCol w="924120"/>
                <a:gridCol w="942840"/>
              </a:tblGrid>
              <a:tr h="530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c Method comb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c: Case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c: Case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c: Case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c: Case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Chart 7" descr=""/>
          <p:cNvPicPr/>
          <p:nvPr/>
        </p:nvPicPr>
        <p:blipFill>
          <a:blip r:embed="rId1"/>
          <a:stretch/>
        </p:blipFill>
        <p:spPr>
          <a:xfrm>
            <a:off x="3906720" y="2438280"/>
            <a:ext cx="4981680" cy="354816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142920" y="4746600"/>
            <a:ext cx="37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-BD Rate is graphically 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E6.d: Parallel Intra Cod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E05-D5F1-40BE-9EC7-2CC7E763AE83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4400" y="1520640"/>
            <a:ext cx="4738680" cy="43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Calibri"/>
              </a:rPr>
              <a:t>Parallel prediction unit (PPU) defines a group of pixels intra-coded in a parallel fashion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Calibri"/>
              </a:rPr>
              <a:t>Parallel intra prediction has three steps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artitions PPU into two sets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Predicting 1</a:t>
            </a:r>
            <a:r>
              <a:rPr b="0" lang="en-US" sz="1400" spc="-1" strike="noStrike" baseline="30000">
                <a:solidFill>
                  <a:srgbClr val="996633"/>
                </a:solidFill>
                <a:latin typeface="Calibri"/>
                <a:ea typeface="Calibri"/>
              </a:rPr>
              <a:t>st</a:t>
            </a: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 set blocks (shaded blocks) in parallel using PPU block neighbors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Predicting 2nd set blocks (white blocks) in parallel using PPU block neighbors and also neighbors from 1</a:t>
            </a:r>
            <a:r>
              <a:rPr b="0" lang="en-US" sz="1400" spc="-1" strike="noStrike" baseline="30000">
                <a:solidFill>
                  <a:srgbClr val="996633"/>
                </a:solidFill>
                <a:latin typeface="Calibri"/>
                <a:ea typeface="Calibri"/>
              </a:rPr>
              <a:t>st</a:t>
            </a: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 set blocks 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ree types of partitions tested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Calibri"/>
                <a:ea typeface="Calibri"/>
              </a:rPr>
              <a:t>Checker board, Stripe, 8x8 prediction with 4x4 residuals</a:t>
            </a:r>
            <a:endParaRPr b="0" lang="en-US" sz="1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5829480" y="1130400"/>
            <a:ext cx="1027080" cy="98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3" name=""/>
          <p:cNvGraphicFramePr/>
          <p:nvPr/>
        </p:nvGraphicFramePr>
        <p:xfrm>
          <a:off x="4513320" y="2193840"/>
          <a:ext cx="4630680" cy="182520"/>
        </p:xfrm>
        <a:graphic>
          <a:graphicData uri="http://schemas.openxmlformats.org/drawingml/2006/table">
            <a:tbl>
              <a:tblPr/>
              <a:tblGrid>
                <a:gridCol w="4630680"/>
              </a:tblGrid>
              <a:tr h="182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g. 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- Parallel Prediction with checker board partition for PPU of 8x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513320" y="3670200"/>
          <a:ext cx="4414680" cy="365400"/>
        </p:xfrm>
        <a:graphic>
          <a:graphicData uri="http://schemas.openxmlformats.org/drawingml/2006/table">
            <a:tbl>
              <a:tblPr/>
              <a:tblGrid>
                <a:gridCol w="4414680"/>
              </a:tblGrid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Fig. 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- Parallel Prediction with stripe partition for PPU of 8x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5762520" y="2629080"/>
            <a:ext cx="1094040" cy="1041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5762520" y="4094280"/>
            <a:ext cx="1094040" cy="10411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11"/>
          <p:cNvSpPr/>
          <p:nvPr/>
        </p:nvSpPr>
        <p:spPr>
          <a:xfrm>
            <a:off x="4843440" y="5135400"/>
            <a:ext cx="40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arallel Prediction with stripe partition for PPU of 8x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9039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entury Gothic"/>
              </a:rPr>
              <a:t>CE6.d: Parallel Intra Coding – Test Lis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2E450-AAAB-4DB2-8F99-759A1F2E292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78000" y="1204920"/>
          <a:ext cx="8591400" cy="1244520"/>
        </p:xfrm>
        <a:graphic>
          <a:graphicData uri="http://schemas.openxmlformats.org/drawingml/2006/table">
            <a:tbl>
              <a:tblPr/>
              <a:tblGrid>
                <a:gridCol w="1465200"/>
                <a:gridCol w="2365200"/>
                <a:gridCol w="1422360"/>
                <a:gridCol w="333864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BUDI for HM and HM-SD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RP  (JCTVC-F60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shiba (JCTVC-F3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8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RI (JCTVC-F62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78000" y="2552760"/>
          <a:ext cx="8097840" cy="1100160"/>
        </p:xfrm>
        <a:graphic>
          <a:graphicData uri="http://schemas.openxmlformats.org/drawingml/2006/table">
            <a:tbl>
              <a:tblPr/>
              <a:tblGrid>
                <a:gridCol w="3147840"/>
                <a:gridCol w="852480"/>
                <a:gridCol w="853920"/>
                <a:gridCol w="831960"/>
                <a:gridCol w="720720"/>
                <a:gridCol w="800280"/>
                <a:gridCol w="890640"/>
              </a:tblGrid>
              <a:tr h="249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d Method comb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d: Parallel Intra with Stripe Part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d: Checker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9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d: 8x8 prediction with 4x4 residu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Chart 7" descr=""/>
          <p:cNvPicPr/>
          <p:nvPr/>
        </p:nvPicPr>
        <p:blipFill>
          <a:blip r:embed="rId1"/>
          <a:stretch/>
        </p:blipFill>
        <p:spPr>
          <a:xfrm>
            <a:off x="4138560" y="3865680"/>
            <a:ext cx="4383000" cy="23828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/>
          <p:cNvSpPr/>
          <p:nvPr/>
        </p:nvSpPr>
        <p:spPr>
          <a:xfrm>
            <a:off x="378000" y="4586400"/>
            <a:ext cx="37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-BD Rate is graphically 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E6.e: Intra Smoothing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6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2CA-F38B-4D93-806D-1131ED9039F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4920" y="2222280"/>
            <a:ext cx="4381560" cy="19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Calibri"/>
              </a:rPr>
              <a:t>Qualcomm’s Mode-dependent intra smoothing (MDIS) scheme </a:t>
            </a:r>
            <a:endParaRPr b="0" lang="en-US" sz="20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termines smoothing filter type according to prediction unit (PU) size and intra prediction mode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27920" indent="-280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DIS orders intra prediction modes in a hierarchy mapped to PU size.</a:t>
            </a:r>
            <a:endParaRPr b="0" lang="en-US" sz="16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Object 1" descr=""/>
          <p:cNvPicPr/>
          <p:nvPr/>
        </p:nvPicPr>
        <p:blipFill>
          <a:blip r:embed="rId1"/>
          <a:srcRect l="0" t="-816" r="-1478" b="-2729"/>
          <a:stretch/>
        </p:blipFill>
        <p:spPr>
          <a:xfrm>
            <a:off x="4506840" y="1224000"/>
            <a:ext cx="4421160" cy="44067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6"/>
          <p:cNvSpPr/>
          <p:nvPr/>
        </p:nvSpPr>
        <p:spPr>
          <a:xfrm>
            <a:off x="5979960" y="4597560"/>
            <a:ext cx="294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iltering is indicated with a marker as a function of intra prediction direction and PU size. When the marker is absent, no filtering is appl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9039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entury Gothic"/>
              </a:rPr>
              <a:t>CE6.e: Intra Smoothing, JCTVC-D282, Qualcomm – Test List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35E6-A058-4D19-B5E4-710E7BFC662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78000" y="1146240"/>
          <a:ext cx="8503920" cy="1101600"/>
        </p:xfrm>
        <a:graphic>
          <a:graphicData uri="http://schemas.openxmlformats.org/drawingml/2006/table">
            <a:tbl>
              <a:tblPr/>
              <a:tblGrid>
                <a:gridCol w="1407960"/>
                <a:gridCol w="2757600"/>
                <a:gridCol w="1407960"/>
                <a:gridCol w="2930400"/>
              </a:tblGrid>
              <a:tr h="49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JCTVC-D282: Adaptive intra smoothing, Qual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1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tsubishi (JCTVC-F1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hent University (JCTVC-F4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125280" y="2895480"/>
          <a:ext cx="4013280" cy="1438560"/>
        </p:xfrm>
        <a:graphic>
          <a:graphicData uri="http://schemas.openxmlformats.org/drawingml/2006/table">
            <a:tbl>
              <a:tblPr/>
              <a:tblGrid>
                <a:gridCol w="2278080"/>
                <a:gridCol w="841320"/>
                <a:gridCol w="893880"/>
              </a:tblGrid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e Method comb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e: Modified MD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e: Class C 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e: Modified MDIS compared with HM3 Anchor+MDIS disab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Chart 7" descr=""/>
          <p:cNvPicPr/>
          <p:nvPr/>
        </p:nvPicPr>
        <p:blipFill>
          <a:blip r:embed="rId1"/>
          <a:stretch/>
        </p:blipFill>
        <p:spPr>
          <a:xfrm>
            <a:off x="4383000" y="2494080"/>
            <a:ext cx="450540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78000" y="628560"/>
            <a:ext cx="85500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Intra Prediction Improvement CE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4BC4-F06B-4AD2-943E-897041880A9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78000" y="1413000"/>
            <a:ext cx="85500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E6.a: Block based Intra Predic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E6.b: Short Distance Intra Prediction (SDIP) Harmonization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E6.c: Differential Coding of Intra Mode (DCIM)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E6.d: Parallel Intra Coding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alibri"/>
                <a:ea typeface="Calibri"/>
              </a:rPr>
              <a:t>CE6.e: Intra Smoothing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E6.a: Block-based Intra Prediction 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4AEE-9F8E-4B19-8B45-6E52A7CA27F0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24920" y="1968120"/>
            <a:ext cx="44895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Intra prediction modes (IPM) 6 and 9 in current HM predict same texture zone 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Leads to a unified Intra prediction for specific texture direction of 45 degrees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Bi-directional UDI (BUDI) mode unifies IPM 6 and 9 by using linear interpolation from above and left reference samples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both reference pixels from main and side arrays can be exploited to improve prediction accuracy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对象 1" descr=""/>
          <p:cNvPicPr/>
          <p:nvPr/>
        </p:nvPicPr>
        <p:blipFill>
          <a:blip r:embed="rId1"/>
          <a:srcRect l="-3043" t="-4587" r="-3615" b="-375"/>
          <a:stretch/>
        </p:blipFill>
        <p:spPr>
          <a:xfrm>
            <a:off x="4614840" y="1463760"/>
            <a:ext cx="432612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Century Gothic"/>
              </a:rPr>
              <a:t>CE6.a: Bi-predictive Uni-Directional Intra (BUDI) Mode - Test List</a:t>
            </a:r>
            <a:endParaRPr b="0" lang="en-US" sz="2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1767-461E-425C-9D2C-BF359225EF08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78000" y="1224000"/>
          <a:ext cx="8300880" cy="4713120"/>
        </p:xfrm>
        <a:graphic>
          <a:graphicData uri="http://schemas.openxmlformats.org/drawingml/2006/table">
            <a:tbl>
              <a:tblPr/>
              <a:tblGrid>
                <a:gridCol w="1199880"/>
                <a:gridCol w="3613320"/>
                <a:gridCol w="1439640"/>
                <a:gridCol w="2048040"/>
              </a:tblGrid>
              <a:tr h="4255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BUDI for HM and HM-SD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8) 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free BUDI for HM and HM-SD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8) 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different combinations of Intra mode signaling for (DC,BUDI,Planar)=(2,6,9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8) 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free different combinations of Intra mode signaling for (DC,BUDI,Planar)=(2,6,9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8) 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different combinations of Intra mode signaling for (DC,BUDI,Planar)=(9,6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free different combinations of Intra mode signaling for (DC,BUDI,Planar)=(9,6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R (JCTVC-F1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different combinations of Intra mode signaling for (DC,BUDI,Planar)=(2,9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C/MS (JCTVC-F2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free different combinations of Intra mode signaling for (DC,BUDI,Planar)=(2,9,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C/MS (JCTVC-F2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based different combinations of Intra mode signaling for (DC,BUDI,Planar)=(6,9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6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LUT-free different combinations of Intra mode signaling for (DC,BUDI,Planar)=(6,9,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Huawei (JCTVC-F5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6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CE6.a Test Results</a:t>
            </a:r>
            <a:endParaRPr b="0" lang="en-US" sz="32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0EA-C891-41A8-B580-730100B2100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4732200" y="3051000"/>
            <a:ext cx="376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-BD Rate is graphically 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Chart 8" descr=""/>
          <p:cNvPicPr/>
          <p:nvPr/>
        </p:nvPicPr>
        <p:blipFill>
          <a:blip r:embed="rId1"/>
          <a:stretch/>
        </p:blipFill>
        <p:spPr>
          <a:xfrm>
            <a:off x="920880" y="3352680"/>
            <a:ext cx="5699160" cy="275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3772080" y="826920"/>
          <a:ext cx="5155920" cy="2122560"/>
        </p:xfrm>
        <a:graphic>
          <a:graphicData uri="http://schemas.openxmlformats.org/drawingml/2006/table">
            <a:tbl>
              <a:tblPr/>
              <a:tblGrid>
                <a:gridCol w="2257200"/>
                <a:gridCol w="620640"/>
                <a:gridCol w="619200"/>
                <a:gridCol w="824040"/>
                <a:gridCol w="834840"/>
              </a:tblGrid>
              <a:tr h="304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a Method comb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SDIP-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SDIP-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a.1 (LUT) BU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a.2 (No LUT) BUD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a.3 (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a.4 (No 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a.5 (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a.6 (No 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a.7 (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a.8 (No 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) a.9 (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) a.10 (No LUT) DC BUDI Plan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Century Gothic"/>
              </a:rPr>
              <a:t>CE6.b: Short Distance Intra Prediction (SDIP) Harmonization </a:t>
            </a:r>
            <a:endParaRPr b="0" lang="en-US" sz="24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6F45-FB37-4C8D-A16E-C402CA1F552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1186920"/>
            <a:ext cx="438156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SDIP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divides NxN block into lines or non-square blocks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buClr>
                <a:srgbClr val="9966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33"/>
                </a:solidFill>
                <a:latin typeface="Calibri"/>
                <a:ea typeface="Calibri"/>
              </a:rPr>
              <a:t>one CU smaller than 64x64 can be partitioned</a:t>
            </a:r>
            <a:endParaRPr b="0" lang="en-US" sz="1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reduces distance of predicted pixel and its reference pixels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  <a:ea typeface="Calibri"/>
              </a:rPr>
              <a:t>SDIP is harmonized with </a:t>
            </a: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RQT syntax, MDDS, Planar, Deblocking Filter, DC prediction filter, MDIS</a:t>
            </a:r>
            <a:endParaRPr b="0" lang="en-US" sz="1400" spc="-1" strike="noStrike">
              <a:solidFill>
                <a:srgbClr val="ffffff"/>
              </a:solidFill>
              <a:latin typeface="HGP創英角ｺﾞｼｯｸUB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6"/>
          <p:cNvGrpSpPr/>
          <p:nvPr/>
        </p:nvGrpSpPr>
        <p:grpSpPr>
          <a:xfrm>
            <a:off x="4533840" y="3214800"/>
            <a:ext cx="4156200" cy="2730240"/>
            <a:chOff x="4533840" y="3214800"/>
            <a:chExt cx="4156200" cy="2730240"/>
          </a:xfrm>
        </p:grpSpPr>
        <p:sp>
          <p:nvSpPr>
            <p:cNvPr id="239" name="AutoShape 7"/>
            <p:cNvSpPr/>
            <p:nvPr/>
          </p:nvSpPr>
          <p:spPr>
            <a:xfrm>
              <a:off x="4533840" y="3214800"/>
              <a:ext cx="4156200" cy="273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6908760" y="4283640"/>
              <a:ext cx="474480" cy="474480"/>
            </a:xfrm>
            <a:prstGeom prst="rect">
              <a:avLst/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9"/>
            <p:cNvSpPr/>
            <p:nvPr/>
          </p:nvSpPr>
          <p:spPr>
            <a:xfrm>
              <a:off x="7620840" y="4283640"/>
              <a:ext cx="466200" cy="47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0"/>
            <p:cNvSpPr/>
            <p:nvPr/>
          </p:nvSpPr>
          <p:spPr>
            <a:xfrm>
              <a:off x="7498800" y="4284360"/>
              <a:ext cx="122040" cy="477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"/>
            <p:cNvSpPr/>
            <p:nvPr/>
          </p:nvSpPr>
          <p:spPr>
            <a:xfrm>
              <a:off x="7383240" y="4283640"/>
              <a:ext cx="12204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2"/>
            <p:cNvSpPr/>
            <p:nvPr/>
          </p:nvSpPr>
          <p:spPr>
            <a:xfrm>
              <a:off x="7143120" y="4283640"/>
              <a:ext cx="120960" cy="47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6196320" y="3808080"/>
              <a:ext cx="1891080" cy="19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14"/>
            <p:cNvCxnSpPr>
              <a:stCxn id="245" idx="0"/>
              <a:endCxn id="245" idx="2"/>
            </p:cNvCxnSpPr>
            <p:nvPr/>
          </p:nvCxnSpPr>
          <p:spPr>
            <a:xfrm>
              <a:off x="7141320" y="3808080"/>
              <a:ext cx="1440" cy="19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47" name="AutoShape 15"/>
            <p:cNvCxnSpPr>
              <a:stCxn id="245" idx="1"/>
              <a:endCxn id="245" idx="3"/>
            </p:cNvCxnSpPr>
            <p:nvPr/>
          </p:nvCxnSpPr>
          <p:spPr>
            <a:xfrm>
              <a:off x="6195960" y="4759200"/>
              <a:ext cx="189180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8" name="Rectangle 16"/>
            <p:cNvSpPr/>
            <p:nvPr/>
          </p:nvSpPr>
          <p:spPr>
            <a:xfrm>
              <a:off x="7143120" y="3808080"/>
              <a:ext cx="477720" cy="47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7"/>
            <p:cNvSpPr/>
            <p:nvPr/>
          </p:nvSpPr>
          <p:spPr>
            <a:xfrm>
              <a:off x="7620840" y="3808080"/>
              <a:ext cx="466200" cy="47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8"/>
            <p:cNvSpPr/>
            <p:nvPr/>
          </p:nvSpPr>
          <p:spPr>
            <a:xfrm>
              <a:off x="7143120" y="4283640"/>
              <a:ext cx="478800" cy="475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9"/>
            <p:cNvSpPr/>
            <p:nvPr/>
          </p:nvSpPr>
          <p:spPr>
            <a:xfrm>
              <a:off x="5958360" y="3406680"/>
              <a:ext cx="831240" cy="27252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8×8 C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20"/>
            <p:cNvSpPr/>
            <p:nvPr/>
          </p:nvSpPr>
          <p:spPr>
            <a:xfrm>
              <a:off x="7068600" y="3414240"/>
              <a:ext cx="950040" cy="26064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8×2 SDIP P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3" name="AutoShape 21"/>
            <p:cNvCxnSpPr>
              <a:stCxn id="251" idx="3"/>
              <a:endCxn id="248" idx="1"/>
            </p:cNvCxnSpPr>
            <p:nvPr/>
          </p:nvCxnSpPr>
          <p:spPr>
            <a:xfrm>
              <a:off x="6789240" y="3543120"/>
              <a:ext cx="353880" cy="503280"/>
            </a:xfrm>
            <a:prstGeom prst="curvedConnector5">
              <a:avLst>
                <a:gd name="adj1" fmla="val 50000"/>
                <a:gd name="adj2" fmla="val 49964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4" name="AutoShape 22"/>
            <p:cNvCxnSpPr>
              <a:stCxn id="252" idx="2"/>
              <a:endCxn id="255" idx="0"/>
            </p:cNvCxnSpPr>
            <p:nvPr/>
          </p:nvCxnSpPr>
          <p:spPr>
            <a:xfrm rot="5400000">
              <a:off x="7139160" y="3877200"/>
              <a:ext cx="589680" cy="218520"/>
            </a:xfrm>
            <a:prstGeom prst="curvedConnector5">
              <a:avLst>
                <a:gd name="adj1" fmla="val 48503"/>
                <a:gd name="adj2" fmla="val 50000"/>
                <a:gd name="adj3" fmla="val 48503"/>
              </a:avLst>
            </a:prstGeom>
            <a:ln w="9360">
              <a:solidFill>
                <a:srgbClr val="00b050"/>
              </a:solidFill>
              <a:miter/>
            </a:ln>
          </p:spPr>
        </p:cxnSp>
        <p:sp>
          <p:nvSpPr>
            <p:cNvPr id="256" name="Text Box 23"/>
            <p:cNvSpPr/>
            <p:nvPr/>
          </p:nvSpPr>
          <p:spPr>
            <a:xfrm>
              <a:off x="5958360" y="5114520"/>
              <a:ext cx="1069560" cy="35568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urrent ed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7" name="AutoShape 24"/>
            <p:cNvCxnSpPr>
              <a:stCxn id="256" idx="0"/>
              <a:endCxn id="250" idx="1"/>
            </p:cNvCxnSpPr>
            <p:nvPr/>
          </p:nvCxnSpPr>
          <p:spPr>
            <a:xfrm flipH="1" flipV="1" rot="5400000">
              <a:off x="6529320" y="4485240"/>
              <a:ext cx="577440" cy="650160"/>
            </a:xfrm>
            <a:prstGeom prst="curvedConnector2">
              <a:avLst/>
            </a:prstGeom>
            <a:ln w="9360">
              <a:solidFill>
                <a:srgbClr val="f79646"/>
              </a:solidFill>
              <a:miter/>
            </a:ln>
          </p:spPr>
        </p:cxnSp>
        <p:sp>
          <p:nvSpPr>
            <p:cNvPr id="255" name="Rectangle 25"/>
            <p:cNvSpPr/>
            <p:nvPr/>
          </p:nvSpPr>
          <p:spPr>
            <a:xfrm>
              <a:off x="7264440" y="4281120"/>
              <a:ext cx="121320" cy="4770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8" name="AutoShape 26"/>
            <p:cNvCxnSpPr/>
            <p:nvPr/>
          </p:nvCxnSpPr>
          <p:spPr>
            <a:xfrm>
              <a:off x="7143840" y="4281120"/>
              <a:ext cx="1440" cy="4816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</a:ln>
          </p:spPr>
        </p:cxnSp>
        <p:sp>
          <p:nvSpPr>
            <p:cNvPr id="259" name="Text Box 27"/>
            <p:cNvSpPr/>
            <p:nvPr/>
          </p:nvSpPr>
          <p:spPr>
            <a:xfrm>
              <a:off x="4777200" y="3900600"/>
              <a:ext cx="1328760" cy="6213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eblocking Filter and decision support reg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0" name="AutoShape 28"/>
            <p:cNvCxnSpPr>
              <a:stCxn id="240" idx="1"/>
              <a:endCxn id="259" idx="3"/>
            </p:cNvCxnSpPr>
            <p:nvPr/>
          </p:nvCxnSpPr>
          <p:spPr>
            <a:xfrm rot="10800000">
              <a:off x="6105240" y="4210200"/>
              <a:ext cx="803160" cy="309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b0f0"/>
              </a:solidFill>
              <a:miter/>
            </a:ln>
          </p:spPr>
        </p:cxnSp>
      </p:grpSp>
      <p:sp>
        <p:nvSpPr>
          <p:cNvPr id="261" name="Text Box 29"/>
          <p:cNvSpPr/>
          <p:nvPr/>
        </p:nvSpPr>
        <p:spPr>
          <a:xfrm>
            <a:off x="4375080" y="5780160"/>
            <a:ext cx="431496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f81bd"/>
                </a:solidFill>
                <a:latin typeface="Times New Roman"/>
              </a:rPr>
              <a:t>Deblocking Filter and decision support region containing edge from 8×2 SDIP 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0" descr=""/>
          <p:cNvPicPr/>
          <p:nvPr/>
        </p:nvPicPr>
        <p:blipFill>
          <a:blip r:embed="rId1"/>
          <a:stretch/>
        </p:blipFill>
        <p:spPr>
          <a:xfrm>
            <a:off x="755640" y="3706920"/>
            <a:ext cx="3619440" cy="21654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0"/>
          <p:cNvSpPr/>
          <p:nvPr/>
        </p:nvSpPr>
        <p:spPr>
          <a:xfrm>
            <a:off x="131760" y="44038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DIP partit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1" descr=""/>
          <p:cNvPicPr/>
          <p:nvPr/>
        </p:nvPicPr>
        <p:blipFill>
          <a:blip r:embed="rId2"/>
          <a:stretch/>
        </p:blipFill>
        <p:spPr>
          <a:xfrm>
            <a:off x="5875200" y="1071720"/>
            <a:ext cx="2305080" cy="2143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4"/>
          <p:cNvSpPr/>
          <p:nvPr/>
        </p:nvSpPr>
        <p:spPr>
          <a:xfrm>
            <a:off x="6433560" y="25956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I prediction for 2x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400" y="628200"/>
            <a:ext cx="903924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Century Gothic"/>
              </a:rPr>
              <a:t>CE6.b: Short Distance Intra Prediction (SDIP) Harmonization (JCTVC-E278) – Test List (1)</a:t>
            </a:r>
            <a:endParaRPr b="0" lang="en-US" sz="17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7F4E-8BB4-4D40-9381-4EF1AD6C6DA2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78000" y="957240"/>
          <a:ext cx="8519760" cy="5311800"/>
        </p:xfrm>
        <a:graphic>
          <a:graphicData uri="http://schemas.openxmlformats.org/drawingml/2006/table">
            <a:tbl>
              <a:tblPr/>
              <a:tblGrid>
                <a:gridCol w="1203120"/>
                <a:gridCol w="2973240"/>
                <a:gridCol w="1584360"/>
                <a:gridCol w="2759040"/>
              </a:tblGrid>
              <a:tr h="2779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Comparison between SDIP and HM3.0 Anch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1 RQT Case1: Harmonization of SDIP and RQT Synta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inghua, USTC, HiSilicon, Microsoft, Huawei (JCTVC-F53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/ Motorola Mobility (JCTVC-F6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ny (JCTVC-F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1 RQT Case2: Harmonization of SDIP and two-depth RQT of 8x32/32x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inghua, USTC, HiSilicon, Microsoft, Huawei (JCTVC-F53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ny (JCTVC-F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2 DST Case1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Mode-Dependent DCT/DST: SDIP=0, MDDT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awei, HiSilicon (JCTVC-F5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(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nge Lab (JCTVC-F13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2 DST Case2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Mode-Dependent DCT/DST: SDIP=1, MDDT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awei, HiSilicon (JCTVC-F5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BC (JCTVC-F6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2 DST Case3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Mode-Dependent DCT/DST: SDIP=1, (MDDT=1 &amp; SDIP_MDDT=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uawei, HiSilicon (JCTVC-F5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 (JCTVC-F23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2R (JCTVC-F15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3 MDCS: Harmonization of SDIP and MDCS: SDIP=1, (MDCS=1&amp;SDIP_MDCS=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C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JCTVC-F1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ny (JCTVC-F3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RIA (JCTVC-F23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4 LM: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LM mode and the chroma prediction in SDIP: SDIP=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TC, Microsof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JCTVC-F19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rp (JCTVC-F392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GE (JCTVC-F19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5 MDIS Case1: Harmonization of SDIP and MDIS: SDIP=0, MDIS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ta Clara University, HiSilicon (JCTVC-F33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5 MDIS Case2: Harmonization of SDIP and MDIS: SDIP=1, MDIS=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ta Clara University, HiSilicon (JCTVC-F33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4400" y="628200"/>
            <a:ext cx="903924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cc0066"/>
                </a:solidFill>
                <a:latin typeface="Century Gothic"/>
              </a:rPr>
              <a:t>CE6.b: Short Distance Intra Prediction (SDIP) Harmonization (JCTVC-E278) – Test List (2)</a:t>
            </a:r>
            <a:endParaRPr b="0" lang="en-US" sz="17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0B5-1606-48F3-B1C7-3D0BA309702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349200" y="1058760"/>
          <a:ext cx="8534520" cy="4773600"/>
        </p:xfrm>
        <a:graphic>
          <a:graphicData uri="http://schemas.openxmlformats.org/drawingml/2006/table">
            <a:tbl>
              <a:tblPr/>
              <a:tblGrid>
                <a:gridCol w="1204920"/>
                <a:gridCol w="3809880"/>
                <a:gridCol w="1908360"/>
                <a:gridCol w="1611360"/>
              </a:tblGrid>
              <a:tr h="277920"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Experi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onent(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ss-checker(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5 MDIS Case3: Harmonization of SDIP and MDIS: SDIP=1, (MDIS=1&amp;SDIP_MDIS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nta Clara University, HiSilicon (JCTVC-F3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5 MDIS Qualcomm Test Cas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hent University (JCTVC-F41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6 Planar Case1: Harmonization of SDIP and PLANAR: SDIP=0, PLANAR=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Tsinghua (JCTVC-F5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on (JCTVC-F48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6 Planar Case2: Harmonization of SDIP and PLANAR: SDIP=1, PLANAR=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Tsinghua (JCTVC-F5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on (JCTVC-F48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6 Planar Case3: Harmonization of SDIP and PLANAR: SDIP=1, (PLANAR=1&amp;SDIP_PLANAR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, Tsinghua (JCTVC-F5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on (JCTVC-F48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ctr" pos="1479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7 LF Case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deblocking filter: SDIP=0, deblocking filter=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inghua, USTC, HiSilicon, Microsoft, Huawei (JCTVC-F5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7 LF Case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deblocking filter: SDIP=1, deblocking filter=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inghua, USTC, HiSilicon, Microsoft, Huawei (JCTVC-F5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7 LF Case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	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deblocking filter: SDIP=1, (deblocking filter=1&amp;SDIP_deblocking filter=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singhua, USTC, HiSilicon, Microsoft, Huawei (JCTVC-F53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C (JCTVC-F34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6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7: Harmonization of SDIP and deblocking fil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tek (JCTVC-F43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8 DC prediction filtering Case1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DC prediction filtering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DI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0, DC prediction filter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 (JCTVC-F539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.6.b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Test8 DC prediction filtering Case2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rmonization of SDIP and DC prediction filtering: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SDI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1, DC prediction filter = 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 (JCTVC-F5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ilicon (JCTVC-F5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400" y="628560"/>
            <a:ext cx="88232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entury Gothic"/>
              </a:rPr>
              <a:t>CE6.b Test Results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125280" y="6473880"/>
            <a:ext cx="2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4428-5D87-47D7-A443-9995F53F963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7951680" y="6473880"/>
            <a:ext cx="1192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メイリオ"/>
              </a:rPr>
              <a:t>JCTVC-F9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25280" y="1266840"/>
          <a:ext cx="2965680" cy="5062680"/>
        </p:xfrm>
        <a:graphic>
          <a:graphicData uri="http://schemas.openxmlformats.org/drawingml/2006/table">
            <a:tbl>
              <a:tblPr/>
              <a:tblGrid>
                <a:gridCol w="1660680"/>
                <a:gridCol w="623880"/>
                <a:gridCol w="681120"/>
              </a:tblGrid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6.b Method comb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b: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S UI Gothic"/>
                        </a:rPr>
                        <a:t>Comparison between SDIP and HM3.0 Anc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b.1: Test1, Cas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b.1: Test1, Case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b.1: Test2, Case1  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DD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b.1: Test2, Case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b.1: Test2, Case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b.1: Test3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D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b.1: Test4, LGE test case 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) b.1: Test4, MS test c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) b.1: Test5, HiSilicon, Case1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D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 b.1: Test5, HiSilicon, Case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) b.1: Test5, HiSilicon, Case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) b.1: Test5, Qualcomm C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) b.1: Test6, Case1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lana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) b.1: Test6, Case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) b.1: Test6, Case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) b.1: Test7, Tsinghua, Case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eblock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) b.1: Test7, Tsinghua, Case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1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.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) b.1: Test7, Tsinghua, Case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) b.1: Test7, Qualcomm tes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) b.1: Test8, Case1  </a:t>
                      </a:r>
                      <a:r>
                        <a:rPr b="1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C Predi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4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) b.1: Test8, Case2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TextBox 7"/>
          <p:cNvSpPr/>
          <p:nvPr/>
        </p:nvSpPr>
        <p:spPr>
          <a:xfrm>
            <a:off x="3730680" y="1266840"/>
            <a:ext cx="37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: Y-BD Rate is graphically pres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Chart 7" descr=""/>
          <p:cNvPicPr/>
          <p:nvPr/>
        </p:nvPicPr>
        <p:blipFill>
          <a:blip r:embed="rId1"/>
          <a:stretch/>
        </p:blipFill>
        <p:spPr>
          <a:xfrm>
            <a:off x="3193920" y="1779480"/>
            <a:ext cx="5840640" cy="3103560"/>
          </a:xfrm>
          <a:prstGeom prst="rect">
            <a:avLst/>
          </a:prstGeom>
          <a:ln w="0">
            <a:noFill/>
          </a:ln>
        </p:spPr>
      </p:pic>
      <p:sp>
        <p:nvSpPr>
          <p:cNvPr id="281" name="TextBox 7"/>
          <p:cNvSpPr/>
          <p:nvPr/>
        </p:nvSpPr>
        <p:spPr>
          <a:xfrm>
            <a:off x="3730680" y="5232240"/>
            <a:ext cx="49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Red-colored data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e report, it says positive means gain. Is it s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31Z</dcterms:created>
  <dc:creator>Sony Customer</dc:creator>
  <dc:description/>
  <dc:language>en-US</dc:language>
  <cp:lastModifiedBy>Ali Tabatabai</cp:lastModifiedBy>
  <dcterms:modified xsi:type="dcterms:W3CDTF">2011-07-14T17:45:02Z</dcterms:modified>
  <cp:revision>213</cp:revision>
  <dc:subject/>
  <dc:title>Sony’s Perspective on the CE Indus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20010AEFE09DCD06140A9660BDD0E512771</vt:lpwstr>
  </property>
  <property fmtid="{D5CDD505-2E9C-101B-9397-08002B2CF9AE}" pid="3" name="Description">
    <vt:lpwstr/>
  </property>
  <property fmtid="{D5CDD505-2E9C-101B-9397-08002B2CF9AE}" pid="4" name="ImageCreateDate">
    <vt:lpwstr/>
  </property>
  <property fmtid="{D5CDD505-2E9C-101B-9397-08002B2CF9AE}" pid="5" name="Published On">
    <vt:lpwstr>2011-03-31T00:00:00Z</vt:lpwstr>
  </property>
  <property fmtid="{D5CDD505-2E9C-101B-9397-08002B2CF9AE}" pid="6" name="Research Categories">
    <vt:lpwstr>;#ALL RESEARCH;#Market Overviews &amp; Share;#Sony Market Research;#ALL CONSUMER ELECTRONICS;#3D;#Blu-ray Disc &amp; DVD;#Digital Imaging;#eBook;#HDTV;#PC/Notebook/Netbook;#Tablets;#ALL BRAND RESEARCH;#Sony;#</vt:lpwstr>
  </property>
  <property fmtid="{D5CDD505-2E9C-101B-9397-08002B2CF9AE}" pid="7" name="Vendor">
    <vt:lpwstr>17</vt:lpwstr>
  </property>
</Properties>
</file>