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8A64-7449-4A2A-ABF2-A92B44177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5DA4-B151-4AB9-BBA4-297FE65F9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C64F-C969-4E7D-8454-E333333AD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C1C5-1780-4451-8DCA-E8DA043CB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1470-5141-4EE4-850E-696EFF140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3771-283A-43C4-B136-356F1D0908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8CD8-C617-40D6-80D7-535A5A35A0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8F7C-6C65-4E8F-AE2B-D90529BD64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3F2E-C145-47D1-9B3F-725CF57A62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E2CE-254E-4633-B1D5-90D2B02656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3274-B628-41B4-BCB3-192C0AC812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A92A-983F-485F-8C5B-43AF0B682C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1F4EB-E137-433A-B7DD-1D771C75A4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A8FE-EB3C-4717-B1B6-6347F29299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F559-004E-464E-B50D-9F2AEEC142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E221F-A65D-4874-8352-918C242988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E1778-E73B-4B8C-B81D-F93929B6C9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C8EC-12ED-4A43-9953-1CD6CB8352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20C6-06E9-4095-80C5-175BFFE26F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7448-77F9-4773-B722-5431C3774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849C-7271-44DC-BBF9-B0D53634A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3921-5C05-433F-A3E2-C2DE0014D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7B46-5AD8-4D1B-80EF-283E09F9F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2B71-8F75-4D61-B141-6225BC4AA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011808"/>
          <p:cNvPicPr/>
          <p:nvPr/>
        </p:nvPicPr>
        <p:blipFill>
          <a:blip r:embed="rId2">
            <a:lum bright="-12000"/>
          </a:blip>
          <a:srcRect l="0" t="50005" r="0" b="40000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76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76F8-65A3-4997-B6B6-1BC1A82B39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2" descr="M orange"/>
          <p:cNvPicPr/>
          <p:nvPr/>
        </p:nvPicPr>
        <p:blipFill>
          <a:blip r:embed="rId3"/>
          <a:stretch/>
        </p:blipFill>
        <p:spPr>
          <a:xfrm>
            <a:off x="8229600" y="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5" descr="011808"/>
          <p:cNvPicPr/>
          <p:nvPr/>
        </p:nvPicPr>
        <p:blipFill>
          <a:blip r:embed="rId4"/>
          <a:srcRect l="32477" t="92800" r="32512" b="2755"/>
          <a:stretch/>
        </p:blipFill>
        <p:spPr>
          <a:xfrm>
            <a:off x="2971800" y="6248520"/>
            <a:ext cx="32004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1"/>
          <p:cNvSpPr/>
          <p:nvPr/>
        </p:nvSpPr>
        <p:spPr>
          <a:xfrm>
            <a:off x="76320" y="6400800"/>
            <a:ext cx="42512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a63e"/>
                </a:solidFill>
                <a:latin typeface="Arial"/>
                <a:ea typeface="ＭＳ Ｐゴシック"/>
              </a:rPr>
              <a:t>Motorola Confidential Proprieta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a63e"/>
                </a:solidFill>
                <a:latin typeface="Arial"/>
                <a:ea typeface="ＭＳ Ｐゴシック"/>
              </a:rPr>
              <a:t>MOTOROLA and the Stylized M Logo are registered in the US Patent &amp; Trademark Office. </a:t>
            </a:r>
            <a:br>
              <a:rPr sz="700"/>
            </a:br>
            <a:r>
              <a:rPr b="0" lang="en-US" sz="700" spc="-1" strike="noStrike">
                <a:solidFill>
                  <a:srgbClr val="ffa63e"/>
                </a:solidFill>
                <a:latin typeface="Arial"/>
                <a:ea typeface="ＭＳ Ｐゴシック"/>
              </a:rPr>
              <a:t>All other product or service names are the property of their respective owners.  © Motorola, Inc. 2008.</a:t>
            </a:r>
            <a:r>
              <a:rPr b="1" i="1" lang="en-US" sz="700" spc="-1" strike="noStrike">
                <a:solidFill>
                  <a:srgbClr val="ffa63e"/>
                </a:solidFill>
                <a:latin typeface="Arial"/>
                <a:ea typeface="ＭＳ Ｐゴシック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4" descr="011808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2" descr="M orange"/>
          <p:cNvPicPr/>
          <p:nvPr/>
        </p:nvPicPr>
        <p:blipFill>
          <a:blip r:embed="rId3"/>
          <a:stretch/>
        </p:blipFill>
        <p:spPr>
          <a:xfrm>
            <a:off x="4114800" y="5437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5" descr="011808"/>
          <p:cNvPicPr/>
          <p:nvPr/>
        </p:nvPicPr>
        <p:blipFill>
          <a:blip r:embed="rId4"/>
          <a:srcRect l="0" t="91687" r="0" b="0"/>
          <a:stretch/>
        </p:blipFill>
        <p:spPr>
          <a:xfrm>
            <a:off x="0" y="6318360"/>
            <a:ext cx="9140760" cy="569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99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990099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565920" indent="-22320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05040" indent="-226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244880" indent="-226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1584000" indent="-226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1584000" indent="-226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1584000" indent="-226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685764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36C1-9452-43D2-AB6C-F16F4B7F7354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400080"/>
            <a:ext cx="617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Motorola Video Networks Users Conf. 08 </a:t>
            </a:r>
            <a:br>
              <a:rPr sz="700"/>
            </a:b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MOTOROLA and the Stylized M Logo are registered in the US Patent &amp; Trademark Office. All other product or service names are the property of their respective owners. © Motorola, Inc. 20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437680" y="304920"/>
            <a:ext cx="401400" cy="40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2666880"/>
          </a:xfrm>
          <a:prstGeom prst="rect">
            <a:avLst/>
          </a:prstGeom>
          <a:solidFill>
            <a:srgbClr val="9999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666880"/>
            <a:ext cx="9144000" cy="533520"/>
          </a:xfrm>
          <a:prstGeom prst="rect">
            <a:avLst/>
          </a:prstGeom>
          <a:solidFill>
            <a:srgbClr val="99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8620" t="8620" r="9724" b="8620"/>
          <a:stretch/>
        </p:blipFill>
        <p:spPr>
          <a:xfrm>
            <a:off x="8229600" y="380880"/>
            <a:ext cx="576360" cy="58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81536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alable enhancement requirements for HEVC and AVC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m19968)</a:t>
            </a:r>
            <a:br>
              <a:rPr sz="4400"/>
            </a:br>
            <a:br>
              <a:rPr sz="4400"/>
            </a:b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(96</a:t>
            </a:r>
            <a:r>
              <a:rPr b="0" lang="en-US" sz="29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/ E Meeting, Geneva)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jay Luth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grou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nce” of computer networks &amp; platforms, digital TV networks &amp; platforms, and telephone networks &amp;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discussed but did not happen, how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beginning to happen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phones (e.g. Droid), Tablets (e.g. Xoom), Mobi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ization of Internet Vide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ing and File 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looking only in the rear-view mirror, let us also look ahe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eous =&gt; Heterogene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B,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, Smart Phones (Droid), Tablets (Xo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ly (Cable, Satellite, Telco) with fixed 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use of internet without fixed 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% of Internet =&gt;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Wireless (Cellular, WiFi …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not used in the past may be needed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that were great in the past may not be so great go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need for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ility vs Trans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need for combination of scal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scalability requirements and do not just copy them from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, so f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l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tial Resolution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zation Noise (sometimes also called SNR)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pness/Frequency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ustness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 Granular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cal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Compatible Scalability for 3D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Depth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Aspect Ratio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ace-to-Progressive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500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new possible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1.5 ratio is appearing more frequently than 1: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VGA =&gt; VGA, VGA=&gt;720p, 720p =&gt; 1080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 of Scalability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and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Layer HVGA (480x320) at e.g. 20 fps, enhancement layer(s) VGA (640x480) at 30 (25) fps to 720p3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layer 720p30, enhancement to 720p60 and 1080p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Quantization (SN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GA at 1 Mbps to VGA at 2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the syntax to allow various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new possible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s with mixed aspect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range of variation in Network capacity is becoming real (Fine Granular Control may be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mbination of spatial and temporal resolution, e.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(half resolution per eye Stereoscopic) to Full Resolution per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layer 1080p24 per eye (1080p48), enhancement 1080p60 per (1080p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layer half res 720p60, enhancement to full res 720p120 to 1080p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ly, larger number of movies converted from 2D to 3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may also be done for commercials as well as TV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lent depth maps are being generated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sibly be made available for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an adhoc group to flesh out th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yond the traditional (motherhood and apple pie) requirements – random access, low delay, complexit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elements and cod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16:43:51Z</dcterms:created>
  <dc:creator/>
  <dc:description/>
  <dc:language>en-US</dc:language>
  <cp:lastModifiedBy>MGI1164</cp:lastModifiedBy>
  <dcterms:modified xsi:type="dcterms:W3CDTF">2011-03-22T10:50:34Z</dcterms:modified>
  <cp:revision>7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