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Ericsson  |  2010-10-04  |  Page </a:t>
            </a:r>
            <a:fld id="{3123A486-EB16-4814-9E9B-E4D7A765F57C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2371680"/>
            <a:ext cx="8351640" cy="9752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NAL unit header concept with support for bit stream scalability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4091040"/>
            <a:ext cx="8354880" cy="20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585a"/>
                </a:solidFill>
                <a:latin typeface="Ericsson Capital TT"/>
              </a:rPr>
              <a:t>JCTvc-E422</a:t>
            </a:r>
            <a:endParaRPr b="0" lang="en-US" sz="22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585a"/>
                </a:solidFill>
                <a:latin typeface="Ericsson Capital TT"/>
              </a:rPr>
              <a:t>Rickard Sjöberg, Thomas rusert, Zhuangfei wu</a:t>
            </a:r>
            <a:endParaRPr b="0" lang="en-US" sz="2200" spc="-1" strike="noStrike">
              <a:solidFill>
                <a:srgbClr val="58585a"/>
              </a:solidFill>
              <a:latin typeface="Ericsson Capital TT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8585a"/>
                </a:solidFill>
                <a:latin typeface="Ericsson Capital TT"/>
              </a:rPr>
              <a:t>ericsson AB</a:t>
            </a:r>
            <a:endParaRPr b="0" lang="en-US" sz="2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example – 1080p 30Hz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7" name=""/>
          <p:cNvSpPr/>
          <p:nvPr/>
        </p:nvSpPr>
        <p:spPr>
          <a:xfrm>
            <a:off x="4205160" y="5364000"/>
            <a:ext cx="4456080" cy="1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05160" y="464508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05160" y="4290840"/>
            <a:ext cx="4456080" cy="1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05160" y="411156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05160" y="303696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05160" y="321804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05160" y="339732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05160" y="250992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05160" y="1969920"/>
            <a:ext cx="4456080" cy="1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05160" y="501660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78080" y="1314360"/>
            <a:ext cx="7920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Logo_ChapterSlide_Normal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background and summary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5920" y="1449360"/>
            <a:ext cx="8315280" cy="4950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is document presents a concept for “hooks” in HEVC to support future scalability extension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is document is for information only, we do not propose any changes to HEVC at this tim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t is suggested to include the presented concept in the context of high-level syntax activities for the next meeting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ummary of proposed concep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 NAL unit ID syntax element present in every NAL unit header that provides identification of lay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Definition of a NAL unit parameter set to specify common properties of lay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ntroduction of a “representation parameter set” (RPS) that groups layers together into independently decodable representation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scalability hooks for hevc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8880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AVC specification, especially the SVC and MVC parts, contains syntax elements to signal identification of layer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ase layer compatibility is in AVC achieved by NAL unit header extensions and prefix NAL units since the base layer specification was done without layered coding consideration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HEVC options for base layer compatible design of NAL unit header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nticipate scalable scenarios and allocate syntax elements in the NAL unit headers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is may be difficult without actually introducing scalability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o account for all combinations may lead to long NAL unit headers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Introduce extensibility mechanisms into the NAL unit and slice head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is adds parsing complexity and could also lead to long NAL unit head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proposed concept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Use indirection in the NAL unit design to signal NAL unit properties outside the NAL unit header -&gt; NAL unit parameter sets (NPS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hort, fixed length NAL unit head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80000"/>
              </a:lnSpc>
              <a:spcBef>
                <a:spcPts val="400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till need syntax extensibility but in NPS instead of the NAL unit header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NID and NPS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6360" y="1196640"/>
            <a:ext cx="8541000" cy="1692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AL unit type parameter sets (NPS) are sent in-band or out-of-band similar to SPS or PP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PS may contain temporal_id, view_id etc.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PS should have extensibility mechanism (such as extension flags) to accommodate more identifiers as needed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ach NAL has a NAL ID syntax element.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The NID ties each NAL with a NPS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NID replaces the nal_ref_idc and can serve as priority_id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22360" y="3024360"/>
            <a:ext cx="7964280" cy="23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1280" y="5472000"/>
            <a:ext cx="84060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following NPS could be defined in an exemplary scenario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 first NPS for parameter sets (SPS, PPS, etc)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 second NPS for random access slice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One NPS for each temporal layer used in the stream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extensibility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6720" y="1375920"/>
            <a:ext cx="8406000" cy="43023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AL unit signaling is extensible without requiring changes to the NAL unit header itself.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If new functionality that requires NAL unit level signaling is added in potential future amendments to HEVC, then only the specification of the NPS syntax structure has to be updated 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e NPS syntax should be defined in an extensible way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e.g. extension fields and/or version identifiers in the NPS syntax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5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NID is defined in such a way that it also reflects an abstract “priority”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similar to nal_ref_idc and priority_id in SVC and MVC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NID=0 is mandated to be associated with the “most important” layer etc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A simple bit stream processor can discard NAL units of low priority considering NID values only, without having to inspect NPSs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400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ore advanced network elements can certainly inspect NPSs and filter out sub-streams more selectively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624960"/>
            <a:ext cx="858816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the representation parameter set (RPS)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27000" y="3608280"/>
            <a:ext cx="5970600" cy="2765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5920" y="1449000"/>
            <a:ext cx="8315280" cy="1979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RPS groups several sub-streams together into an independently decodable representation.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each NAL unit has only a single NID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But each sub-stream can belong to several video representations 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e RPS contains a set of pointers to NPSs, i.e. a set of NIDs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8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Additionally, it may contain indication of high-level properties of the represented video, such as frame rate or average bit rate 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This concept of “video representations” is related to the concepts of operation points and scalability information SEI messages in AVC, and should be studied together 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3840" y="624960"/>
            <a:ext cx="858816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the representation parameter set (RPS)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5920" y="1449000"/>
            <a:ext cx="8315280" cy="1979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e sub-streams could potentially be completely separate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This is similar to simulcast inside the video layer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7360" y="2619360"/>
            <a:ext cx="724536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example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178080" y="1314360"/>
            <a:ext cx="7920000" cy="5276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6280" y="1988640"/>
            <a:ext cx="2835360" cy="1979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Multicast example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WQVGA 60Hz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1080p 60Hz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00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8585a"/>
                </a:solidFill>
                <a:latin typeface="Arial"/>
              </a:rPr>
              <a:t>Both use 3 temporal layers</a:t>
            </a:r>
            <a:endParaRPr b="0" lang="en-US" sz="16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34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585a"/>
                </a:solidFill>
                <a:latin typeface="Arial"/>
              </a:rPr>
              <a:t>For WQVGA there is only a 60Hz representation defined</a:t>
            </a: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example – WQVGA 60Hz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5" name=""/>
          <p:cNvSpPr/>
          <p:nvPr/>
        </p:nvSpPr>
        <p:spPr>
          <a:xfrm>
            <a:off x="4205160" y="1612800"/>
            <a:ext cx="4456080" cy="1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11640" y="2330280"/>
            <a:ext cx="4456080" cy="1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2682720"/>
            <a:ext cx="4456080" cy="17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375120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11640" y="393696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447048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11640" y="482436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518472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11640" y="554364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5904000"/>
            <a:ext cx="4456080" cy="17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176640" y="1314360"/>
            <a:ext cx="7920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>EAB/TVV Rickard Sjöberg</dc:creator>
  <dc:description>Rev PA1</dc:description>
  <cp:keywords/>
  <dc:language>en-US</dc:language>
  <cp:lastModifiedBy>Rickard Sjöberg</cp:lastModifiedBy>
  <dcterms:modified xsi:type="dcterms:W3CDTF">2011-03-19T17:20:28Z</dcterms:modified>
  <cp:revision>175</cp:revision>
  <dc:subject/>
  <dc:title>Fine granularity slice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0-10-04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Ericsson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>EAB/TVV Rickard Sjöberg</vt:lpwstr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0-10-04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Ericsson Capital TT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1</vt:bool>
  </property>
  <property fmtid="{D5CDD505-2E9C-101B-9397-08002B2CF9AE}" pid="35" name="optEnterText3">
    <vt:bool>0</vt:bool>
  </property>
  <property fmtid="{D5CDD505-2E9C-101B-9397-08002B2CF9AE}" pid="36" name="optEnterText4">
    <vt:bool>0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1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