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79DC2BC-B24C-46B1-AE30-944A2C16DA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03DCFCB-783F-4076-BA6E-8B63859903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24D3884-FB0F-4427-A790-828DC129C3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D256E-1734-4302-B716-6EC3F2BB4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610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769920"/>
            <a:ext cx="8610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F7974-30B0-43AB-870B-56A02E852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17080" y="114300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76992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17080" y="376992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68CDE-F2F4-45EF-9DF5-CB883A27E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277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16240" y="1143000"/>
            <a:ext cx="277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27560" y="1143000"/>
            <a:ext cx="277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769920"/>
            <a:ext cx="277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16240" y="3769920"/>
            <a:ext cx="277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27560" y="3769920"/>
            <a:ext cx="277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F06FC-4D4A-41A3-998C-F9747BE72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1430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E6BD0-B6B7-4FA4-BA19-2D92FDA8A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6B0DA-B740-4F81-9859-2C39A4C5A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42015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143000"/>
            <a:ext cx="42015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167B7-ADB0-4CA6-844C-8689D595A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F425F-8D83-48D3-A36B-325B67ED4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2722320" y="142920"/>
            <a:ext cx="64213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9867A-9091-4F79-8E66-D8AA39184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17080" y="1143000"/>
            <a:ext cx="42015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76992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BF468-A722-406B-B43E-1D3F8C631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42015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17080" y="114300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7080" y="376992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AD3CC-1EBC-435E-B677-A92FEE9DE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17080" y="114300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769920"/>
            <a:ext cx="8610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F3EB0-8776-4B50-A58A-4A99C65CD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2679840" y="0"/>
            <a:ext cx="6476760" cy="685800"/>
          </a:xfrm>
          <a:prstGeom prst="rect">
            <a:avLst/>
          </a:prstGeom>
          <a:solidFill>
            <a:srgbClr val="d630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2600" y="685800"/>
            <a:ext cx="2667240" cy="152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Picture 4" descr="sharplogo"/>
          <p:cNvPicPr/>
          <p:nvPr/>
        </p:nvPicPr>
        <p:blipFill>
          <a:blip r:embed="rId2"/>
          <a:stretch/>
        </p:blipFill>
        <p:spPr>
          <a:xfrm>
            <a:off x="5715000" y="2970360"/>
            <a:ext cx="1676520" cy="264960"/>
          </a:xfrm>
          <a:prstGeom prst="rect">
            <a:avLst/>
          </a:prstGeom>
          <a:ln w="0">
            <a:noFill/>
          </a:ln>
        </p:spPr>
      </p:pic>
      <p:sp>
        <p:nvSpPr>
          <p:cNvPr id="3" name="Rectangle 5"/>
          <p:cNvSpPr/>
          <p:nvPr/>
        </p:nvSpPr>
        <p:spPr>
          <a:xfrm>
            <a:off x="2679840" y="685800"/>
            <a:ext cx="6476760" cy="152280"/>
          </a:xfrm>
          <a:prstGeom prst="rect">
            <a:avLst/>
          </a:prstGeom>
          <a:solidFill>
            <a:srgbClr val="d5d1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d5d1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228600" y="458640"/>
            <a:ext cx="2340000" cy="2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LABORATORIES OF AMERICA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0" y="838080"/>
            <a:ext cx="9144000" cy="5715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4e6f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304920" y="11430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c0504d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4f81bd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2860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552720"/>
            <a:ext cx="2895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ff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ahoma"/>
              </a:rPr>
              <a:t>Confidential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38720" y="655272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A5E28-114D-408E-A405-27A03C25755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" name="Picture 14" descr=""/>
          <p:cNvPicPr/>
          <p:nvPr/>
        </p:nvPicPr>
        <p:blipFill>
          <a:blip r:embed="rId3"/>
          <a:stretch/>
        </p:blipFill>
        <p:spPr>
          <a:xfrm>
            <a:off x="500040" y="117360"/>
            <a:ext cx="1793880" cy="324000"/>
          </a:xfrm>
          <a:prstGeom prst="rect">
            <a:avLst/>
          </a:prstGeom>
          <a:ln w="0">
            <a:noFill/>
          </a:ln>
        </p:spPr>
      </p:pic>
      <p:sp>
        <p:nvSpPr>
          <p:cNvPr id="13" name="Text Box 15"/>
          <p:cNvSpPr/>
          <p:nvPr/>
        </p:nvSpPr>
        <p:spPr>
          <a:xfrm>
            <a:off x="5181480" y="6461280"/>
            <a:ext cx="990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JCTVC-E412: Tiles for parallel decoding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iran Misra, Andrew Seg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Slide Number Placeholder 5"/>
          <p:cNvSpPr/>
          <p:nvPr/>
        </p:nvSpPr>
        <p:spPr>
          <a:xfrm>
            <a:off x="7039080" y="655308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7CC0E-0FB7-4374-9D75-562188220BC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les allows partitioning of image into rectangular sl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800080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r extension is to enable decoder paralle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800080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gnal Tile entry points in the bitstream to enable decoder paralleliz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c0504d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ransmit entry points in the slice head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c0504d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ransmit entry points using mark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7039080" y="655308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A69E2-DCEC-46E6-BF2D-FF84EB82D4B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ynta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Slide Number Placeholder 4"/>
          <p:cNvSpPr/>
          <p:nvPr/>
        </p:nvSpPr>
        <p:spPr>
          <a:xfrm>
            <a:off x="7039080" y="655308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2E651-08B4-4698-A6F9-8655E814FF5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5" name="Table 6" descr=""/>
          <p:cNvPicPr/>
          <p:nvPr/>
        </p:nvPicPr>
        <p:blipFill>
          <a:blip r:embed="rId1"/>
          <a:stretch/>
        </p:blipFill>
        <p:spPr>
          <a:xfrm>
            <a:off x="1749600" y="1090440"/>
            <a:ext cx="5589360" cy="1865520"/>
          </a:xfrm>
          <a:prstGeom prst="rect">
            <a:avLst/>
          </a:prstGeom>
          <a:ln w="0">
            <a:noFill/>
          </a:ln>
        </p:spPr>
      </p:pic>
      <p:pic>
        <p:nvPicPr>
          <p:cNvPr id="66" name="Table 7" descr=""/>
          <p:cNvPicPr/>
          <p:nvPr/>
        </p:nvPicPr>
        <p:blipFill>
          <a:blip r:embed="rId2"/>
          <a:stretch/>
        </p:blipFill>
        <p:spPr>
          <a:xfrm>
            <a:off x="1749600" y="3071880"/>
            <a:ext cx="5644800" cy="186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ynta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Slide Number Placeholder 4"/>
          <p:cNvSpPr/>
          <p:nvPr/>
        </p:nvSpPr>
        <p:spPr>
          <a:xfrm>
            <a:off x="7039080" y="655308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631C0-7C73-45D8-8FA7-3B52B8349A3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" name="Table 6" descr=""/>
          <p:cNvPicPr/>
          <p:nvPr/>
        </p:nvPicPr>
        <p:blipFill>
          <a:blip r:embed="rId1"/>
          <a:stretch/>
        </p:blipFill>
        <p:spPr>
          <a:xfrm>
            <a:off x="987480" y="1395360"/>
            <a:ext cx="7169040" cy="27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llustration of experimental setup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Slide Number Placeholder 4"/>
          <p:cNvSpPr/>
          <p:nvPr/>
        </p:nvSpPr>
        <p:spPr>
          <a:xfrm>
            <a:off x="7039080" y="655308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D4BEF-BA8A-428C-88FC-205DE45E2EC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1905120" y="1600200"/>
            <a:ext cx="5333760" cy="3962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Straight Connector 9"/>
          <p:cNvSpPr/>
          <p:nvPr/>
        </p:nvSpPr>
        <p:spPr>
          <a:xfrm>
            <a:off x="3581280" y="1600200"/>
            <a:ext cx="0" cy="3962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Straight Connector 10"/>
          <p:cNvSpPr/>
          <p:nvPr/>
        </p:nvSpPr>
        <p:spPr>
          <a:xfrm>
            <a:off x="5410080" y="1600200"/>
            <a:ext cx="0" cy="3962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Straight Connector 11"/>
          <p:cNvSpPr/>
          <p:nvPr/>
        </p:nvSpPr>
        <p:spPr>
          <a:xfrm>
            <a:off x="1905120" y="2565360"/>
            <a:ext cx="5333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Straight Connector 14"/>
          <p:cNvSpPr/>
          <p:nvPr/>
        </p:nvSpPr>
        <p:spPr>
          <a:xfrm>
            <a:off x="1905120" y="3505320"/>
            <a:ext cx="5333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Straight Connector 15"/>
          <p:cNvSpPr/>
          <p:nvPr/>
        </p:nvSpPr>
        <p:spPr>
          <a:xfrm>
            <a:off x="1905120" y="4495680"/>
            <a:ext cx="5333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TextBox 16"/>
          <p:cNvSpPr/>
          <p:nvPr/>
        </p:nvSpPr>
        <p:spPr>
          <a:xfrm>
            <a:off x="415080" y="914400"/>
            <a:ext cx="35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Tiles One Sl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TextBox 17"/>
          <p:cNvSpPr/>
          <p:nvPr/>
        </p:nvSpPr>
        <p:spPr>
          <a:xfrm>
            <a:off x="6916320" y="5761080"/>
            <a:ext cx="22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9 Tiles, 1 Sli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Rectangle 19"/>
          <p:cNvSpPr/>
          <p:nvPr/>
        </p:nvSpPr>
        <p:spPr>
          <a:xfrm>
            <a:off x="1905120" y="1600200"/>
            <a:ext cx="290520" cy="3049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Rectangle 20"/>
          <p:cNvSpPr/>
          <p:nvPr/>
        </p:nvSpPr>
        <p:spPr>
          <a:xfrm>
            <a:off x="3586320" y="1604880"/>
            <a:ext cx="291960" cy="304920"/>
          </a:xfrm>
          <a:prstGeom prst="rect">
            <a:avLst/>
          </a:prstGeom>
          <a:solidFill>
            <a:srgbClr val="c050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Rectangle 21"/>
          <p:cNvSpPr/>
          <p:nvPr/>
        </p:nvSpPr>
        <p:spPr>
          <a:xfrm>
            <a:off x="5410080" y="1604880"/>
            <a:ext cx="290520" cy="304920"/>
          </a:xfrm>
          <a:prstGeom prst="rect">
            <a:avLst/>
          </a:prstGeom>
          <a:solidFill>
            <a:srgbClr val="c050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Rectangle 22"/>
          <p:cNvSpPr/>
          <p:nvPr/>
        </p:nvSpPr>
        <p:spPr>
          <a:xfrm>
            <a:off x="1905120" y="2565360"/>
            <a:ext cx="290520" cy="304920"/>
          </a:xfrm>
          <a:prstGeom prst="rect">
            <a:avLst/>
          </a:prstGeom>
          <a:solidFill>
            <a:srgbClr val="c050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Rectangle 23"/>
          <p:cNvSpPr/>
          <p:nvPr/>
        </p:nvSpPr>
        <p:spPr>
          <a:xfrm>
            <a:off x="3592440" y="2565360"/>
            <a:ext cx="292320" cy="304920"/>
          </a:xfrm>
          <a:prstGeom prst="rect">
            <a:avLst/>
          </a:prstGeom>
          <a:solidFill>
            <a:srgbClr val="c050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Rectangle 24"/>
          <p:cNvSpPr/>
          <p:nvPr/>
        </p:nvSpPr>
        <p:spPr>
          <a:xfrm>
            <a:off x="5427720" y="2565360"/>
            <a:ext cx="290520" cy="304920"/>
          </a:xfrm>
          <a:prstGeom prst="rect">
            <a:avLst/>
          </a:prstGeom>
          <a:solidFill>
            <a:srgbClr val="c050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Rectangle 25"/>
          <p:cNvSpPr/>
          <p:nvPr/>
        </p:nvSpPr>
        <p:spPr>
          <a:xfrm>
            <a:off x="1911240" y="3505320"/>
            <a:ext cx="292320" cy="304560"/>
          </a:xfrm>
          <a:prstGeom prst="rect">
            <a:avLst/>
          </a:prstGeom>
          <a:solidFill>
            <a:srgbClr val="c050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Rectangle 26"/>
          <p:cNvSpPr/>
          <p:nvPr/>
        </p:nvSpPr>
        <p:spPr>
          <a:xfrm>
            <a:off x="3600360" y="3505320"/>
            <a:ext cx="290520" cy="304560"/>
          </a:xfrm>
          <a:prstGeom prst="rect">
            <a:avLst/>
          </a:prstGeom>
          <a:solidFill>
            <a:srgbClr val="c050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Rectangle 27"/>
          <p:cNvSpPr/>
          <p:nvPr/>
        </p:nvSpPr>
        <p:spPr>
          <a:xfrm>
            <a:off x="5410080" y="3505320"/>
            <a:ext cx="290520" cy="304560"/>
          </a:xfrm>
          <a:prstGeom prst="rect">
            <a:avLst/>
          </a:prstGeom>
          <a:solidFill>
            <a:srgbClr val="c050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Rectangle 28"/>
          <p:cNvSpPr/>
          <p:nvPr/>
        </p:nvSpPr>
        <p:spPr>
          <a:xfrm>
            <a:off x="1911240" y="4495680"/>
            <a:ext cx="292320" cy="304920"/>
          </a:xfrm>
          <a:prstGeom prst="rect">
            <a:avLst/>
          </a:prstGeom>
          <a:solidFill>
            <a:srgbClr val="c050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Rectangle 29"/>
          <p:cNvSpPr/>
          <p:nvPr/>
        </p:nvSpPr>
        <p:spPr>
          <a:xfrm>
            <a:off x="3600360" y="4495680"/>
            <a:ext cx="290520" cy="304920"/>
          </a:xfrm>
          <a:prstGeom prst="rect">
            <a:avLst/>
          </a:prstGeom>
          <a:solidFill>
            <a:srgbClr val="c050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Rectangle 30"/>
          <p:cNvSpPr/>
          <p:nvPr/>
        </p:nvSpPr>
        <p:spPr>
          <a:xfrm>
            <a:off x="5410080" y="4495680"/>
            <a:ext cx="290520" cy="304920"/>
          </a:xfrm>
          <a:prstGeom prst="rect">
            <a:avLst/>
          </a:prstGeom>
          <a:solidFill>
            <a:srgbClr val="c050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Rectangle 31"/>
          <p:cNvSpPr/>
          <p:nvPr/>
        </p:nvSpPr>
        <p:spPr>
          <a:xfrm>
            <a:off x="1879560" y="6087960"/>
            <a:ext cx="292320" cy="304920"/>
          </a:xfrm>
          <a:prstGeom prst="rect">
            <a:avLst/>
          </a:prstGeom>
          <a:solidFill>
            <a:srgbClr val="c050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Rectangle 32"/>
          <p:cNvSpPr/>
          <p:nvPr/>
        </p:nvSpPr>
        <p:spPr>
          <a:xfrm>
            <a:off x="1879560" y="5710320"/>
            <a:ext cx="292320" cy="30456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TextBox 33"/>
          <p:cNvSpPr/>
          <p:nvPr/>
        </p:nvSpPr>
        <p:spPr>
          <a:xfrm>
            <a:off x="2356200" y="5653080"/>
            <a:ext cx="308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of tile and sl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TextBox 34"/>
          <p:cNvSpPr/>
          <p:nvPr/>
        </p:nvSpPr>
        <p:spPr>
          <a:xfrm>
            <a:off x="2348280" y="6014880"/>
            <a:ext cx="358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of tile but not sl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tup: JCTVC-E408 Experiment 2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Slide Number Placeholder 4"/>
          <p:cNvSpPr/>
          <p:nvPr/>
        </p:nvSpPr>
        <p:spPr>
          <a:xfrm>
            <a:off x="7039080" y="655308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7C8C1-E8E0-49B3-A257-39C2A58CC64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1371600" y="838080"/>
          <a:ext cx="6454800" cy="5761080"/>
        </p:xfrm>
        <a:graphic>
          <a:graphicData uri="http://schemas.openxmlformats.org/drawingml/2006/table">
            <a:tbl>
              <a:tblPr/>
              <a:tblGrid>
                <a:gridCol w="793800"/>
                <a:gridCol w="650880"/>
                <a:gridCol w="846000"/>
                <a:gridCol w="974880"/>
                <a:gridCol w="1236600"/>
                <a:gridCol w="846000"/>
                <a:gridCol w="1106640"/>
              </a:tblGrid>
              <a:tr h="4266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t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tra LoC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andom Acce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andom Access Loc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ow Dela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ow Delay LoC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ass 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P 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x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x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P 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x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x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P 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x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x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P 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x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x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ass 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P 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P 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P 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P 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ass 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P 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P 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P 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P 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ass 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P 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P 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P 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P 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ass 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P 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x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x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P 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x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x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P 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x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x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P 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x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x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ul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Slide Number Placeholder 5"/>
          <p:cNvSpPr/>
          <p:nvPr/>
        </p:nvSpPr>
        <p:spPr>
          <a:xfrm>
            <a:off x="7039080" y="655308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E3CC5-0F66-43D4-8597-F6829B27DCF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1066680" y="990720"/>
          <a:ext cx="2511720" cy="5705280"/>
        </p:xfrm>
        <a:graphic>
          <a:graphicData uri="http://schemas.openxmlformats.org/drawingml/2006/table">
            <a:tbl>
              <a:tblPr/>
              <a:tblGrid>
                <a:gridCol w="922320"/>
                <a:gridCol w="530280"/>
                <a:gridCol w="528840"/>
                <a:gridCol w="530280"/>
              </a:tblGrid>
              <a:tr h="159480">
                <a:tc rowSpan="2"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r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BD-r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 BD-r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 BD-r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948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9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9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7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5948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2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9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948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8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7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6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948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948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5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8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6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948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948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c Time[%]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NUM!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948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 Time[%]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NUM!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948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1760">
                <a:tc rowSpan="2"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ndom acces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BD-r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 BD-r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 BD-r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948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9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9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9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</a:tr>
              <a:tr h="15948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2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9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4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948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6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948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948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5948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5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4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2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948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c Time[%]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NUM!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948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 Time[%]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NUM!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948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948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 dela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176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BD-r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 BD-r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 BD-r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948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15948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3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9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7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948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2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948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948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5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948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6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8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948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c Time[%]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NUM!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948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 Time[%]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NUM!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02" name="TextBox 4"/>
          <p:cNvSpPr/>
          <p:nvPr/>
        </p:nvSpPr>
        <p:spPr>
          <a:xfrm>
            <a:off x="3657600" y="5029200"/>
            <a:ext cx="54100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High-efficiency with location information within slice heade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mmon test condition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mpared against HM-2.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te: P tables in HM-2.0 were used for context initialization of forward predicted B-slices for start of a tile which are not start of a slic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304920" y="11430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to enable parallel decoding for t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0%, 2.5% and 2.6% for Tiles experiment 2 when compared to HM-2.0 ancho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propose adoption in 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lide Number Placeholder 5"/>
          <p:cNvSpPr/>
          <p:nvPr/>
        </p:nvSpPr>
        <p:spPr>
          <a:xfrm>
            <a:off x="7039080" y="655308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07739-05A6-49A2-92C7-3B92305F549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7T20:05:40Z</dcterms:created>
  <dc:creator>lkerofsky</dc:creator>
  <dc:description/>
  <dc:language>en-US</dc:language>
  <cp:lastModifiedBy>Kiran Misra</cp:lastModifiedBy>
  <dcterms:modified xsi:type="dcterms:W3CDTF">2011-03-19T10:57:56Z</dcterms:modified>
  <cp:revision>857</cp:revision>
  <dc:subject/>
  <dc:title>Slide 1</dc:title>
</cp:coreProperties>
</file>