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FF86D8-571F-4366-A0F2-AEE8AACF5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3418EF-6F5D-462B-B0BE-5DFD26E56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421CD6-90A2-46B9-9C3B-1FBCF2D8A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467C94-98D7-404F-88C0-FAA6F4A56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2F4-F6F9-4D85-95EF-602CC6A6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BFB-4346-4872-A0BA-AA16EE13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E36-C58B-4B03-8155-615BF166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B3F-0225-4754-A97C-A2898CA5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16C-6CC8-4405-9F2A-28A82042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43F-B0C3-4272-B8D2-5405B3D3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CD4-18CE-4B92-8722-D395C0E1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63D-BC85-4669-AE3B-D60EBB46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EF7-0AA6-4FD3-A524-CB8CEE5A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7AE-9EE7-4285-A4C3-AFAAC8CA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042-C058-4D38-BFFB-12B5C7E2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B19-0590-42BF-A531-FC287947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9EFD-70C8-4FBC-BF1F-DDAA59F00A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CTVC-411: Enforcing the 16-bit inverse transform dynamic ran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ran Misra, Louis Kerofsky,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131B-F850-40BE-8005-103F4615EA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a method to manage the bit-depth requirements of th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enforce bit-depth constraints prior to both inverse trans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stricts/bounds the storage needs following the dequantizatio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also restricts/bounds the storage needs of the transpose operation between the two trans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133C-356C-45FD-9584-6BF60C834B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osed approa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1B7B-A85C-4A82-A7B0-8DDC7C9A6A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76320" y="1828800"/>
          <a:ext cx="905328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828800"/>
                    <a:ext cx="90532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D6C6-4FAB-40CB-8AEE-C391471BCD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" name="Object 6"/>
          <p:cNvGraphicFramePr/>
          <p:nvPr/>
        </p:nvGraphicFramePr>
        <p:xfrm>
          <a:off x="-108000" y="1676520"/>
          <a:ext cx="92822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1676520"/>
                    <a:ext cx="92822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all tools in HM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DI, TPE, all prediction mode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all combinations of residue data and transform 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decoder robustness to violation of dynam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Non-conforming en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bitstream error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coding loss (reported on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olution applicable to various transform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DAA8-4D8F-4091-9918-224001349C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ults (average Y BD bitrate between +0.1% and -0.3%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5BC4-A232-4290-B88F-ABA459B58C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3520" y="868320"/>
          <a:ext cx="5715000" cy="5913360"/>
        </p:xfrm>
        <a:graphic>
          <a:graphicData uri="http://schemas.openxmlformats.org/drawingml/2006/table">
            <a:tbl>
              <a:tblPr/>
              <a:tblGrid>
                <a:gridCol w="1285920"/>
                <a:gridCol w="738000"/>
                <a:gridCol w="738360"/>
                <a:gridCol w="738000"/>
                <a:gridCol w="738360"/>
                <a:gridCol w="738000"/>
                <a:gridCol w="738360"/>
              </a:tblGrid>
              <a:tr h="174600"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Lo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 row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o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Lo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TextBox 4"/>
          <p:cNvSpPr/>
          <p:nvPr/>
        </p:nvSpPr>
        <p:spPr>
          <a:xfrm>
            <a:off x="6378480" y="5892840"/>
            <a:ext cx="263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oss-check document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CTVC-E368 by Qualcom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6981120" y="83808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te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 of this technique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y some of the proponents of core transform CE10 without impacting coding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3863-4444-4916-95F2-9391596EDB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ft 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ing text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w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hift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dq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= QP/6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                               (8-128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da</a:t>
            </a:r>
            <a:r>
              <a:rPr b="0" lang="en-GB" sz="12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= ( c</a:t>
            </a:r>
            <a:r>
              <a:rPr b="0" lang="en-GB" sz="12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* LevelScale</a:t>
            </a:r>
            <a:r>
              <a:rPr b="0" lang="en-GB" sz="1200" spc="-1" strike="noStrike" baseline="-25000">
                <a:solidFill>
                  <a:srgbClr val="ff0000"/>
                </a:solidFill>
                <a:latin typeface="Arial"/>
              </a:rPr>
              <a:t>(nS)x(nS)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[ qP%6 ][ i ][ j ] )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&lt;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( qP%6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 + trafoPrecisionExt-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hift</a:t>
            </a:r>
            <a:r>
              <a:rPr b="0" lang="en-GB" sz="1200" spc="-1" strike="noStrike" baseline="-25000">
                <a:solidFill>
                  <a:srgbClr val="ff0000"/>
                </a:solidFill>
                <a:latin typeface="Arial"/>
              </a:rPr>
              <a:t>dq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), with i,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0..nS-1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(8-128.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GB" sz="12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= Clip3(- 2</a:t>
            </a:r>
            <a:r>
              <a:rPr b="0" lang="en-GB" sz="12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, 2</a:t>
            </a:r>
            <a:r>
              <a:rPr b="0" lang="en-GB" sz="12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,-1 da</a:t>
            </a:r>
            <a:r>
              <a:rPr b="0" lang="en-GB" sz="12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) &lt;&lt;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hift</a:t>
            </a:r>
            <a:r>
              <a:rPr b="0" lang="en-GB" sz="1200" spc="-1" strike="noStrike" baseline="-25000">
                <a:solidFill>
                  <a:srgbClr val="ff0000"/>
                </a:solidFill>
                <a:latin typeface="Arial"/>
              </a:rPr>
              <a:t>dq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, with i,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0..nS-1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(8-128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ach (horizontal) row of scaled transform coefficients 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, j=0..nS-1) is transformed to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, j=0..nS-1) by invoking the one-dimensional transformation process as specified in subclause 8.5.4.1 to 8.5.4.4 according to the size of the transform unit nS, with the (nS)x(nS) array d as the input and the output is the (nS)x(nS) array 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. Each element of the array e is modified by shifting and clipping operations where the shift value depends on the transform unit size according to e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= Clip3(- 2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, 2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,-1 e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&gt;&gt; Shift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) &lt;&lt; Shift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where Shift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is determined by the block size nS as 1,0,6,7.for nS values 4,8,16,32. 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ach (vertical) column of the resulting matrix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, j=0..nS-1) is transformed to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, j=0..nS-1) by invoking the one-dimensional transformation process as specified in subclause 8.5.4.1 to 8.5.4.4 according to the size of the transform unit nS, with the (nS)x(nS) array e as the input and the output is the (nS)x(nS) array 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9A00-C913-4BBB-ABCE-DA4E286328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a method to manage the dynamic range of the inverse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observe that it is possible to enforce bit-limits after de-quantization and for transpo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ttle impact on coding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t: we assert that this makes the video codec more accessible to architectures with hardware limitations on bus-width / mem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adoption in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2424-D3C8-46A7-9C01-AAA2C95F58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Kiran Misra</cp:lastModifiedBy>
  <dcterms:modified xsi:type="dcterms:W3CDTF">2011-03-18T23:51:07Z</dcterms:modified>
  <cp:revision>843</cp:revision>
  <dc:subject/>
  <dc:title>Slide 1</dc:title>
</cp:coreProperties>
</file>