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701FBC-9770-44F1-B1B0-99FF8BB1C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BF7855-6A2F-49DE-8930-CE0155B07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858-E8C1-47B9-9B8F-CE0AF1CA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024-3AF8-4ED0-B6E0-AC5160B0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C355-5A29-4908-9D8A-DC47DA42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978A-90E7-4EA3-B175-3CB7A782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87E-8192-4E41-B5BA-C0F8FA34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D6C-68B3-4C3E-AE26-5988B256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A9F-70C8-4E85-A656-FAC49EFB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CD5-8013-4B97-A77B-879639EE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8D7-7B80-4F67-A457-BD5432B6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DC4-016A-4790-BA5E-F4519215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5DFD-D00E-4F9C-B0ED-613F765A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EE1-4B78-4BFE-9308-B2784010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17BA-6B04-4304-B5C4-1DF072DBDE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CTVC-E409: New Results for periodic initializations for wavefront cod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JCTVC-D073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ran Misra, Andrew Seg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0C93-DAAF-4AED-A0E3-81C23D669F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 (recap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1430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support for wave-front processing in the HM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s have proposed solutions to this problem that require transmitting LCUs out-of-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we seek to maintain the raster-scan order within the pi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0F97-869F-4ED0-B4AC-A048E633DA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4130640" y="2286000"/>
            <a:ext cx="4741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initialize the entropy coder at the start of each LCU row using default HM-2.0 context t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mit the locations of the “start of LCU row” location within the bitstream to deco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, for the additional “start of LCU row” context initializations in forward predicted B-slice we use P-slice t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72FD-665A-4B22-84E4-8679467408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llustration for proposed appro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6040440" y="2743200"/>
            <a:ext cx="533520" cy="304920"/>
          </a:xfrm>
          <a:prstGeom prst="rect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573960" y="2743200"/>
            <a:ext cx="380880" cy="304920"/>
          </a:xfrm>
          <a:prstGeom prst="rect">
            <a:avLst/>
          </a:prstGeom>
          <a:solidFill>
            <a:srgbClr val="ffcf01"/>
          </a:solidFill>
          <a:ln w="25560">
            <a:solidFill>
              <a:srgbClr val="806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6954840" y="2743200"/>
            <a:ext cx="685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7640640" y="2743200"/>
            <a:ext cx="533520" cy="304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8174160" y="2743200"/>
            <a:ext cx="380880" cy="304920"/>
          </a:xfrm>
          <a:prstGeom prst="rect">
            <a:avLst/>
          </a:prstGeom>
          <a:solidFill>
            <a:srgbClr val="e7bb01"/>
          </a:solidFill>
          <a:ln w="25560">
            <a:solidFill>
              <a:srgbClr val="74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1033"/>
          <p:cNvSpPr/>
          <p:nvPr/>
        </p:nvSpPr>
        <p:spPr>
          <a:xfrm>
            <a:off x="3794040" y="2755800"/>
            <a:ext cx="25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ster-Scan Bitstre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4" name="Elbow Connector 5"/>
          <p:cNvCxnSpPr>
            <a:endCxn id="72" idx="0"/>
          </p:cNvCxnSpPr>
          <p:nvPr/>
        </p:nvCxnSpPr>
        <p:spPr>
          <a:xfrm>
            <a:off x="4114440" y="2495520"/>
            <a:ext cx="4250520" cy="248400"/>
          </a:xfrm>
          <a:prstGeom prst="bentConnector2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75" name="Elbow Connector 16"/>
          <p:cNvCxnSpPr>
            <a:endCxn id="71" idx="0"/>
          </p:cNvCxnSpPr>
          <p:nvPr/>
        </p:nvCxnSpPr>
        <p:spPr>
          <a:xfrm>
            <a:off x="4197240" y="2247840"/>
            <a:ext cx="3710880" cy="496080"/>
          </a:xfrm>
          <a:prstGeom prst="bentConnector2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76" name="Elbow Connector 20"/>
          <p:cNvCxnSpPr>
            <a:stCxn id="77" idx="3"/>
            <a:endCxn id="70" idx="0"/>
          </p:cNvCxnSpPr>
          <p:nvPr/>
        </p:nvCxnSpPr>
        <p:spPr>
          <a:xfrm>
            <a:off x="4197240" y="2021040"/>
            <a:ext cx="3101040" cy="722520"/>
          </a:xfrm>
          <a:prstGeom prst="bentConnector2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78" name="Elbow Connector 22"/>
          <p:cNvCxnSpPr>
            <a:endCxn id="69" idx="0"/>
          </p:cNvCxnSpPr>
          <p:nvPr/>
        </p:nvCxnSpPr>
        <p:spPr>
          <a:xfrm>
            <a:off x="4196880" y="1752480"/>
            <a:ext cx="2567880" cy="991440"/>
          </a:xfrm>
          <a:prstGeom prst="bentConnector2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79" name="Elbow Connector 25"/>
          <p:cNvCxnSpPr>
            <a:endCxn id="68" idx="0"/>
          </p:cNvCxnSpPr>
          <p:nvPr/>
        </p:nvCxnSpPr>
        <p:spPr>
          <a:xfrm>
            <a:off x="4199040" y="1523520"/>
            <a:ext cx="2108880" cy="1220040"/>
          </a:xfrm>
          <a:prstGeom prst="bentConnector2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934920" y="1346040"/>
            <a:ext cx="3264120" cy="1349640"/>
          </a:xfrm>
          <a:prstGeom prst="rect">
            <a:avLst/>
          </a:prstGeom>
          <a:ln w="0">
            <a:noFill/>
          </a:ln>
        </p:spPr>
      </p:pic>
      <p:sp>
        <p:nvSpPr>
          <p:cNvPr id="81" name="TextBox 1034"/>
          <p:cNvSpPr/>
          <p:nvPr/>
        </p:nvSpPr>
        <p:spPr>
          <a:xfrm>
            <a:off x="214560" y="4730760"/>
            <a:ext cx="174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Deco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309600" y="3809880"/>
            <a:ext cx="5583240" cy="716040"/>
          </a:xfrm>
          <a:prstGeom prst="rect">
            <a:avLst/>
          </a:prstGeom>
          <a:noFill/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27"/>
          <p:cNvSpPr/>
          <p:nvPr/>
        </p:nvSpPr>
        <p:spPr>
          <a:xfrm>
            <a:off x="392040" y="3848040"/>
            <a:ext cx="968400" cy="420840"/>
          </a:xfrm>
          <a:prstGeom prst="rect">
            <a:avLst/>
          </a:prstGeom>
          <a:solidFill>
            <a:srgbClr val="d1d1f0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34"/>
          <p:cNvSpPr/>
          <p:nvPr/>
        </p:nvSpPr>
        <p:spPr>
          <a:xfrm>
            <a:off x="1498680" y="3848040"/>
            <a:ext cx="968400" cy="420840"/>
          </a:xfrm>
          <a:prstGeom prst="rect">
            <a:avLst/>
          </a:prstGeom>
          <a:solidFill>
            <a:srgbClr val="d1d1f0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35"/>
          <p:cNvSpPr/>
          <p:nvPr/>
        </p:nvSpPr>
        <p:spPr>
          <a:xfrm>
            <a:off x="2624040" y="3851280"/>
            <a:ext cx="966960" cy="417600"/>
          </a:xfrm>
          <a:prstGeom prst="rect">
            <a:avLst/>
          </a:prstGeom>
          <a:solidFill>
            <a:srgbClr val="d1d1f0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36"/>
          <p:cNvSpPr/>
          <p:nvPr/>
        </p:nvSpPr>
        <p:spPr>
          <a:xfrm>
            <a:off x="3753000" y="3851280"/>
            <a:ext cx="968400" cy="417600"/>
          </a:xfrm>
          <a:prstGeom prst="rect">
            <a:avLst/>
          </a:prstGeom>
          <a:solidFill>
            <a:srgbClr val="d1d1f0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37"/>
          <p:cNvSpPr/>
          <p:nvPr/>
        </p:nvSpPr>
        <p:spPr>
          <a:xfrm>
            <a:off x="4854600" y="3848040"/>
            <a:ext cx="968400" cy="420840"/>
          </a:xfrm>
          <a:prstGeom prst="rect">
            <a:avLst/>
          </a:prstGeom>
          <a:solidFill>
            <a:srgbClr val="d1d1f0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88" name="Straight Arrow Connector 2058"/>
          <p:cNvCxnSpPr>
            <a:stCxn id="83" idx="2"/>
          </p:cNvCxnSpPr>
          <p:nvPr/>
        </p:nvCxnSpPr>
        <p:spPr>
          <a:xfrm flipH="1">
            <a:off x="875520" y="4268520"/>
            <a:ext cx="1080" cy="15156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89" name="Straight Arrow Connector 2060"/>
          <p:cNvCxnSpPr>
            <a:stCxn id="84" idx="2"/>
          </p:cNvCxnSpPr>
          <p:nvPr/>
        </p:nvCxnSpPr>
        <p:spPr>
          <a:xfrm>
            <a:off x="1982520" y="4268520"/>
            <a:ext cx="1080" cy="15156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90" name="Straight Arrow Connector 2062"/>
          <p:cNvCxnSpPr>
            <a:stCxn id="85" idx="2"/>
          </p:cNvCxnSpPr>
          <p:nvPr/>
        </p:nvCxnSpPr>
        <p:spPr>
          <a:xfrm>
            <a:off x="3106800" y="4268520"/>
            <a:ext cx="2160" cy="15156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91" name="Straight Arrow Connector 2064"/>
          <p:cNvCxnSpPr>
            <a:stCxn id="86" idx="2"/>
          </p:cNvCxnSpPr>
          <p:nvPr/>
        </p:nvCxnSpPr>
        <p:spPr>
          <a:xfrm>
            <a:off x="4236840" y="4268520"/>
            <a:ext cx="1080" cy="15156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92" name="Straight Arrow Connector 2066"/>
          <p:cNvCxnSpPr/>
          <p:nvPr/>
        </p:nvCxnSpPr>
        <p:spPr>
          <a:xfrm>
            <a:off x="5338440" y="4267080"/>
            <a:ext cx="1080" cy="15336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93" name="Elbow Connector 2068"/>
          <p:cNvCxnSpPr>
            <a:stCxn id="68" idx="2"/>
            <a:endCxn id="83" idx="0"/>
          </p:cNvCxnSpPr>
          <p:nvPr/>
        </p:nvCxnSpPr>
        <p:spPr>
          <a:xfrm rot="5400000">
            <a:off x="3191760" y="733320"/>
            <a:ext cx="800640" cy="5429880"/>
          </a:xfrm>
          <a:prstGeom prst="bentConnector3">
            <a:avLst>
              <a:gd name="adj1" fmla="val 49977"/>
            </a:avLst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94" name="Elbow Connector 2070"/>
          <p:cNvCxnSpPr>
            <a:stCxn id="69" idx="2"/>
            <a:endCxn id="84" idx="0"/>
          </p:cNvCxnSpPr>
          <p:nvPr/>
        </p:nvCxnSpPr>
        <p:spPr>
          <a:xfrm rot="5400000">
            <a:off x="3973680" y="1058040"/>
            <a:ext cx="800640" cy="4780800"/>
          </a:xfrm>
          <a:prstGeom prst="bentConnector3">
            <a:avLst>
              <a:gd name="adj1" fmla="val 56410"/>
            </a:avLst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95" name="Elbow Connector 2073"/>
          <p:cNvCxnSpPr>
            <a:stCxn id="70" idx="2"/>
            <a:endCxn id="82" idx="0"/>
          </p:cNvCxnSpPr>
          <p:nvPr/>
        </p:nvCxnSpPr>
        <p:spPr>
          <a:xfrm rot="5400000">
            <a:off x="4818240" y="1331280"/>
            <a:ext cx="762480" cy="4196160"/>
          </a:xfrm>
          <a:prstGeom prst="bentConnector3">
            <a:avLst>
              <a:gd name="adj1" fmla="val 49976"/>
            </a:avLst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96" name="Elbow Connector 2076"/>
          <p:cNvCxnSpPr>
            <a:stCxn id="71" idx="2"/>
            <a:endCxn id="86" idx="0"/>
          </p:cNvCxnSpPr>
          <p:nvPr/>
        </p:nvCxnSpPr>
        <p:spPr>
          <a:xfrm rot="5400000">
            <a:off x="5670000" y="1614240"/>
            <a:ext cx="803880" cy="3670920"/>
          </a:xfrm>
          <a:prstGeom prst="bentConnector3">
            <a:avLst>
              <a:gd name="adj1" fmla="val 72311"/>
            </a:avLst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97" name="Elbow Connector 96"/>
          <p:cNvCxnSpPr>
            <a:stCxn id="72" idx="2"/>
            <a:endCxn id="87" idx="0"/>
          </p:cNvCxnSpPr>
          <p:nvPr/>
        </p:nvCxnSpPr>
        <p:spPr>
          <a:xfrm rot="5400000">
            <a:off x="6450840" y="1935000"/>
            <a:ext cx="800640" cy="3026520"/>
          </a:xfrm>
          <a:prstGeom prst="bentConnector3">
            <a:avLst>
              <a:gd name="adj1" fmla="val 78857"/>
            </a:avLst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1494000" y="4844880"/>
            <a:ext cx="3295440" cy="1495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35"/>
          <p:cNvSpPr/>
          <p:nvPr/>
        </p:nvSpPr>
        <p:spPr>
          <a:xfrm>
            <a:off x="5938200" y="4657680"/>
            <a:ext cx="20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quential Deco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0" name="Straight Arrow Connector 117"/>
          <p:cNvCxnSpPr/>
          <p:nvPr/>
        </p:nvCxnSpPr>
        <p:spPr>
          <a:xfrm>
            <a:off x="6300360" y="3362400"/>
            <a:ext cx="1080" cy="49896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sp>
        <p:nvSpPr>
          <p:cNvPr id="101" name="Rectangle 158"/>
          <p:cNvSpPr/>
          <p:nvPr/>
        </p:nvSpPr>
        <p:spPr>
          <a:xfrm>
            <a:off x="6099120" y="3819600"/>
            <a:ext cx="2525760" cy="706320"/>
          </a:xfrm>
          <a:prstGeom prst="rect">
            <a:avLst/>
          </a:prstGeom>
          <a:noFill/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159"/>
          <p:cNvSpPr/>
          <p:nvPr/>
        </p:nvSpPr>
        <p:spPr>
          <a:xfrm>
            <a:off x="6183360" y="3857760"/>
            <a:ext cx="2365200" cy="347400"/>
          </a:xfrm>
          <a:prstGeom prst="rect">
            <a:avLst/>
          </a:prstGeom>
          <a:solidFill>
            <a:srgbClr val="d1d1f0"/>
          </a:solidFill>
          <a:ln w="255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3" name="Straight Arrow Connector 125"/>
          <p:cNvCxnSpPr/>
          <p:nvPr/>
        </p:nvCxnSpPr>
        <p:spPr>
          <a:xfrm>
            <a:off x="6757560" y="3438000"/>
            <a:ext cx="1080" cy="42012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104" name="Straight Arrow Connector 1026"/>
          <p:cNvCxnSpPr/>
          <p:nvPr/>
        </p:nvCxnSpPr>
        <p:spPr>
          <a:xfrm>
            <a:off x="7291080" y="3428640"/>
            <a:ext cx="1080" cy="42948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105" name="Straight Arrow Connector 1031"/>
          <p:cNvCxnSpPr/>
          <p:nvPr/>
        </p:nvCxnSpPr>
        <p:spPr>
          <a:xfrm>
            <a:off x="7911720" y="3448080"/>
            <a:ext cx="1080" cy="41040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106" name="Straight Arrow Connector 1037"/>
          <p:cNvCxnSpPr/>
          <p:nvPr/>
        </p:nvCxnSpPr>
        <p:spPr>
          <a:xfrm>
            <a:off x="8364240" y="3449520"/>
            <a:ext cx="1080" cy="40896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cxnSp>
        <p:nvCxnSpPr>
          <p:cNvPr id="107" name="Straight Arrow Connector 1041"/>
          <p:cNvCxnSpPr>
            <a:stCxn id="102" idx="2"/>
          </p:cNvCxnSpPr>
          <p:nvPr/>
        </p:nvCxnSpPr>
        <p:spPr>
          <a:xfrm>
            <a:off x="7365600" y="4205160"/>
            <a:ext cx="1080" cy="148320"/>
          </a:xfrm>
          <a:prstGeom prst="straightConnector1">
            <a:avLst/>
          </a:prstGeom>
          <a:ln w="9360">
            <a:solidFill>
              <a:srgbClr val="19194d"/>
            </a:solidFill>
            <a:miter/>
            <a:tailEnd len="med" type="arrow" w="med"/>
          </a:ln>
        </p:spPr>
      </p:cxnSp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5334120" y="5016600"/>
            <a:ext cx="3346200" cy="1384200"/>
          </a:xfrm>
          <a:prstGeom prst="rect">
            <a:avLst/>
          </a:prstGeom>
          <a:ln w="0">
            <a:noFill/>
          </a:ln>
        </p:spPr>
      </p:pic>
      <p:sp>
        <p:nvSpPr>
          <p:cNvPr id="10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C1E7-72E0-4388-9541-D864AF3E80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nta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560" y="1143000"/>
            <a:ext cx="2971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U resets enabled in the 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of entry points in the bit-stream signaled in the slice header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4439-DBC6-4985-9FCB-5AADD2CDEF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Table 4" descr=""/>
          <p:cNvPicPr/>
          <p:nvPr/>
        </p:nvPicPr>
        <p:blipFill>
          <a:blip r:embed="rId1"/>
          <a:stretch/>
        </p:blipFill>
        <p:spPr>
          <a:xfrm>
            <a:off x="3425760" y="2932200"/>
            <a:ext cx="5357880" cy="133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Object 1"/>
          <p:cNvGraphicFramePr/>
          <p:nvPr/>
        </p:nvGraphicFramePr>
        <p:xfrm>
          <a:off x="3040200" y="1066680"/>
          <a:ext cx="6100560" cy="196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0200" y="1066680"/>
                    <a:ext cx="610056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5"/>
          <p:cNvGraphicFramePr/>
          <p:nvPr/>
        </p:nvGraphicFramePr>
        <p:xfrm>
          <a:off x="3038400" y="4572000"/>
          <a:ext cx="6105600" cy="152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38400" y="4572000"/>
                    <a:ext cx="610560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560" y="11430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integrated into HM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point at each LCU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of LCU rows written within slic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5782-3713-4678-A7EB-E900A9E451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2270-133B-42AB-8FD4-8DD856839F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16880" y="83808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-Efficienc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17" descr=""/>
          <p:cNvPicPr/>
          <p:nvPr/>
        </p:nvPicPr>
        <p:blipFill>
          <a:blip r:embed="rId1"/>
          <a:stretch/>
        </p:blipFill>
        <p:spPr>
          <a:xfrm>
            <a:off x="152280" y="1328760"/>
            <a:ext cx="4114800" cy="248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"/>
          <p:cNvPicPr/>
          <p:nvPr/>
        </p:nvPicPr>
        <p:blipFill>
          <a:blip r:embed="rId2"/>
          <a:stretch/>
        </p:blipFill>
        <p:spPr>
          <a:xfrm>
            <a:off x="4352760" y="1344600"/>
            <a:ext cx="3996000" cy="2435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4" descr=""/>
          <p:cNvPicPr/>
          <p:nvPr/>
        </p:nvPicPr>
        <p:blipFill>
          <a:blip r:embed="rId3"/>
          <a:stretch/>
        </p:blipFill>
        <p:spPr>
          <a:xfrm>
            <a:off x="2763720" y="3962520"/>
            <a:ext cx="3754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to enable wavefront coding/de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t-stream maintains raster scan of LCU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information in the bitstream (better coding efficiency; requires bit-stream buffering at enco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tible with all slicing methods under consid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3%, 2.1% and 2.6% for entry point for each LCU row (~32x parallelism for 4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adoption in 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check document: JCTVC-E470 by Orange La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proposals: JCTVC-E1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CB5D-53FA-4FD8-814A-4F8262F2D9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0:05:40Z</dcterms:created>
  <dc:creator>lkerofsky</dc:creator>
  <dc:description/>
  <dc:language>en-US</dc:language>
  <cp:lastModifiedBy>Kiran Misra</cp:lastModifiedBy>
  <dcterms:modified xsi:type="dcterms:W3CDTF">2011-03-19T14:03:09Z</dcterms:modified>
  <cp:revision>868</cp:revision>
  <dc:subject/>
  <dc:title>Slide 1</dc:title>
</cp:coreProperties>
</file>