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7297-D9C4-438F-B13F-8FCC3952B12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gain is 3.7% over all sequences and conditions.  D227 results showed 2.1% gain.  Actual gain somewhere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cture resolutions increase faster than affordable on-chip memory size and DDR bandwid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contributions looking to localize: e.g., for adaptivity ALF and AIF, for parallel processing 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thanks to Shar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F7A8-6975-4BD3-90FA-1F578FC6C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4B47-A37D-47AC-931B-3DD5A1257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C0EF-713A-4844-800C-E39952328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1F68-8A2B-4143-B32B-789BBFAF7E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3F74-3CB7-490B-8D81-B9AAE55ED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4EDD-B760-402C-9FAE-1EEC6C232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83FD-5D31-4E40-B5AB-9CC190FBE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E107-BE9D-4C5F-AE18-0BBA53923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ACF1-B6CB-48AE-ADA7-B7A70D767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73A4-9B56-4BF9-AFAA-F0167A2B0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E97A-286F-4D92-943D-C5598B18C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80B3-2C56-4008-A2D6-A5BB45C23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D6F-48EE-49B3-AB70-85EB334EF89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0040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Hei"/>
              </a:rPr>
              <a:t>Michael Horow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Cisco, eBrisk,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Hei"/>
              </a:rPr>
              <a:t>JCT-VC Meeting in Geneva,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SimHei"/>
              </a:rPr>
              <a:t>March 16-23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09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8D44-0FC6-47F0-9723-6FE511E55C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 #1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2057400"/>
          <a:ext cx="6629400" cy="939960"/>
        </p:xfrm>
        <a:graphic>
          <a:graphicData uri="http://schemas.openxmlformats.org/drawingml/2006/table">
            <a:tbl>
              <a:tblPr/>
              <a:tblGrid>
                <a:gridCol w="493920"/>
                <a:gridCol w="1030320"/>
                <a:gridCol w="990360"/>
                <a:gridCol w="990720"/>
                <a:gridCol w="1143000"/>
                <a:gridCol w="990720"/>
                <a:gridCol w="990360"/>
              </a:tblGrid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3352680"/>
          <a:ext cx="6629400" cy="909720"/>
        </p:xfrm>
        <a:graphic>
          <a:graphicData uri="http://schemas.openxmlformats.org/drawingml/2006/table">
            <a:tbl>
              <a:tblPr/>
              <a:tblGrid>
                <a:gridCol w="493920"/>
                <a:gridCol w="1030320"/>
                <a:gridCol w="990360"/>
                <a:gridCol w="990720"/>
                <a:gridCol w="1143000"/>
                <a:gridCol w="990720"/>
                <a:gridCol w="99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523880" y="4572000"/>
          <a:ext cx="6629400" cy="939960"/>
        </p:xfrm>
        <a:graphic>
          <a:graphicData uri="http://schemas.openxmlformats.org/drawingml/2006/table">
            <a:tbl>
              <a:tblPr/>
              <a:tblGrid>
                <a:gridCol w="493920"/>
                <a:gridCol w="1030320"/>
                <a:gridCol w="990360"/>
                <a:gridCol w="990720"/>
                <a:gridCol w="1143000"/>
                <a:gridCol w="990720"/>
                <a:gridCol w="990360"/>
              </a:tblGrid>
              <a:tr h="3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CCEC-048D-4E0F-89F6-4D8495F1BA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pt. #2: High-level Parallel Process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cessors encode on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ti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ne slice per pi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2971800"/>
          <a:ext cx="7696080" cy="28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71800"/>
                    <a:ext cx="76960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003D-96AC-41F0-9639-1103E7957F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 #2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19320" y="1828800"/>
          <a:ext cx="6858000" cy="1062000"/>
        </p:xfrm>
        <a:graphic>
          <a:graphicData uri="http://schemas.openxmlformats.org/drawingml/2006/table">
            <a:tbl>
              <a:tblPr/>
              <a:tblGrid>
                <a:gridCol w="979200"/>
                <a:gridCol w="981360"/>
                <a:gridCol w="979200"/>
                <a:gridCol w="978120"/>
                <a:gridCol w="981000"/>
                <a:gridCol w="979560"/>
                <a:gridCol w="979560"/>
              </a:tblGrid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219320" y="3048120"/>
          <a:ext cx="6858000" cy="1062000"/>
        </p:xfrm>
        <a:graphic>
          <a:graphicData uri="http://schemas.openxmlformats.org/drawingml/2006/table">
            <a:tbl>
              <a:tblPr/>
              <a:tblGrid>
                <a:gridCol w="979200"/>
                <a:gridCol w="981360"/>
                <a:gridCol w="979200"/>
                <a:gridCol w="978120"/>
                <a:gridCol w="981000"/>
                <a:gridCol w="979560"/>
                <a:gridCol w="979560"/>
              </a:tblGrid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219320" y="4343400"/>
          <a:ext cx="6858000" cy="1062000"/>
        </p:xfrm>
        <a:graphic>
          <a:graphicData uri="http://schemas.openxmlformats.org/drawingml/2006/table">
            <a:tbl>
              <a:tblPr/>
              <a:tblGrid>
                <a:gridCol w="979200"/>
                <a:gridCol w="981360"/>
                <a:gridCol w="979200"/>
                <a:gridCol w="978120"/>
                <a:gridCol w="981000"/>
                <a:gridCol w="979560"/>
                <a:gridCol w="979560"/>
              </a:tblGrid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CD41-6F8A-428A-883F-45965694F0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estimation with an on-chip memory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range is adjusted for each PU based on growing search window size and the PU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introduced to model on-chip memory constr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very high vertical &amp; horizontal motion sequence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666880"/>
            <a:ext cx="213336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666880"/>
            <a:ext cx="213336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3960" y="2286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9080" y="2286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99240" y="2590200"/>
            <a:ext cx="5483880" cy="950760"/>
            <a:chOff x="1299240" y="2590200"/>
            <a:chExt cx="5483880" cy="950760"/>
          </a:xfrm>
        </p:grpSpPr>
        <p:grpSp>
          <p:nvGrpSpPr>
            <p:cNvPr id="95" name=""/>
            <p:cNvGrpSpPr/>
            <p:nvPr/>
          </p:nvGrpSpPr>
          <p:grpSpPr>
            <a:xfrm>
              <a:off x="1914120" y="2667240"/>
              <a:ext cx="4869000" cy="712800"/>
              <a:chOff x="1914120" y="2667240"/>
              <a:chExt cx="4869000" cy="712800"/>
            </a:xfrm>
          </p:grpSpPr>
          <p:sp>
            <p:nvSpPr>
              <p:cNvPr id="96" name=""/>
              <p:cNvSpPr/>
              <p:nvPr/>
            </p:nvSpPr>
            <p:spPr>
              <a:xfrm>
                <a:off x="1914120" y="290484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14120" y="314244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14120" y="266724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626560" y="278568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645440" y="2904840"/>
                <a:ext cx="2137680" cy="2376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01840" y="290484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2745000" y="2904840"/>
                <a:ext cx="2374920" cy="11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685520" y="2667240"/>
              <a:ext cx="228600" cy="685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9240" y="2590200"/>
              <a:ext cx="45468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*srY+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299240" y="2818800"/>
            <a:ext cx="5483880" cy="950760"/>
            <a:chOff x="1299240" y="2818800"/>
            <a:chExt cx="5483880" cy="950760"/>
          </a:xfrm>
        </p:grpSpPr>
        <p:grpSp>
          <p:nvGrpSpPr>
            <p:cNvPr id="106" name=""/>
            <p:cNvGrpSpPr/>
            <p:nvPr/>
          </p:nvGrpSpPr>
          <p:grpSpPr>
            <a:xfrm>
              <a:off x="1914120" y="2895840"/>
              <a:ext cx="4869000" cy="712800"/>
              <a:chOff x="1914120" y="2895840"/>
              <a:chExt cx="4869000" cy="712800"/>
            </a:xfrm>
          </p:grpSpPr>
          <p:sp>
            <p:nvSpPr>
              <p:cNvPr id="107" name=""/>
              <p:cNvSpPr/>
              <p:nvPr/>
            </p:nvSpPr>
            <p:spPr>
              <a:xfrm>
                <a:off x="1914120" y="313344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14120" y="337104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14120" y="289584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26560" y="301428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45440" y="3133440"/>
                <a:ext cx="2137680" cy="2376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01840" y="313344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2745000" y="3133440"/>
                <a:ext cx="2374920" cy="11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685520" y="2895840"/>
              <a:ext cx="228600" cy="685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9240" y="2818800"/>
              <a:ext cx="45468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*srY+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9240" y="3047400"/>
            <a:ext cx="5483880" cy="950760"/>
            <a:chOff x="1299240" y="3047400"/>
            <a:chExt cx="5483880" cy="950760"/>
          </a:xfrm>
        </p:grpSpPr>
        <p:grpSp>
          <p:nvGrpSpPr>
            <p:cNvPr id="117" name=""/>
            <p:cNvGrpSpPr/>
            <p:nvPr/>
          </p:nvGrpSpPr>
          <p:grpSpPr>
            <a:xfrm>
              <a:off x="1914120" y="3124440"/>
              <a:ext cx="4869000" cy="712800"/>
              <a:chOff x="1914120" y="3124440"/>
              <a:chExt cx="4869000" cy="712800"/>
            </a:xfrm>
          </p:grpSpPr>
          <p:sp>
            <p:nvSpPr>
              <p:cNvPr id="118" name=""/>
              <p:cNvSpPr/>
              <p:nvPr/>
            </p:nvSpPr>
            <p:spPr>
              <a:xfrm>
                <a:off x="1914120" y="336204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14120" y="359964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14120" y="312444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26560" y="324288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440" y="3362040"/>
                <a:ext cx="2137680" cy="2376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01840" y="336204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2745000" y="3362040"/>
                <a:ext cx="2374920" cy="11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685520" y="3124440"/>
              <a:ext cx="228600" cy="685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99240" y="3047400"/>
              <a:ext cx="45468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*srY+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8465-1CA6-41D0-95BF-1ABD4CAD83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 window within colum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828800" y="1447920"/>
            <a:ext cx="5904000" cy="4419360"/>
            <a:chOff x="1828800" y="1447920"/>
            <a:chExt cx="5904000" cy="4419360"/>
          </a:xfrm>
        </p:grpSpPr>
        <p:sp>
          <p:nvSpPr>
            <p:cNvPr id="130" name=""/>
            <p:cNvSpPr/>
            <p:nvPr/>
          </p:nvSpPr>
          <p:spPr>
            <a:xfrm>
              <a:off x="6934680" y="4419720"/>
              <a:ext cx="798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Vertical search r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(SRy</a:t>
              </a:r>
              <a:r>
                <a:rPr b="1" lang="en-US" sz="1200" spc="-1" strike="noStrike">
                  <a:solidFill>
                    <a:srgbClr val="00ff00"/>
                  </a:solidFill>
                  <a:latin typeface="Times New Roman"/>
                  <a:ea typeface="宋体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57400" y="2286000"/>
              <a:ext cx="4877640" cy="3052440"/>
              <a:chOff x="2057400" y="2286000"/>
              <a:chExt cx="4877640" cy="30524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57400" y="22878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61960" y="22878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66880" y="22878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71800" y="22863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76720" y="22878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81280" y="22878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86200" y="22888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1120" y="22888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95680" y="22888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22878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05520" y="22888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10440" y="228888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5000" y="22870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19920" y="22870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24840" y="22870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29760" y="22860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57400" y="25880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61960" y="25880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6880" y="25880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71800" y="25869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76720" y="25880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81280" y="258804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86200" y="25894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91120" y="25894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95680" y="25894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00600" y="258804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105520" y="25894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410440" y="258948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15000" y="25876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19920" y="25876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24840" y="25876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29760" y="258624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57400" y="28972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1960" y="28972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66880" y="28972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71800" y="28962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76720" y="28972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81280" y="289728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86200" y="289872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191120" y="289872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95680" y="289872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00600" y="289728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105520" y="289872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10440" y="289872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15000" y="2896560"/>
                <a:ext cx="305280" cy="305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19920" y="2896560"/>
                <a:ext cx="305280" cy="3045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324840" y="2896560"/>
                <a:ext cx="305280" cy="3045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29760" y="2895480"/>
                <a:ext cx="305280" cy="306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57400" y="3197520"/>
                <a:ext cx="305280" cy="305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61960" y="3197520"/>
                <a:ext cx="305280" cy="3045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66880" y="3197520"/>
                <a:ext cx="305280" cy="3045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71800" y="3196440"/>
                <a:ext cx="305280" cy="306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76720" y="319752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81280" y="319752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86200" y="319896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91120" y="319896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495680" y="319896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00600" y="319752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05520" y="319896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10440" y="31989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15000" y="319716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9920" y="319716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24840" y="319716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29760" y="319572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57400" y="350712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61960" y="350712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66880" y="350712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71800" y="350568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276720" y="350712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81280" y="350712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86200" y="35082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91120" y="35082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95680" y="35082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0600" y="350712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05520" y="35082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10440" y="35082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15000" y="35064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19920" y="35064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24840" y="35064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29760" y="35049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57400" y="380736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61960" y="380736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666880" y="380736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71800" y="380592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76720" y="380736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81280" y="38073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86200" y="38088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91120" y="38088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5680" y="38088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00600" y="38073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05520" y="38088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410440" y="38088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15000" y="38066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19920" y="38066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324840" y="38066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629760" y="38055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057400" y="41166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61960" y="41166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66880" y="41166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71800" y="41151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276720" y="41166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81280" y="41166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86200" y="41180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91120" y="41180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95680" y="41180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00600" y="41166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05520" y="41180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10440" y="411804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15000" y="41158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19920" y="41158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24840" y="41158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29760" y="41148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57400" y="44168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61960" y="44168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66880" y="44168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71800" y="44157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76720" y="44168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81280" y="441684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86200" y="44182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91120" y="44182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95680" y="4418280"/>
                <a:ext cx="305280" cy="3045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0600" y="4416840"/>
                <a:ext cx="305280" cy="306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05520" y="4418280"/>
                <a:ext cx="305280" cy="305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10440" y="4418280"/>
                <a:ext cx="305280" cy="306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15000" y="44164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019920" y="44164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324840" y="44164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29760" y="441504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57400" y="47264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61960" y="47264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666880" y="47264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71800" y="47250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76720" y="47264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581280" y="472644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86200" y="472752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91120" y="472752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95680" y="472752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0600" y="472644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05520" y="472752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10440" y="472752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15000" y="472572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19920" y="472572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24840" y="472572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29760" y="472428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57400" y="50310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61960" y="50310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66880" y="503100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71800" y="502956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6720" y="503100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81280" y="50310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86200" y="50324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91120" y="50324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95680" y="503244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00600" y="50310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05520" y="503244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10440" y="503244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15000" y="5030280"/>
                <a:ext cx="305280" cy="305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19920" y="50302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24840" y="5030280"/>
                <a:ext cx="305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629760" y="5029200"/>
                <a:ext cx="305280" cy="30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828800" y="2743200"/>
              <a:ext cx="1905120" cy="1218960"/>
              <a:chOff x="1828800" y="2743200"/>
              <a:chExt cx="1905120" cy="1218960"/>
            </a:xfrm>
          </p:grpSpPr>
          <p:sp>
            <p:nvSpPr>
              <p:cNvPr id="293" name=""/>
              <p:cNvSpPr/>
              <p:nvPr/>
            </p:nvSpPr>
            <p:spPr>
              <a:xfrm>
                <a:off x="1828800" y="2743200"/>
                <a:ext cx="190512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28800" y="3961440"/>
                <a:ext cx="1905120" cy="3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733920" y="2743200"/>
                <a:ext cx="0" cy="12189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28800" y="2743200"/>
                <a:ext cx="720" cy="12189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4038840" y="3962520"/>
              <a:ext cx="2133720" cy="3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8840" y="5181120"/>
              <a:ext cx="2133720" cy="3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840" y="3962520"/>
              <a:ext cx="720" cy="12189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71840" y="3962520"/>
              <a:ext cx="720" cy="12189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09680" y="5486400"/>
              <a:ext cx="19047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rowing search wind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733920" y="5181480"/>
              <a:ext cx="3045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67640" y="3962520"/>
              <a:ext cx="0" cy="45720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67640" y="4724280"/>
              <a:ext cx="720" cy="45720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67640" y="41911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867640" y="4876560"/>
              <a:ext cx="11430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840" y="4572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67440" y="457200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15360" y="4572000"/>
              <a:ext cx="45720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239080" y="4572000"/>
              <a:ext cx="62856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76720" y="2057400"/>
              <a:ext cx="36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14640" y="2057400"/>
              <a:ext cx="72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353040" y="1828800"/>
              <a:ext cx="6854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571640" y="1828800"/>
              <a:ext cx="1522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05520" y="182880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08640" y="2057400"/>
              <a:ext cx="72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28800" y="3962520"/>
              <a:ext cx="838080" cy="159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258160" y="2438280"/>
              <a:ext cx="1904760" cy="1218960"/>
              <a:chOff x="5258160" y="2438280"/>
              <a:chExt cx="1904760" cy="1218960"/>
            </a:xfrm>
          </p:grpSpPr>
          <p:sp>
            <p:nvSpPr>
              <p:cNvPr id="319" name=""/>
              <p:cNvSpPr/>
              <p:nvPr/>
            </p:nvSpPr>
            <p:spPr>
              <a:xfrm>
                <a:off x="5258160" y="2438280"/>
                <a:ext cx="190476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58160" y="3656520"/>
                <a:ext cx="1904760" cy="3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162920" y="2438280"/>
                <a:ext cx="0" cy="12189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58160" y="2438280"/>
                <a:ext cx="360" cy="121896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2133720" y="167652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C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209320" y="2057400"/>
              <a:ext cx="7596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840" y="1447920"/>
              <a:ext cx="1613520" cy="38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lumn bounda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70240" y="5484960"/>
              <a:ext cx="23749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rizontal search range (SR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0936-0B93-4E3D-A3EF-E385A11C8B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3 Resul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57200" y="1447920"/>
          <a:ext cx="7772400" cy="4368600"/>
        </p:xfrm>
        <a:graphic>
          <a:graphicData uri="http://schemas.openxmlformats.org/drawingml/2006/table">
            <a:tbl>
              <a:tblPr/>
              <a:tblGrid>
                <a:gridCol w="1460520"/>
                <a:gridCol w="1052280"/>
                <a:gridCol w="1050840"/>
                <a:gridCol w="1052640"/>
                <a:gridCol w="1052640"/>
                <a:gridCol w="1050840"/>
                <a:gridCol w="10526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217600" y="5943600"/>
            <a:ext cx="55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: 1 slice/picture with unlimited search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F6CE-4E7F-4999-BCF6-9EAD3B7B46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3 Resul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=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04920" y="1371600"/>
          <a:ext cx="8467560" cy="4692600"/>
        </p:xfrm>
        <a:graphic>
          <a:graphicData uri="http://schemas.openxmlformats.org/drawingml/2006/table">
            <a:tbl>
              <a:tblPr/>
              <a:tblGrid>
                <a:gridCol w="1590480"/>
                <a:gridCol w="1145880"/>
                <a:gridCol w="1146240"/>
                <a:gridCol w="1146240"/>
                <a:gridCol w="1146240"/>
                <a:gridCol w="1146240"/>
                <a:gridCol w="1146240"/>
              </a:tblGrid>
              <a:tr h="309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7BF7-F4E5-4831-B519-BF87060AD9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3 Resul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=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1371600"/>
          <a:ext cx="8467560" cy="4686120"/>
        </p:xfrm>
        <a:graphic>
          <a:graphicData uri="http://schemas.openxmlformats.org/drawingml/2006/table">
            <a:tbl>
              <a:tblPr/>
              <a:tblGrid>
                <a:gridCol w="1590480"/>
                <a:gridCol w="1146240"/>
                <a:gridCol w="1146240"/>
                <a:gridCol w="1145880"/>
                <a:gridCol w="1146240"/>
                <a:gridCol w="1146240"/>
                <a:gridCol w="11462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5608-681A-476A-B601-FE8FF7D745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 and 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gains vs. HM 2.0 slice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U matching -- gains from slic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arallel processing -- gains from slice shape and lower header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earch with constrained on-chip memory -- gains from effectively increasing search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dditional computation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s frame partition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partitioning for packe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partitioning for paralle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60F8-2BC1-4029-A8FF-88EFE9BBE7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 and 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s enabl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d domain "stitc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delay parallel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tion for adaptiv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ALF filter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ary with fine granularity slices, entropy slices, and wavefron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and Qualco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: adopt Tiles into the 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7470-D011-4A35-BD0E-4209E94B1C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Mods to HM 2.0-dev sl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 &amp;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 &amp;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1800" y="6135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FE63-E4E1-4CD1-9F08-5F043DC233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-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16765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3428-DFD4-47CA-ABF5-B677287E03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artitioning introduces coding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partition a pi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 paralle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U siz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 estimation with constrained on-chip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 coding loss due to partiti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0C24-8E4A-4861-82EB-91FDCA485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5257800" cy="3522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nd horizontal boundaries partition picture into columns and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locations may be uniformly spac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icitly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E9A0-8712-4C78-A15A-1D96DF1717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133720" y="3048120"/>
          <a:ext cx="4419360" cy="314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441936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e bounds may or may not break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 &amp; tile boundaries may or may not coin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DFF2-A1C4-467F-BBD7-161BF5306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s to HM 2.0-dev-slices 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U decoding order: raster scan in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(un)availability across tile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coding reset across tile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S &amp; SPS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C59D-2F54-4325-BBEE-563AD51609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PS and S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33720" y="1447920"/>
          <a:ext cx="5638680" cy="4771800"/>
        </p:xfrm>
        <a:graphic>
          <a:graphicData uri="http://schemas.openxmlformats.org/drawingml/2006/table">
            <a:tbl>
              <a:tblPr/>
              <a:tblGrid>
                <a:gridCol w="4770360"/>
                <a:gridCol w="868320"/>
              </a:tblGrid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le_boundary_independence_i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7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(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form_spacing_id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7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(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(uniform_spacing_idr == 1) {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_width_minus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7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_height_minus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7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e {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_columns_minus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7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_rows_minus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7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(i=0; i &lt; num_columns_minus1; i++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_width[i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7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nb-NO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(i=0; i &lt; num_rows_minus1; i++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_height[i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87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e(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120C-60AC-49EA-A90C-5EE66D9C81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t. #1: MTU size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number of bytes per s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t. #2: High-level paralle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tile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t. #3: Motion estimation with an on-chip memory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picture raster scan proc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F3DC-804A-42A4-8C9D-FFF442156D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t. #1: MTU Size M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bytes per s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ns introduced to create square-ish sl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57400" y="2743200"/>
          <a:ext cx="4495680" cy="31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44956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C80A-22B6-444B-A37C-82B12C5FEF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Horowitz Michael</cp:lastModifiedBy>
  <cp:lastPrinted>2009-04-22T19:24:48Z</cp:lastPrinted>
  <dcterms:modified xsi:type="dcterms:W3CDTF">2011-03-31T17:46:53Z</dcterms:modified>
  <cp:revision>2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