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2D5E-4BD8-4B23-96B9-EF510914C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C553-7F1B-4AA3-BEA3-669AA150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EE73-C701-42CD-B997-2632E9930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1273-C8C7-4FF7-BA33-EF0DD1DB7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69A5-05A1-479B-9A89-27524DC0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CB54-B7B7-4781-A9BC-4271E299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66ED-2EE5-4DE5-B3A9-3C5D4580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E1A6-75C6-4BBE-9102-FCA28985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A5E1-E203-4410-B2C8-B5DAB225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16D9-2792-4759-BBFE-39BA74FB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2641-8099-41B6-8B71-7088B525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0A55-171E-495D-A813-F86ABBD1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394D-3FCD-44C9-B971-DB53B267E1CC}" type="slidenum">
              <a:rPr b="0" lang="ko-KR" sz="1200" spc="-1" strike="noStrike">
                <a:solidFill>
                  <a:srgbClr val="898989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 Math"/>
              </a:rPr>
              <a:t>JCTVC-380: CE7: Experimental results of ROT by Sams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 Math"/>
              </a:rPr>
              <a:t>E. Alshina, A. Alshin , F. Fernandes, A. Saxena , V. Seregin, Z. Ma ,W.-J. Han (Samsu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 Math"/>
              </a:rPr>
              <a:t>Test 4: ROT for MPM + DCT/D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714240" y="1500120"/>
          <a:ext cx="7500960" cy="4100760"/>
        </p:xfrm>
        <a:graphic>
          <a:graphicData uri="http://schemas.openxmlformats.org/drawingml/2006/table">
            <a:tbl>
              <a:tblPr/>
              <a:tblGrid>
                <a:gridCol w="1049400"/>
                <a:gridCol w="538200"/>
                <a:gridCol w="398520"/>
                <a:gridCol w="420840"/>
                <a:gridCol w="793440"/>
                <a:gridCol w="944640"/>
                <a:gridCol w="579600"/>
                <a:gridCol w="501480"/>
                <a:gridCol w="424080"/>
                <a:gridCol w="925200"/>
                <a:gridCol w="925560"/>
              </a:tblGrid>
              <a:tr h="182880">
                <a:tc rowSpan="2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Cambria Math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Int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Intra Lo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Y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U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V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Y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U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V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Class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1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2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0,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1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0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0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2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-0,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1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0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0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0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-0,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1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0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-0,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Clas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1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1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1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2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0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-0,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1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0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0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2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-0,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En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2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De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0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0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rowSpan="2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Cambria Math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Random ac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Random access Lo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Y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U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V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Y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U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V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Class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0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0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0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0,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0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1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-0,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0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1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0,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0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1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-0,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Clas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0,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8288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0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1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0,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En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0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0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46440" rIns="464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De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46440" rIns="464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Test 5: ROT + DCT/DST +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mbria Math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 Step MDT (JCTVC-E07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11280" y="1697040"/>
          <a:ext cx="8137440" cy="4095720"/>
        </p:xfrm>
        <a:graphic>
          <a:graphicData uri="http://schemas.openxmlformats.org/drawingml/2006/table">
            <a:tbl>
              <a:tblPr/>
              <a:tblGrid>
                <a:gridCol w="1081080"/>
                <a:gridCol w="430200"/>
                <a:gridCol w="433440"/>
                <a:gridCol w="676080"/>
                <a:gridCol w="119160"/>
                <a:gridCol w="119160"/>
                <a:gridCol w="1533240"/>
                <a:gridCol w="409680"/>
                <a:gridCol w="671400"/>
                <a:gridCol w="439920"/>
                <a:gridCol w="1112760"/>
                <a:gridCol w="1111320"/>
              </a:tblGrid>
              <a:tr h="182880">
                <a:tc rowSpan="2">
                  <a:txBody>
                    <a:bodyPr lIns="62280" rIns="62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Cambria Math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gridSpan="6">
                  <a:txBody>
                    <a:bodyPr lIns="62280" rIns="62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Int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62280" rIns="62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Intra Lo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Y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U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2280" rIns="62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V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2280" rIns="62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Y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U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V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Class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62280" rIns="62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-1,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2280" rIns="62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-1,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2280" rIns="62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-1,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-3,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-0,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-0,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-1,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-0,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2280" rIns="62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-0,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-2,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-0,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-0,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-1,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-0,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2280" rIns="62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-0,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-2,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-0,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-0,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-1,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-0,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2280" rIns="62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-0,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-2,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-0,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-0,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Clas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62280" rIns="62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-1,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2280" rIns="62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-1,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2280" rIns="62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-1,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2280" rIns="62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-2,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-0,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-0,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62280" rIns="62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-1,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2280" rIns="62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-0,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2280" rIns="62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-0,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2280" rIns="62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-2,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-0,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-0,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En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gridSpan="6">
                  <a:txBody>
                    <a:bodyPr lIns="62280" rIns="62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1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62280" rIns="62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13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De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gridSpan="6">
                  <a:txBody>
                    <a:bodyPr lIns="62280" rIns="62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10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62280" rIns="62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10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880">
                <a:tc rowSpan="2">
                  <a:txBody>
                    <a:bodyPr lIns="62280" rIns="62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Cambria Math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gridSpan="6">
                  <a:txBody>
                    <a:bodyPr lIns="62280" rIns="62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Random ac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62280" rIns="62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Random access Lo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Y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U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V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62280" rIns="62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Y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2280" rIns="62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U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V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Class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62280" rIns="62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-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2280" rIns="62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-0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-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-1,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0,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0,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-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-1,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0,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0,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-1,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-0,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-0,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-1,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-0,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0,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-0,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-0,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0,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-1,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0,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-0,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62280" rIns="62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-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2280" rIns="62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-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-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62280" rIns="62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-1,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2280" rIns="62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0,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0,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En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gridSpan="6">
                  <a:txBody>
                    <a:bodyPr lIns="62280" rIns="62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10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62280" rIns="62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10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De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gridSpan="6">
                  <a:txBody>
                    <a:bodyPr lIns="62280" rIns="62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10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62280" rIns="62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10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Recommended alternative transform desig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619280" y="5157720"/>
          <a:ext cx="5616720" cy="1225440"/>
        </p:xfrm>
        <a:graphic>
          <a:graphicData uri="http://schemas.openxmlformats.org/drawingml/2006/table">
            <a:tbl>
              <a:tblPr/>
              <a:tblGrid>
                <a:gridCol w="3313080"/>
                <a:gridCol w="2303640"/>
              </a:tblGrid>
              <a:tr h="45108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verage operations per pix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e Trans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o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250920" y="2060640"/>
          <a:ext cx="8281800" cy="2449440"/>
        </p:xfrm>
        <a:graphic>
          <a:graphicData uri="http://schemas.openxmlformats.org/drawingml/2006/table">
            <a:tbl>
              <a:tblPr/>
              <a:tblGrid>
                <a:gridCol w="1197000"/>
                <a:gridCol w="3436920"/>
                <a:gridCol w="3647880"/>
              </a:tblGrid>
              <a:tr h="573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mbria Math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mbria Math"/>
                        </a:rPr>
                        <a:t>indexROT = 0 || UDI mode != MP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mbria Math"/>
                        </a:rPr>
                        <a:t>indexROT &gt; 0 &amp;&amp; UDI mode == MP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mbria Math"/>
                        </a:rPr>
                        <a:t>4x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DCT/D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HM core transform + R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mbria Math"/>
                        </a:rPr>
                        <a:t>8x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DCT/D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HM core transform + R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3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mbria Math"/>
                        </a:rPr>
                        <a:t>16x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HM core transform + 2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ambria Math"/>
                        </a:rPr>
                        <a:t>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 step MD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HM core transform + R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3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mbria Math"/>
                        </a:rPr>
                        <a:t>32x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HM core transform + 2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ambria Math"/>
                        </a:rPr>
                        <a:t>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 step MD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 Math"/>
                        </a:rPr>
                        <a:t>HM core transform + R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1" name="Rectangle 41"/>
          <p:cNvSpPr/>
          <p:nvPr/>
        </p:nvSpPr>
        <p:spPr>
          <a:xfrm>
            <a:off x="1531800" y="3336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s 1…5 Summa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Test 5 is the best trade-off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" name="Object 3"/>
          <p:cNvGraphicFramePr/>
          <p:nvPr/>
        </p:nvGraphicFramePr>
        <p:xfrm>
          <a:off x="4248000" y="1773360"/>
          <a:ext cx="5437440" cy="41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48000" y="1773360"/>
                    <a:ext cx="5437440" cy="41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4"/>
          <p:cNvGraphicFramePr/>
          <p:nvPr/>
        </p:nvGraphicFramePr>
        <p:xfrm>
          <a:off x="-108000" y="1717560"/>
          <a:ext cx="4902120" cy="414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08000" y="1717560"/>
                    <a:ext cx="4902120" cy="41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Down Arrow 1"/>
          <p:cNvSpPr/>
          <p:nvPr/>
        </p:nvSpPr>
        <p:spPr>
          <a:xfrm>
            <a:off x="1084320" y="3068640"/>
            <a:ext cx="504720" cy="72072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Down Arrow 5"/>
          <p:cNvSpPr/>
          <p:nvPr/>
        </p:nvSpPr>
        <p:spPr>
          <a:xfrm>
            <a:off x="5430960" y="3213000"/>
            <a:ext cx="504720" cy="72072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949320" y="271476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est 5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5306760" y="286704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est 5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2949480" y="305928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est 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7804080" y="405936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est 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TextBox 10"/>
          <p:cNvSpPr/>
          <p:nvPr/>
        </p:nvSpPr>
        <p:spPr>
          <a:xfrm>
            <a:off x="3449520" y="386856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est 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11"/>
          <p:cNvSpPr/>
          <p:nvPr/>
        </p:nvSpPr>
        <p:spPr>
          <a:xfrm>
            <a:off x="8232480" y="472608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est 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Box 12"/>
          <p:cNvSpPr/>
          <p:nvPr/>
        </p:nvSpPr>
        <p:spPr>
          <a:xfrm>
            <a:off x="7947000" y="250020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est 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Box 13"/>
          <p:cNvSpPr/>
          <p:nvPr/>
        </p:nvSpPr>
        <p:spPr>
          <a:xfrm>
            <a:off x="3089160" y="250020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est 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TextBox 14"/>
          <p:cNvSpPr/>
          <p:nvPr/>
        </p:nvSpPr>
        <p:spPr>
          <a:xfrm>
            <a:off x="1212840" y="463068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est 4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15"/>
          <p:cNvSpPr/>
          <p:nvPr/>
        </p:nvSpPr>
        <p:spPr>
          <a:xfrm>
            <a:off x="5468760" y="456084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est 4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 Math"/>
              </a:rPr>
              <a:t>Conclus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 Math"/>
              </a:rPr>
              <a:t>Based on these test result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 Math"/>
              </a:rPr>
              <a:t>2% (in average for All Intra test) a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</a:rPr>
              <a:t>1% (in average for Random access test) performance improv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 Math"/>
              </a:rPr>
              <a:t>we recommend HM adoption of following alternative transform design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 Math"/>
              </a:rPr>
              <a:t>DCT/DST for 4x4 and 8x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 Math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mbria Math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</a:rPr>
              <a:t> step mode dependent transform for 16x16 and 32x3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 Math"/>
              </a:rPr>
              <a:t>ROT for all block sizes restricted for MPM and no mode dependent transform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mbria Math"/>
              </a:rPr>
              <a:t>Only one alternative transform tool is applied for each Intra TU in this design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mbria Math"/>
              </a:rPr>
              <a:t>No quantization part change is need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 Math"/>
              </a:rPr>
              <a:t>ROT application sche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FC44-229C-46CD-8813-9E6BD15CF5C1}" type="slidenum">
              <a:rPr b="0" lang="en-US" sz="1200" spc="-1" strike="noStrike">
                <a:solidFill>
                  <a:srgbClr val="898989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24"/>
          <p:cNvSpPr/>
          <p:nvPr/>
        </p:nvSpPr>
        <p:spPr>
          <a:xfrm>
            <a:off x="1452600" y="2987640"/>
            <a:ext cx="415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484360" y="1268280"/>
            <a:ext cx="5112000" cy="27147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82"/>
          <p:cNvSpPr/>
          <p:nvPr/>
        </p:nvSpPr>
        <p:spPr>
          <a:xfrm>
            <a:off x="285840" y="3857760"/>
            <a:ext cx="864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mplemented as secondary transform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no change to existing HM transform cor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ROT doesn’t require change of HM quantizati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no additional Q/Q</a:t>
            </a:r>
            <a:r>
              <a:rPr b="0" lang="en-US" sz="1800" spc="-1" strike="noStrike" u="sng" baseline="30000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-1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matrice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nly low-frequency part of transform coefficients matrix is involved in ROT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mplemented for 4x4 and 8x8 only, but applied for all TU size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 Math"/>
              </a:rPr>
              <a:t>Sparse structure of ROT matr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395280" y="1527120"/>
            <a:ext cx="9144000" cy="25448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545400" y="3625560"/>
            <a:ext cx="9030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맑은 고딕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mbria Math"/>
                <a:ea typeface="맑은 고딕"/>
              </a:rPr>
              <a:t>Horizontal 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맑은 고딕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맑은 고딕"/>
              </a:rPr>
              <a:t>          input   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맑은 고딕"/>
              </a:rPr>
              <a:t>              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mbria Math"/>
                <a:ea typeface="맑은 고딕"/>
              </a:rPr>
              <a:t>Vertical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맑은 고딕"/>
              </a:rPr>
              <a:t>        =       rotated outpu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2"/>
          <a:stretch/>
        </p:blipFill>
        <p:spPr>
          <a:xfrm>
            <a:off x="3132000" y="4227480"/>
            <a:ext cx="3024360" cy="25592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3512880" y="1357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맑은 고딕"/>
              </a:rPr>
              <a:t>ROT4 proces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3674520" y="407196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맑은 고딕"/>
              </a:rPr>
              <a:t>ROT8 matrix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 Math"/>
              </a:rPr>
              <a:t>Number of 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184"/>
          <p:cNvSpPr/>
          <p:nvPr/>
        </p:nvSpPr>
        <p:spPr>
          <a:xfrm>
            <a:off x="-666000" y="4581360"/>
            <a:ext cx="1024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맑은 고딕"/>
              </a:rPr>
              <a:t>Because ROT matrices are very sparse, number introduced by ROT is small compa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맑은 고딕"/>
              </a:rPr>
              <a:t>to core transform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맑은 고딕"/>
              </a:rPr>
              <a:t>for 4x4 block:  is comparable to 4x4 core transfor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맑은 고딕"/>
              </a:rPr>
              <a:t>for 8x8 block:  is ~ </a:t>
            </a:r>
            <a:r>
              <a:rPr b="0" lang="en-US" sz="1800" spc="-1" strike="noStrike">
                <a:solidFill>
                  <a:srgbClr val="c0504d"/>
                </a:solidFill>
                <a:latin typeface="Cambria Math"/>
                <a:ea typeface="맑은 고딕"/>
              </a:rPr>
              <a:t>½  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맑은 고딕"/>
              </a:rPr>
              <a:t>compared to 8x8 core transform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맑은 고딕"/>
              </a:rPr>
              <a:t>for larger TU sizes: ROT operations count become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mbria Math"/>
                <a:ea typeface="맑은 고딕"/>
              </a:rPr>
              <a:t>negligible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맑은 고딕"/>
              </a:rPr>
              <a:t> compared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맑은 고딕"/>
              </a:rPr>
              <a:t> core transform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24000" y="1714680"/>
          <a:ext cx="7748280" cy="2787480"/>
        </p:xfrm>
        <a:graphic>
          <a:graphicData uri="http://schemas.openxmlformats.org/drawingml/2006/table">
            <a:tbl>
              <a:tblPr/>
              <a:tblGrid>
                <a:gridCol w="725400"/>
                <a:gridCol w="377640"/>
                <a:gridCol w="552600"/>
                <a:gridCol w="647640"/>
                <a:gridCol w="649440"/>
                <a:gridCol w="425160"/>
                <a:gridCol w="587520"/>
                <a:gridCol w="642960"/>
                <a:gridCol w="863640"/>
                <a:gridCol w="552240"/>
                <a:gridCol w="600120"/>
                <a:gridCol w="476280"/>
                <a:gridCol w="647640"/>
              </a:tblGrid>
              <a:tr h="4266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Core HM transfo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Additional operations for R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6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TU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*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+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&gt;&gt;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*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+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&gt;&gt;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*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+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&gt;&gt;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6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4x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8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7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8x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5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5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7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5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6x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5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5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6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4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32x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7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7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7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8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Av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 Math"/>
              </a:rPr>
              <a:t>Partial energy ex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Object 4"/>
          <p:cNvGraphicFramePr/>
          <p:nvPr/>
        </p:nvGraphicFramePr>
        <p:xfrm>
          <a:off x="1116000" y="1341360"/>
          <a:ext cx="7451640" cy="33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341360"/>
                    <a:ext cx="745164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Text Box 5"/>
          <p:cNvSpPr/>
          <p:nvPr/>
        </p:nvSpPr>
        <p:spPr>
          <a:xfrm>
            <a:off x="285840" y="5000760"/>
            <a:ext cx="8572320" cy="16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맑은 고딕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맑은 고딕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맑은 고딕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맑은 고딕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맑은 고딕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맑은 고딕"/>
              </a:rPr>
              <a:t>=0</a:t>
            </a: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맑은 고딕"/>
              </a:rPr>
              <a:t> no chang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맑은 고딕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맑은 고딕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맑은 고딕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맑은 고딕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맑은 고딕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맑은 고딕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맑은 고딕"/>
              </a:rPr>
              <a:t>=0</a:t>
            </a: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맑은 고딕"/>
              </a:rPr>
              <a:t> 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mbria Math"/>
                <a:ea typeface="맑은 고딕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맑은 고딕"/>
              </a:rPr>
              <a:t> and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mbria Math"/>
                <a:ea typeface="맑은 고딕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맑은 고딕"/>
              </a:rPr>
              <a:t> column switching with sign change for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mbria Math"/>
                <a:ea typeface="맑은 고딕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맑은 고딕"/>
              </a:rPr>
              <a:t> colum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맑은 고딕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맑은 고딕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맑은 고딕"/>
              </a:rPr>
              <a:t>/2</a:t>
            </a: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맑은 고딕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맑은 고딕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맑은 고딕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맑은 고딕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맑은 고딕"/>
              </a:rPr>
              <a:t>=0</a:t>
            </a:r>
            <a:r>
              <a:rPr b="0" lang="ru-RU" sz="1600" spc="-1" strike="noStrike">
                <a:solidFill>
                  <a:srgbClr val="000000"/>
                </a:solidFill>
                <a:latin typeface="Cambria Math"/>
                <a:ea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맑은 고딕"/>
              </a:rPr>
              <a:t> sign change for 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mbria Math"/>
                <a:ea typeface="맑은 고딕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맑은 고딕"/>
              </a:rPr>
              <a:t> and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mbria Math"/>
                <a:ea typeface="맑은 고딕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맑은 고딕"/>
              </a:rPr>
              <a:t> row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맑은 고딕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맑은 고딕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맑은 고딕"/>
              </a:rPr>
              <a:t>}: 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맑은 고딕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맑은 고딕"/>
              </a:rPr>
              <a:t>|&lt;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맑은 고딕"/>
              </a:rPr>
              <a:t>, 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mbria Math"/>
                <a:ea typeface="맑은 고딕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맑은 고딕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SymbolPS"/>
                <a:ea typeface="맑은 고딕"/>
              </a:rPr>
              <a:t>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맑은 고딕"/>
              </a:rPr>
              <a:t>|&lt;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Cambria Math"/>
                <a:ea typeface="맑은 고딕"/>
              </a:rPr>
              <a:t> small change of main transform coefficients with possible sign chang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 Math"/>
              </a:rPr>
              <a:t>Additional memory usage 144 byte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const Int g_INV_ROT_MATRIX_4[4][18]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{ 248,   -55,   -28,   -60,  -244,   -52,   -16,    57,  -249,   250,   -49,   -26,   -54,  -240,   -71,   -11,    75,  -245,}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{ 255,    22,    -8,   -22,   254,   -17,     6,    17,   255,   241,   -84,   -18,    69,   221,  -110,    52,    98,   231,}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{ 237,   -96,    -9,    90,   229,   -73,    35,    64,   245,   243,   -80,    -6,    70,   222,  -107,    38,   100,   233,}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{ 250,   -18,   -54,   -13,   220,  -131,    55,   130,   213,   212,  -143,     9,   134,   192,  -103,    51,    90,   234,}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const Int g_INV_ROT_MATRIX_8[4][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]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{ 251,   -36,   -31,    23,   237,   -94,    42,    90,   236,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236,  -100,     3,   100,   234,   -25,     7,    24,   255,   }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{ 243,   -61,   -50,   -75,  -230,   -83,   -25,    94,  -237,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54,   -27,   -18,    22,   249,   -56,    24,    54,   249,   }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{ 243,   -81,    12,    81,   232,   -70,    11,    71,   246,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52,   -41,    -9,   -42,  -251,   -28,    -4,    29,  -254,}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{ 174,  -186,    23,   181,   158,   -87,    49,    75,   240,   236,   -99,   -10,   -99,  -235,   -25,     1,    27,  -255,}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-520200" y="4653000"/>
            <a:ext cx="10324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맑은 고딕"/>
              </a:rPr>
              <a:t>These matrices are </a:t>
            </a:r>
            <a:r>
              <a:rPr b="0" lang="en-US" sz="1800" spc="-1" strike="noStrike" u="sng">
                <a:solidFill>
                  <a:srgbClr val="000066"/>
                </a:solidFill>
                <a:uFillTx/>
                <a:latin typeface="Cambria Math"/>
                <a:ea typeface="맑은 고딕"/>
              </a:rPr>
              <a:t>enough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맑은 고딕"/>
              </a:rPr>
              <a:t> for realization of </a:t>
            </a:r>
            <a:r>
              <a:rPr b="0" lang="en-US" sz="1800" spc="-1" strike="noStrike">
                <a:solidFill>
                  <a:srgbClr val="000066"/>
                </a:solidFill>
                <a:latin typeface="Cambria Math"/>
                <a:ea typeface="맑은 고딕"/>
              </a:rPr>
              <a:t>4 alternative transforms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맑은 고딕"/>
              </a:rPr>
              <a:t> for </a:t>
            </a:r>
            <a:r>
              <a:rPr b="0" lang="en-US" sz="1800" spc="-1" strike="noStrike">
                <a:solidFill>
                  <a:srgbClr val="000066"/>
                </a:solidFill>
                <a:latin typeface="Cambria Math"/>
                <a:ea typeface="맑은 고딕"/>
              </a:rPr>
              <a:t>any TU sizes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Cambria Math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맑은 고딕"/>
              </a:rPr>
              <a:t>In total, </a:t>
            </a:r>
            <a:r>
              <a:rPr b="0" lang="en-US" sz="1800" spc="-1" strike="noStrike">
                <a:solidFill>
                  <a:srgbClr val="000066"/>
                </a:solidFill>
                <a:latin typeface="Cambria Math"/>
                <a:ea typeface="맑은 고딕"/>
              </a:rPr>
              <a:t>144 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맑은 고딕"/>
              </a:rPr>
              <a:t>integers with absolute values less than 256 should be stored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맑은 고딕"/>
              </a:rPr>
              <a:t>For comparison, consider Q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mbria Math"/>
                <a:ea typeface="맑은 고딕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맑은 고딕"/>
              </a:rPr>
              <a:t> matrices in HM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맑은 고딕"/>
              </a:rPr>
              <a:t>for 4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맑은 고딕"/>
              </a:rPr>
              <a:t>4 transform core: </a:t>
            </a:r>
            <a:r>
              <a:rPr b="0" lang="en-US" sz="1800" spc="-1" strike="noStrike">
                <a:solidFill>
                  <a:srgbClr val="000066"/>
                </a:solidFill>
                <a:latin typeface="Cambria Math"/>
                <a:ea typeface="맑은 고딕"/>
              </a:rPr>
              <a:t>192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맑은 고딕"/>
              </a:rPr>
              <a:t> elements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맑은 고딕"/>
              </a:rPr>
              <a:t>for 8x8 transform core: </a:t>
            </a:r>
            <a:r>
              <a:rPr b="0" lang="en-US" sz="1800" spc="-1" strike="noStrike">
                <a:solidFill>
                  <a:srgbClr val="000066"/>
                </a:solidFill>
                <a:latin typeface="Cambria Math"/>
                <a:ea typeface="맑은 고딕"/>
              </a:rPr>
              <a:t>768</a:t>
            </a:r>
            <a:r>
              <a:rPr b="0" lang="en-US" sz="1800" spc="-1" strike="noStrike">
                <a:solidFill>
                  <a:srgbClr val="000000"/>
                </a:solidFill>
                <a:latin typeface="Cambria Math"/>
                <a:ea typeface="맑은 고딕"/>
              </a:rPr>
              <a:t> elements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 Math"/>
              </a:rPr>
              <a:t>Test 1: ROT with matrix multiplic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85840" y="1643040"/>
          <a:ext cx="8143920" cy="4821120"/>
        </p:xfrm>
        <a:graphic>
          <a:graphicData uri="http://schemas.openxmlformats.org/drawingml/2006/table">
            <a:tbl>
              <a:tblPr/>
              <a:tblGrid>
                <a:gridCol w="1143000"/>
                <a:gridCol w="247680"/>
                <a:gridCol w="609480"/>
                <a:gridCol w="485640"/>
                <a:gridCol w="692280"/>
                <a:gridCol w="1036800"/>
                <a:gridCol w="426960"/>
                <a:gridCol w="787320"/>
                <a:gridCol w="379440"/>
                <a:gridCol w="1168200"/>
                <a:gridCol w="1167120"/>
              </a:tblGrid>
              <a:tr h="213480">
                <a:tc rowSpan="2"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Cambria Math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Int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Intra Lo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8280" rIns="8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2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8280" rIns="8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8280" rIns="8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8280" rIns="8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8280" rIns="8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8280" rIns="8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8280" rIns="8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4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8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600">
                <a:tc>
                  <a:txBody>
                    <a:bodyPr lIns="8280" rIns="8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0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8280" rIns="8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280" rIns="8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280" rIns="8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8280" rIns="8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rowSpan="2"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Cambria Math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Random ac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Random access Lo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8280" rIns="8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8280" rIns="8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8280" rIns="8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8280" rIns="8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8280" rIns="8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280" rIns="8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280" rIns="8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8280" rIns="8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280" rIns="8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13480">
                <a:tc>
                  <a:txBody>
                    <a:bodyPr lIns="8280" rIns="8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8280" rIns="8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600">
                <a:tc>
                  <a:txBody>
                    <a:bodyPr lIns="8280" rIns="8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0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280" rIns="8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 Math"/>
              </a:rPr>
              <a:t>Test 2: ROT with lif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42960" y="1500120"/>
          <a:ext cx="7715160" cy="4322880"/>
        </p:xfrm>
        <a:graphic>
          <a:graphicData uri="http://schemas.openxmlformats.org/drawingml/2006/table">
            <a:tbl>
              <a:tblPr/>
              <a:tblGrid>
                <a:gridCol w="1049400"/>
                <a:gridCol w="304560"/>
                <a:gridCol w="630360"/>
                <a:gridCol w="227160"/>
                <a:gridCol w="672840"/>
                <a:gridCol w="1260720"/>
                <a:gridCol w="163440"/>
                <a:gridCol w="915840"/>
                <a:gridCol w="219240"/>
                <a:gridCol w="1136520"/>
                <a:gridCol w="1135080"/>
              </a:tblGrid>
              <a:tr h="182880">
                <a:tc row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Cambria Math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Int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Intra Lo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Y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U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V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Y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U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V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9400" rIns="59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Class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1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59400" rIns="59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1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59400" rIns="59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1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59400" rIns="59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59400" rIns="59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Clas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9400" rIns="59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1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9400" rIns="59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En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6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0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59400" rIns="59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De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0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59400" rIns="59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9400" rIns="59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row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Cambria Math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Random ac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Random access Lo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Y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U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V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Y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U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V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9400" rIns="59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Class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0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59400" rIns="59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59400" rIns="59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59400" rIns="59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59400" rIns="59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Clas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82880">
                <a:tc>
                  <a:txBody>
                    <a:bodyPr lIns="59400" rIns="59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9400" rIns="59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En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0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0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59400" rIns="59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De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0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0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 Math"/>
              </a:rPr>
              <a:t>Test 3: ROT + DCT/DST (Best Coding Gain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000080" y="1765440"/>
          <a:ext cx="7286760" cy="4206600"/>
        </p:xfrm>
        <a:graphic>
          <a:graphicData uri="http://schemas.openxmlformats.org/drawingml/2006/table">
            <a:tbl>
              <a:tblPr/>
              <a:tblGrid>
                <a:gridCol w="1122480"/>
                <a:gridCol w="154800"/>
                <a:gridCol w="637560"/>
                <a:gridCol w="171360"/>
                <a:gridCol w="906480"/>
                <a:gridCol w="927360"/>
                <a:gridCol w="154800"/>
                <a:gridCol w="654840"/>
                <a:gridCol w="417240"/>
                <a:gridCol w="1070280"/>
                <a:gridCol w="1069560"/>
              </a:tblGrid>
              <a:tr h="182880">
                <a:tc row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Cambria Math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Int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Intra Lo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Y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U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V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Y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U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V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9400" rIns="59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Class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3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59400" rIns="59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59400" rIns="59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1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59400" rIns="59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59400" rIns="59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Clas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1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2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9400" rIns="59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1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9400" rIns="59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En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5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9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59400" rIns="59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De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0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59400" rIns="59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9400" rIns="59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row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Cambria Math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Random ac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Random access Lo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Y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U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V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Y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U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V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9400" rIns="59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Class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59400" rIns="59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59400" rIns="59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1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59400" rIns="59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59400" rIns="59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Clas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82880">
                <a:tc>
                  <a:txBody>
                    <a:bodyPr lIns="59400" rIns="59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-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9400" rIns="59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En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0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0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59400" rIns="59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De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0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59400" rIns="59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0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06:25:05Z</dcterms:created>
  <dc:creator>Windows 사용자</dc:creator>
  <dc:description/>
  <dc:language>en-US</dc:language>
  <cp:lastModifiedBy>Lena</cp:lastModifiedBy>
  <cp:lastPrinted>2011-03-15T18:29:58Z</cp:lastPrinted>
  <dcterms:modified xsi:type="dcterms:W3CDTF">2011-03-17T11:59:18Z</dcterms:modified>
  <cp:revision>45</cp:revision>
  <dc:subject/>
  <dc:title>JCTVC-380: CE7: Experimental results of ROT by Samsung</dc:title>
</cp:coreProperties>
</file>