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英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中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0-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0-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18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22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649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852560" indent="-264960">
              <a:spcBef>
                <a:spcPts val="649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382840" indent="-26496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382840" indent="-26496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382840" indent="-26496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69F07907-39E7-4E76-9842-600EC7F60AF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35200" y="3137040"/>
            <a:ext cx="6193080" cy="152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600" spc="-1" strike="noStrike">
                <a:solidFill>
                  <a:srgbClr val="6699ff"/>
                </a:solidFill>
                <a:latin typeface="Arial"/>
                <a:ea typeface="华文细黑"/>
              </a:rPr>
              <a:t>Asymmetric Motion Partition with OBMC and Non-Square 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Tsinghua, Huawei &amp; HiSilicon, Microsoft, US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9000" y="4792680"/>
            <a:ext cx="266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CTVC-E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va, CH, March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void TU cross PU boundary at RQT’s second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No change to RQT entropy 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No additional core transform is int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Only modify quantization tables for non-square 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 Non-Square inter frame coding structure to 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87" name="" descr="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ww.hisilic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ed to Asymmetric Motion Par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negative impact of TU cross PU boundary at AMP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84280" y="2271600"/>
            <a:ext cx="3435480" cy="8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RQT design, TU will cross PU boundary at first and second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68640" y="2271600"/>
            <a:ext cx="47484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Use non-square TU at RQT’s second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ransform block inside non-square TU can be further spl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23920" y="2705040"/>
            <a:ext cx="440532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ore transform and quantization of non-square TU</a:t>
            </a:r>
            <a:endParaRPr b="0" lang="en-US" sz="31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use 2Nx2N and 0.5Nx0.5N core transform to achieve 2Nx0.5N and 0.5Nx2N core trans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quantization tables used at 2Nx0.5N and 0.5Nx2N trans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649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7920" y="2992320"/>
            <a:ext cx="2847960" cy="5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03920" y="3063960"/>
            <a:ext cx="2762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2.0 common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on AMP + OBMC platform at CE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square TU is applied to 32x32 and 16x16 CU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P + OBMC, AMP + OBMC + Non-square TU are tes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 + OBMC + Non-Square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624640" y="2705040"/>
          <a:ext cx="4628880" cy="2976480"/>
        </p:xfrm>
        <a:graphic>
          <a:graphicData uri="http://schemas.openxmlformats.org/drawingml/2006/table">
            <a:tbl>
              <a:tblPr/>
              <a:tblGrid>
                <a:gridCol w="966600"/>
                <a:gridCol w="623880"/>
                <a:gridCol w="622440"/>
                <a:gridCol w="595080"/>
                <a:gridCol w="652680"/>
                <a:gridCol w="623880"/>
                <a:gridCol w="5443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871560" y="2705040"/>
          <a:ext cx="4629240" cy="2976480"/>
        </p:xfrm>
        <a:graphic>
          <a:graphicData uri="http://schemas.openxmlformats.org/drawingml/2006/table">
            <a:tbl>
              <a:tblPr/>
              <a:tblGrid>
                <a:gridCol w="952560"/>
                <a:gridCol w="611280"/>
                <a:gridCol w="612720"/>
                <a:gridCol w="614160"/>
                <a:gridCol w="611280"/>
                <a:gridCol w="614520"/>
                <a:gridCol w="61272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 + OBMC  vs. AMP + OBMC + Non-Square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624640" y="2705040"/>
          <a:ext cx="4628880" cy="2976480"/>
        </p:xfrm>
        <a:graphic>
          <a:graphicData uri="http://schemas.openxmlformats.org/drawingml/2006/table">
            <a:tbl>
              <a:tblPr/>
              <a:tblGrid>
                <a:gridCol w="966600"/>
                <a:gridCol w="623880"/>
                <a:gridCol w="622440"/>
                <a:gridCol w="595080"/>
                <a:gridCol w="652680"/>
                <a:gridCol w="623880"/>
                <a:gridCol w="54432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71560" y="2705040"/>
          <a:ext cx="4629240" cy="2950920"/>
        </p:xfrm>
        <a:graphic>
          <a:graphicData uri="http://schemas.openxmlformats.org/drawingml/2006/table">
            <a:tbl>
              <a:tblPr/>
              <a:tblGrid>
                <a:gridCol w="952560"/>
                <a:gridCol w="611280"/>
                <a:gridCol w="612720"/>
                <a:gridCol w="614160"/>
                <a:gridCol w="611280"/>
                <a:gridCol w="614520"/>
                <a:gridCol w="612720"/>
              </a:tblGrid>
              <a:tr h="4323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6840" y="176796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 + Non-Square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0">
              <a:spcBef>
                <a:spcPts val="451"/>
              </a:spcBef>
              <a:buNone/>
              <a:tabLst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624640" y="2705040"/>
          <a:ext cx="4628880" cy="2950920"/>
        </p:xfrm>
        <a:graphic>
          <a:graphicData uri="http://schemas.openxmlformats.org/drawingml/2006/table">
            <a:tbl>
              <a:tblPr/>
              <a:tblGrid>
                <a:gridCol w="966600"/>
                <a:gridCol w="623880"/>
                <a:gridCol w="622440"/>
                <a:gridCol w="595080"/>
                <a:gridCol w="652680"/>
                <a:gridCol w="623880"/>
                <a:gridCol w="544320"/>
              </a:tblGrid>
              <a:tr h="4482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Low Complex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71560" y="2705040"/>
          <a:ext cx="4629240" cy="2951280"/>
        </p:xfrm>
        <a:graphic>
          <a:graphicData uri="http://schemas.openxmlformats.org/drawingml/2006/table">
            <a:tbl>
              <a:tblPr/>
              <a:tblGrid>
                <a:gridCol w="952560"/>
                <a:gridCol w="611280"/>
                <a:gridCol w="612720"/>
                <a:gridCol w="614160"/>
                <a:gridCol w="611280"/>
                <a:gridCol w="614520"/>
                <a:gridCol w="612720"/>
              </a:tblGrid>
              <a:tr h="43200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High 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D-rat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476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24732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0-03-19T20:47:59Z</dcterms:modified>
  <cp:revision>6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65354239</vt:lpwstr>
  </property>
</Properties>
</file>