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3ED-EC43-4BA9-8C64-5C8FFB55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2FB-D09A-4BDF-BBD0-01BAF601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4D8-35B1-4DCF-A953-DE048B7B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859-A10A-49DC-87C8-5AC11D1D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76B8-4D24-4215-9E41-ADB29F65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BCFB-C6E8-4313-8D85-2877B1DA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C926-9683-4355-8AB5-C5945146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81FF-FE3F-40C5-B713-B32E67BE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9D7B-6A94-43FD-BF30-60F8F4DC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7512-F2CA-41F0-A2CE-8D0152CF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6297-A1F4-4EB4-B031-FC378224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6ED5-EA3A-4E1A-826B-1F0C60DA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9FD6-EC19-46AA-A06E-281DC9B3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AF9A-B1B0-4121-BAC8-A1E0F668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E802-CB26-430A-9EAA-901C81F9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8CF2-BBC8-4B0D-8F03-66EB1880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7B22-C3BF-48E0-AB40-1737D57E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ECB0-62E3-438D-A7A2-CF068468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D5A-63BA-4D37-8785-F2FCBFCC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114-9A26-451B-AAC8-7A01F1A3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219-43DD-45AF-837B-BA557DC0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1A9-C03E-439E-8F4C-AAB2D2E2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A9E-8AA3-4112-A493-22287CD6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051A-B0F3-4824-AB28-0F09A857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2EA2-F231-4735-B6AB-DEAA6F39A6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th JCT-VC meeting, Geneva, 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F1B4-DEF8-4473-8859-401E6F5CA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5E01-0AB2-4B5F-B307-FAEA543170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680" y="633996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5th JCT-VC meeting, Geneva,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1976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15A2-9BA8-4E9E-BDD5-EB79AEBF3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aled Orthogonal Integer Trans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040" y="388584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. Joshi, Y. Reznik, J. Sole and M. Karczewicz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co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lexity of the proposed transfo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-225360" y="1068480"/>
          <a:ext cx="910728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5360" y="1068480"/>
                    <a:ext cx="910728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Box 5"/>
          <p:cNvSpPr/>
          <p:nvPr/>
        </p:nvSpPr>
        <p:spPr>
          <a:xfrm>
            <a:off x="1143000" y="56386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M 2.0 4 and 8-point transforms factorization uses only shifts and ad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6"/>
          <p:cNvSpPr/>
          <p:nvPr/>
        </p:nvSpPr>
        <p:spPr>
          <a:xfrm>
            <a:off x="45720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5F62-0F19-4DA5-A59D-2DE2768036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7"/>
          <p:cNvSpPr/>
          <p:nvPr/>
        </p:nvSpPr>
        <p:spPr>
          <a:xfrm>
            <a:off x="762012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25F4-6A04-49FF-A83B-BBEFE8320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8"/>
          <p:cNvSpPr/>
          <p:nvPr/>
        </p:nvSpPr>
        <p:spPr>
          <a:xfrm>
            <a:off x="2209680" y="6340320"/>
            <a:ext cx="464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5th JCT-VC meeting, Geneva,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lexity of the proposed transfo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ications can be completely elimin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pair of multiplies in a butterfly can be converted into add and shif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1523880" y="3430440"/>
          <a:ext cx="6307200" cy="27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430440"/>
                    <a:ext cx="630720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Date Placeholder 5"/>
          <p:cNvSpPr/>
          <p:nvPr/>
        </p:nvSpPr>
        <p:spPr>
          <a:xfrm>
            <a:off x="45720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9C96-EF23-4648-9B62-42FA56402D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762012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6936-4BA3-4ECA-BA17-B52E351F2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2209680" y="6340320"/>
            <a:ext cx="464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5th JCT-VC meeting, Geneva,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rage of quant / dequant matr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2-point trans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ly 12 distinct scale fac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2×12 matrix (16 bit), LUT of size 3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488 by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ale factors for 16 and 8 point transforms already present in the 12×12 matri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ly 16+8=24 bytes of additional LUTs nee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itional quant / dequant matrices for 4×4 transform is 76 by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tal storage for quant / dequant matrices is 3564 by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Date Placeholder 5"/>
          <p:cNvSpPr/>
          <p:nvPr/>
        </p:nvSpPr>
        <p:spPr>
          <a:xfrm>
            <a:off x="45720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B93C-391B-4F96-96CB-4B58D2D1BB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762012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B7AD-A8F4-4A81-ACDF-BBD19F624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7"/>
          <p:cNvSpPr/>
          <p:nvPr/>
        </p:nvSpPr>
        <p:spPr>
          <a:xfrm>
            <a:off x="2209680" y="6340320"/>
            <a:ext cx="464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5th JCT-VC meeting, Geneva,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D-rate results for lu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676520" y="1676520"/>
          <a:ext cx="5790960" cy="388620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  <a:gridCol w="1447920"/>
                <a:gridCol w="144756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f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Q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Q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Q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a Lo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 Lo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 Lo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8" name="Date Placeholder 6"/>
          <p:cNvSpPr/>
          <p:nvPr/>
        </p:nvSpPr>
        <p:spPr>
          <a:xfrm>
            <a:off x="45720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19A7-85BC-40A4-8B7F-A3B03371E6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7"/>
          <p:cNvSpPr/>
          <p:nvPr/>
        </p:nvSpPr>
        <p:spPr>
          <a:xfrm>
            <a:off x="762012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F40D-84F0-44A8-BED5-5278206E9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8"/>
          <p:cNvSpPr/>
          <p:nvPr/>
        </p:nvSpPr>
        <p:spPr>
          <a:xfrm>
            <a:off x="2209680" y="6340320"/>
            <a:ext cx="464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5th JCT-VC meeting, Geneva,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D-rate results for luma when transpose buffer bit-depth is restricted to 16 b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00200" y="1676520"/>
          <a:ext cx="5867280" cy="3886200"/>
        </p:xfrm>
        <a:graphic>
          <a:graphicData uri="http://schemas.openxmlformats.org/drawingml/2006/table">
            <a:tbl>
              <a:tblPr/>
              <a:tblGrid>
                <a:gridCol w="1467000"/>
                <a:gridCol w="1466640"/>
                <a:gridCol w="1467000"/>
                <a:gridCol w="146664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f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D-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Q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Q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Q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a Lo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 Lo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 Lo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4" name="Date Placeholder 6"/>
          <p:cNvSpPr/>
          <p:nvPr/>
        </p:nvSpPr>
        <p:spPr>
          <a:xfrm>
            <a:off x="45720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691B-CD37-4B76-92EA-65A5FFADA3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7"/>
          <p:cNvSpPr/>
          <p:nvPr/>
        </p:nvSpPr>
        <p:spPr>
          <a:xfrm>
            <a:off x="762012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3D50-10F3-445E-9C9F-D018E43F1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8"/>
          <p:cNvSpPr/>
          <p:nvPr/>
        </p:nvSpPr>
        <p:spPr>
          <a:xfrm>
            <a:off x="2209680" y="6340320"/>
            <a:ext cx="464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5th JCT-VC meeting, Geneva,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trans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computational complexity for 16 and 32-point transforms compared to HM 2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ierless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similar BD-rate perform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Date Placeholder 4"/>
          <p:cNvSpPr/>
          <p:nvPr/>
        </p:nvSpPr>
        <p:spPr>
          <a:xfrm>
            <a:off x="45720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C17A-E8E5-4231-8E69-39C449439D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762012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F473-CF91-4C8C-822E-60638C80B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6"/>
          <p:cNvSpPr/>
          <p:nvPr/>
        </p:nvSpPr>
        <p:spPr>
          <a:xfrm>
            <a:off x="2209680" y="6340320"/>
            <a:ext cx="464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5th JCT-VC meeting, Geneva,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HEVC Test Model transforms based on Chen and Smith facto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factorizations are 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LM factor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erically stable and computationally 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does not fully reuse lower sized transform bl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Date Placeholder 4"/>
          <p:cNvSpPr/>
          <p:nvPr/>
        </p:nvSpPr>
        <p:spPr>
          <a:xfrm>
            <a:off x="45720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B75C-4B5D-4166-9ECF-6879160C24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762012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44CB-E06F-494C-8158-4EAEF2A55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6"/>
          <p:cNvSpPr/>
          <p:nvPr/>
        </p:nvSpPr>
        <p:spPr>
          <a:xfrm>
            <a:off x="2209680" y="6340320"/>
            <a:ext cx="464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5th JCT-VC meeting, Geneva,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transfo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ties of the proposed transfor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LLM factor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ing a simple recursive factorization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er arithme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thogonal after appropriate sc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Date Placeholder 4"/>
          <p:cNvSpPr/>
          <p:nvPr/>
        </p:nvSpPr>
        <p:spPr>
          <a:xfrm>
            <a:off x="45720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D552-DDB3-4B3A-B84A-EF28983636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762012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C127-C556-4F4D-8FFC-0F55A2544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2209680" y="6340320"/>
            <a:ext cx="464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5th JCT-VC meeting, Geneva,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"/>
          <p:cNvGraphicFramePr/>
          <p:nvPr/>
        </p:nvGraphicFramePr>
        <p:xfrm>
          <a:off x="1143000" y="457200"/>
          <a:ext cx="5857920" cy="58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5857920" cy="58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Box 5"/>
          <p:cNvSpPr/>
          <p:nvPr/>
        </p:nvSpPr>
        <p:spPr>
          <a:xfrm>
            <a:off x="7010280" y="274320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terfly diagram for a 16-point 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5029200" y="152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8-point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5257800" y="9907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-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B8E0-2A1B-4920-AAF2-97E71DE003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F6A2-4341-4869-BAC0-6A78C6D52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th JCT-VC meeting, Geneva, 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ursive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-point trans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4-point DCT-II residing in the even 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2-point transform in the odd 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6-point trans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8-point DCT-II residing in the even 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4-point DCT-IIs in the odd 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2-point trans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16-point DCT-II residing in the even 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8-point DCT-IIs in the odd 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4"/>
          <p:cNvSpPr/>
          <p:nvPr/>
        </p:nvSpPr>
        <p:spPr>
          <a:xfrm>
            <a:off x="45720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8DB7-02FC-45FD-817D-6DBB0C8C6C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762012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8CC3-B59D-4AF2-B53E-64BCDB486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6"/>
          <p:cNvSpPr/>
          <p:nvPr/>
        </p:nvSpPr>
        <p:spPr>
          <a:xfrm>
            <a:off x="2209680" y="6340320"/>
            <a:ext cx="464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5th JCT-VC meeting, Geneva,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oice of butterfly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3340080" y="1523880"/>
                <a:ext cx="21463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4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9"/>
              <p:cNvSpPr txBox="1"/>
              <p:nvPr/>
            </p:nvSpPr>
            <p:spPr>
              <a:xfrm>
                <a:off x="2689200" y="2365200"/>
                <a:ext cx="3711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8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612720" y="3279600"/>
                <a:ext cx="81504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F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H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4461840" y="583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2514600" y="4267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ly for 32-point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2286000" y="5022720"/>
                <a:ext cx="46260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 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Date Placeholder 12"/>
          <p:cNvSpPr/>
          <p:nvPr/>
        </p:nvSpPr>
        <p:spPr>
          <a:xfrm>
            <a:off x="45720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A911-79C6-439B-B0A1-D493865A36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3"/>
          <p:cNvSpPr/>
          <p:nvPr/>
        </p:nvSpPr>
        <p:spPr>
          <a:xfrm>
            <a:off x="762012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ABC8-EFE4-4739-AA53-AD5B3BC14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14"/>
          <p:cNvSpPr/>
          <p:nvPr/>
        </p:nvSpPr>
        <p:spPr>
          <a:xfrm>
            <a:off x="2209680" y="6340320"/>
            <a:ext cx="464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5th JCT-VC meeting, Geneva,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oice of butterfly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4461840" y="583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16"/>
          <p:cNvGraphicFramePr/>
          <p:nvPr/>
        </p:nvGraphicFramePr>
        <p:xfrm>
          <a:off x="138240" y="1676520"/>
          <a:ext cx="886608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676520"/>
                    <a:ext cx="88660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7"/>
          <p:cNvGraphicFramePr/>
          <p:nvPr/>
        </p:nvGraphicFramePr>
        <p:xfrm>
          <a:off x="138240" y="2819520"/>
          <a:ext cx="8866080" cy="87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240" y="2819520"/>
                    <a:ext cx="88660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8"/>
          <p:cNvGraphicFramePr/>
          <p:nvPr/>
        </p:nvGraphicFramePr>
        <p:xfrm>
          <a:off x="-225360" y="3886200"/>
          <a:ext cx="9597960" cy="149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225360" y="3886200"/>
                    <a:ext cx="959796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Box 9"/>
          <p:cNvSpPr/>
          <p:nvPr/>
        </p:nvSpPr>
        <p:spPr>
          <a:xfrm>
            <a:off x="2666880" y="5638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4-point transform: A4 = 2, B4 =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10"/>
          <p:cNvSpPr/>
          <p:nvPr/>
        </p:nvSpPr>
        <p:spPr>
          <a:xfrm>
            <a:off x="45720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AF83-1622-44D3-86B9-8A79CF11DD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12"/>
          <p:cNvSpPr/>
          <p:nvPr/>
        </p:nvSpPr>
        <p:spPr>
          <a:xfrm>
            <a:off x="762012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DFEA-C8F7-483F-9A8B-11F1A77A5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13"/>
          <p:cNvSpPr/>
          <p:nvPr/>
        </p:nvSpPr>
        <p:spPr>
          <a:xfrm>
            <a:off x="2209680" y="6340320"/>
            <a:ext cx="464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5th JCT-VC meeting, Geneva,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oice of butterfly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adic rat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shifts introduced to balance the dynamic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he butterfly factors fit in the range [-1, 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t-depth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st case for DC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bit increase for 1-D transform (32-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Date Placeholder 4"/>
          <p:cNvSpPr/>
          <p:nvPr/>
        </p:nvSpPr>
        <p:spPr>
          <a:xfrm>
            <a:off x="45720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80F8-C180-4CDC-9153-6A9CDE8A3C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62012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C7E6-8E7F-47BA-979A-76E871BCE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2209680" y="6340320"/>
            <a:ext cx="464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5th JCT-VC meeting, Geneva,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ynamic range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Date Placeholder 4"/>
          <p:cNvSpPr/>
          <p:nvPr/>
        </p:nvSpPr>
        <p:spPr>
          <a:xfrm>
            <a:off x="45720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4B70-AE75-4C55-8394-BDF643867D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7620120" y="6356520"/>
            <a:ext cx="106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ACDB-4F44-436E-93DD-B4BD979FC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2209680" y="6340320"/>
            <a:ext cx="4648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5th JCT-VC meeting, Geneva, March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2"/>
          <p:cNvGraphicFramePr/>
          <p:nvPr/>
        </p:nvGraphicFramePr>
        <p:xfrm>
          <a:off x="380880" y="1600200"/>
          <a:ext cx="854712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54712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Box 7"/>
          <p:cNvSpPr/>
          <p:nvPr/>
        </p:nvSpPr>
        <p:spPr>
          <a:xfrm>
            <a:off x="685800" y="441972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we have used technique proposed by Sharp (JCTVC-E411) to restrict the dynamic range at the input of 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ge of inverse 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9:08:38Z</dcterms:created>
  <dc:creator>Rajan Joshi </dc:creator>
  <dc:description/>
  <dc:language>en-US</dc:language>
  <cp:lastModifiedBy>Qualcomm User</cp:lastModifiedBy>
  <dcterms:modified xsi:type="dcterms:W3CDTF">2011-03-17T05:53:37Z</dcterms:modified>
  <cp:revision>148</cp:revision>
  <dc:subject/>
  <dc:title>Simplified Transforms for Extended Block Sizes</dc:title>
</cp:coreProperties>
</file>