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387-5A8C-4FA4-956B-8F1F3B42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A17-1ED3-4AA9-B3BC-3164B68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A9A-782B-4BF9-82B2-C6D8995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959-4556-435D-97B1-EA32A168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946-CBE6-4318-8978-6B514E5D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D7D-5C62-4104-BC31-10DBA5A3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FCD-78DD-4848-A5A7-08EE7D7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E1D-F1CE-4219-B9F9-70E06E0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AF4-6B7E-43F3-929C-F29FFD7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126-E5FC-4CE2-B92A-B806781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32F-2613-4579-BD55-B4C6E96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368-338A-4EB2-AC46-A0C9BE28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9C48-4D0F-4A78-84F5-9474053F4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on of RQT in HM and related TU represen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JCTVC-E36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K. Panusopone, X. Fang, L. Wang (Motorola Mobi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K. Chono (NE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Y. H. Tan, C. Yeo (I2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. Zhou (Texas Instrumen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4, High 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4, Low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icit TU, High 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icit TU, Low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gregated resul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BD-rate versus Anch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209680"/>
          <a:ext cx="8229600" cy="25956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icit 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th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th 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th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th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gregated resul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malized gain over RQT depth =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2209680"/>
          <a:ext cx="6858000" cy="25956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icit 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th 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th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th 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QT depth = 3 captures at least 90% of the total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QT depth = 2 captures at least 80% of the total gain for the random access and low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it TU provides gain over RQT depth = 1 for the random access and low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1: RQT depth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level (intra/in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levels (intra/in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levels (intra/in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evels (intra/in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2: Implicit TU sign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TU size based on CU size and PU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QT depth and TU split flag are not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 set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common test condition, except for QuadtreeTUMaxDepthInter and QuadtreeMaxDepthIntra parameters in cf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1 uses HM-2.0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1 performed by NEC, I2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2 uses modified HM-2.0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2 performed by Motorola Mobility, Texas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1, High 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1, Low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2, High 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2, Low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3, High 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mental resul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QT depth=3, Low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610480" cy="4719600"/>
        </p:xfrm>
        <a:graphic>
          <a:graphicData uri="http://schemas.openxmlformats.org/drawingml/2006/table">
            <a:tbl>
              <a:tblPr/>
              <a:tblGrid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7:22:02Z</dcterms:created>
  <dc:creator>MGI1538</dc:creator>
  <dc:description/>
  <dc:language>en-US</dc:language>
  <cp:lastModifiedBy>MGI1538</cp:lastModifiedBy>
  <dcterms:modified xsi:type="dcterms:W3CDTF">2011-03-18T09:30:40Z</dcterms:modified>
  <cp:revision>21</cp:revision>
  <dc:subject/>
  <dc:title>Evaluation of RQT in HM and related TU representation</dc:title>
</cp:coreProperties>
</file>