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D4844-9CF3-465B-BCB6-1658A8B778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1C8FC-821E-4715-B64B-D3A9BA24F7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EFD90-1EA6-41AF-BD7F-5F3EF685B9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79402-25E7-4510-9D5A-D846C873C9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6FAAE-7D4D-4A12-84B7-5118A7FFCBA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F56CC-1AD6-45E2-B1CC-B12903BAD9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02D5F-EAAD-40E7-B076-849B92B840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0A7D6-D88A-46DA-881E-3CB3FD7AFF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EB93A-FD9B-4E4B-8A0D-623D360F50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3988F-7292-4841-A616-7B4DAD863C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115DE-F5C9-4A8E-88E0-DF2683A953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30137-9755-45EC-84AA-67406F5693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A7A1A-E929-4C38-B71C-E36CB1B78A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A80BF-21BE-4826-AD52-13FEB965E4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B94EC-E91C-4F84-88A9-9350EE9BAC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A9196-51D7-49B5-B9F8-2584934337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59DE6-A2AB-4685-8204-A578594C413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347F-C36E-4F8D-AC65-4CA1A604785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DEE2-3522-43B7-9E3A-FA106305327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E22B-82F6-418F-87E8-B1876BF2945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1C71-BBBA-4474-9904-06F926369B9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4BBF-3415-4F53-91E6-321CB2CC9C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6FE1F-1CE6-4D39-B468-56196C1D594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E685-3594-4867-9A69-7DD71E4F09C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5F92-1621-4B83-B3CE-58176E582FE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3EEC-01E1-49FE-843B-A24C6081849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9397-8CCD-4684-A4FA-E63D67FBCCD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C2C8-2818-486C-B03F-19FD6D5C03F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8959-C834-4FBC-BB88-81E225EE97D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7910-CC2A-4D45-A2A2-5D0509E70F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CF644-051A-484D-BE3A-E909DF1859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99EE9-1716-49C7-B7DB-C02B7D03F0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88159-5751-48E1-BF05-00A1F0819E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0C343-5C79-485D-B2D8-DC2A396058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1641B-6C0C-4DCD-BF36-C3701234C3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9C2BB-3411-4B29-A189-FB76D57E09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E684-30B7-4778-932D-9208FF062C37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39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Num" idx="2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BFA5-B209-4D57-894C-050E44B09265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Num" idx="3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12DB-5253-4956-B0DE-8C0C403A8C3F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0079-BCEF-4B3A-B402-14F66557F593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7E44-421F-4BA4-9C87-32E1686D6E45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0" y="2941560"/>
            <a:ext cx="91440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04920" y="17524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8c93"/>
                </a:solidFill>
                <a:latin typeface="Arial"/>
                <a:ea typeface="SimHei"/>
              </a:rPr>
              <a:t>JCTVC-E</a:t>
            </a:r>
            <a:r>
              <a:rPr b="1" lang="en-CA" sz="3600" spc="-1" strike="noStrike">
                <a:solidFill>
                  <a:srgbClr val="3c8c93"/>
                </a:solidFill>
                <a:latin typeface="Arial"/>
                <a:ea typeface="SimHei"/>
              </a:rPr>
              <a:t>342: </a:t>
            </a:r>
            <a:r>
              <a:rPr b="1" lang="en-US" sz="3600" spc="-1" strike="noStrike">
                <a:solidFill>
                  <a:srgbClr val="3c8c93"/>
                </a:solidFill>
                <a:latin typeface="Arial"/>
                <a:ea typeface="SimHei"/>
              </a:rPr>
              <a:t>Adaptive Loop Filtering Using Two Filter Sha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447920" y="3376440"/>
            <a:ext cx="533376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Hei"/>
              </a:rPr>
              <a:t>Faouzi Kossent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SimHei"/>
              </a:rPr>
              <a:t>5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  <a:ea typeface="SimHe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Hei"/>
              </a:rPr>
              <a:t> JCT Meeting in Gene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SimHei"/>
              </a:rPr>
              <a:t>16-23 March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449A-C856-44E1-9002-6A3EE9F71678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xity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343440" y="5537160"/>
            <a:ext cx="809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M 2.0 ALF requires as many as 20 multiplications and 39 addi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6"/>
          <p:cNvGraphicFramePr/>
          <p:nvPr/>
        </p:nvGraphicFramePr>
        <p:xfrm>
          <a:off x="380880" y="1523880"/>
          <a:ext cx="762012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3880"/>
                    <a:ext cx="762012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CA0C-94C8-47EE-9E0D-9D7F7EC437F8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xity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176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230040" y="5695920"/>
            <a:ext cx="86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 new ALF requires a maximum of 10 multiplications and 19 addi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8"/>
          <p:cNvGraphicFramePr/>
          <p:nvPr/>
        </p:nvGraphicFramePr>
        <p:xfrm>
          <a:off x="762120" y="1609560"/>
          <a:ext cx="6781680" cy="20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9560"/>
                    <a:ext cx="6781680" cy="20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10"/>
          <p:cNvGraphicFramePr/>
          <p:nvPr/>
        </p:nvGraphicFramePr>
        <p:xfrm>
          <a:off x="1371600" y="3352680"/>
          <a:ext cx="6324480" cy="25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3352680"/>
                    <a:ext cx="632448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56A6-B043-4B7E-A7D5-35FED63842C7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xity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685800" y="1798560"/>
          <a:ext cx="7620120" cy="1706760"/>
        </p:xfrm>
        <a:graphic>
          <a:graphicData uri="http://schemas.openxmlformats.org/drawingml/2006/table">
            <a:tbl>
              <a:tblPr/>
              <a:tblGrid>
                <a:gridCol w="2362320"/>
                <a:gridCol w="2438280"/>
                <a:gridCol w="2819520"/>
              </a:tblGrid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 Configur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vg Enc Ti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vg Dec Ti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7.5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3.5%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7.5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1.0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a Onl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1.0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88.5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685800" y="4191120"/>
          <a:ext cx="7620120" cy="1704960"/>
        </p:xfrm>
        <a:graphic>
          <a:graphicData uri="http://schemas.openxmlformats.org/drawingml/2006/table">
            <a:tbl>
              <a:tblPr/>
              <a:tblGrid>
                <a:gridCol w="2362320"/>
                <a:gridCol w="2487600"/>
                <a:gridCol w="2770200"/>
              </a:tblGrid>
              <a:tr h="3571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 Configu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 – Class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 – Class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8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8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8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8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a On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8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8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ver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8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8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TextBox 6"/>
          <p:cNvSpPr/>
          <p:nvPr/>
        </p:nvSpPr>
        <p:spPr>
          <a:xfrm>
            <a:off x="623520" y="1371600"/>
            <a:ext cx="36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Encoder/Decode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7"/>
          <p:cNvSpPr/>
          <p:nvPr/>
        </p:nvSpPr>
        <p:spPr>
          <a:xfrm>
            <a:off x="622800" y="3733920"/>
            <a:ext cx="30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st-Case Decode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914400" y="2057040"/>
            <a:ext cx="6858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average decoder complexit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~10%)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F reduced by more than 3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worst-case decoder complexit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~17%)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F reduced by more than 5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ghtly lower encoding times (even without a parallel implement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-friendly encoding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coding efficiency levels (loss of 0.2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ation: Adopt into the 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7138-9A95-467E-85EE-0820421F7406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mulation Results: Luminance On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80880" y="1397160"/>
          <a:ext cx="7543800" cy="4662360"/>
        </p:xfrm>
        <a:graphic>
          <a:graphicData uri="http://schemas.openxmlformats.org/drawingml/2006/table">
            <a:tbl>
              <a:tblPr/>
              <a:tblGrid>
                <a:gridCol w="1414440"/>
                <a:gridCol w="1532160"/>
                <a:gridCol w="1531800"/>
                <a:gridCol w="1533600"/>
                <a:gridCol w="1531800"/>
              </a:tblGrid>
              <a:tr h="174600">
                <a:tc>
                  <a:txBody>
                    <a:bodyPr lIns="56520" rIns="5652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quen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a On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Del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56520" rIns="5652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ff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74600">
                <a:tc>
                  <a:txBody>
                    <a:bodyPr lIns="56520" rIns="5652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opleOnStre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74600">
                <a:tc>
                  <a:txBody>
                    <a:bodyPr lIns="56520" rIns="5652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0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bu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74600">
                <a:tc>
                  <a:txBody>
                    <a:bodyPr lIns="56520" rIns="5652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0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eamLocomo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74600">
                <a:tc>
                  <a:txBody>
                    <a:bodyPr lIns="56520" rIns="5652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imo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56520" rIns="5652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kSce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56520" rIns="5652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ct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960">
                <a:tc>
                  <a:txBody>
                    <a:bodyPr lIns="56520" rIns="5652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sketballDr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56520" rIns="5652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QTerra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56520" rIns="5652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sketballDri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56520" rIns="5652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QM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56520" rIns="5652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ySce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56520" rIns="5652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ceHors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56520" rIns="5652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sketballPa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56520" rIns="5652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QSqu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960">
                <a:tc>
                  <a:txBody>
                    <a:bodyPr lIns="56520" rIns="5652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lowingBub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56520" rIns="5652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ceHors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56520" rIns="5652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dyo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56520" rIns="5652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dyo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56520" rIns="5652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dyo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 rowSpan="6">
                  <a:txBody>
                    <a:bodyPr lIns="56520" rIns="5652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ver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91B4-D4AF-49FD-8EC3-0B2D3885D696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2DFB-A49C-4FEB-A87A-77A71FC52E56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285640"/>
            <a:ext cx="6858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 Technique: ALF using two filter sh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ity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 and Recomme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8821800" y="6135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5733-0484-4676-96C7-7F9BD5E1E801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4CBF-903F-4419-915B-7FC097E62EBA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560" y="2133360"/>
            <a:ext cx="8381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 2.0 ALF average decoder complexity too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st-case decoder complexity also too hig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coefficients for 9x7 modified-diamond-shaped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many as 20 multiplies &amp; 39 adds per filtered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28CC-6093-478E-9522-1234DC67BE23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399E-16BA-4A39-AF54-21ABA8B2C257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osed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sets of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#1: 5x7 diamond-like-shaped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#2: 13x7 cross-shaped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picture, select among following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-based ALF using Filter Set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-based ALF using Filter Set 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-based ALF using Filter Set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-based ALF using Filter Set 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ALF fil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B3A9-2343-4A46-B066-120FE0AE20A4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5394-D2E2-484D-B9D9-B39EC51CB4B2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osed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7"/>
          <p:cNvGraphicFramePr/>
          <p:nvPr/>
        </p:nvGraphicFramePr>
        <p:xfrm>
          <a:off x="152280" y="1828800"/>
          <a:ext cx="807732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828800"/>
                    <a:ext cx="80773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FDF5-552B-4414-90E8-3D2625A5A720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7378-6156-4F43-ACAB-E58306201C77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osed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7"/>
          <p:cNvGraphicFramePr/>
          <p:nvPr/>
        </p:nvGraphicFramePr>
        <p:xfrm>
          <a:off x="228600" y="1905120"/>
          <a:ext cx="3124080" cy="40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05120"/>
                    <a:ext cx="312408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9"/>
          <p:cNvGraphicFramePr/>
          <p:nvPr/>
        </p:nvGraphicFramePr>
        <p:xfrm>
          <a:off x="3505320" y="1838160"/>
          <a:ext cx="4572000" cy="402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838160"/>
                    <a:ext cx="457200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2FED-CFAB-431B-B87E-6F7024A4A34C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38080" y="1676520"/>
          <a:ext cx="6934320" cy="4114800"/>
        </p:xfrm>
        <a:graphic>
          <a:graphicData uri="http://schemas.openxmlformats.org/drawingml/2006/table">
            <a:tbl>
              <a:tblPr/>
              <a:tblGrid>
                <a:gridCol w="2151360"/>
                <a:gridCol w="1587240"/>
                <a:gridCol w="1604880"/>
                <a:gridCol w="1590840"/>
              </a:tblGrid>
              <a:tr h="4251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5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40320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320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0% </a:t>
                      </a:r>
                      <a:r>
                        <a:rPr b="0" lang="fr-FR" sz="2000" spc="-1" strike="noStrike">
                          <a:solidFill>
                            <a:srgbClr val="1f497d"/>
                          </a:solidFill>
                          <a:latin typeface="Arial"/>
                          <a:ea typeface="바탕"/>
                        </a:rPr>
                        <a:t>(95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5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3% </a:t>
                      </a:r>
                      <a:r>
                        <a:rPr b="0" lang="fr-FR" sz="2000" spc="-1" strike="noStrike">
                          <a:solidFill>
                            <a:srgbClr val="1f497d"/>
                          </a:solidFill>
                          <a:latin typeface="Arial"/>
                          <a:ea typeface="바탕"/>
                        </a:rPr>
                        <a:t>(94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372A-E9D4-4071-9712-8784612A70FB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838080" y="1600200"/>
          <a:ext cx="6858000" cy="4191120"/>
        </p:xfrm>
        <a:graphic>
          <a:graphicData uri="http://schemas.openxmlformats.org/drawingml/2006/table">
            <a:tbl>
              <a:tblPr/>
              <a:tblGrid>
                <a:gridCol w="2121120"/>
                <a:gridCol w="1584360"/>
                <a:gridCol w="1582560"/>
                <a:gridCol w="1569960"/>
              </a:tblGrid>
              <a:tr h="433440"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3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344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1% </a:t>
                      </a:r>
                      <a:r>
                        <a:rPr b="0" lang="fr-FR" sz="2000" spc="-1" strike="noStrike">
                          <a:solidFill>
                            <a:srgbClr val="1f497d"/>
                          </a:solidFill>
                          <a:latin typeface="Arial"/>
                          <a:ea typeface="바탕"/>
                        </a:rPr>
                        <a:t>(94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44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4% </a:t>
                      </a:r>
                      <a:r>
                        <a:rPr b="0" lang="fr-FR" sz="2000" spc="-1" strike="noStrike">
                          <a:solidFill>
                            <a:srgbClr val="1f497d"/>
                          </a:solidFill>
                          <a:latin typeface="Arial"/>
                          <a:ea typeface="바탕"/>
                        </a:rPr>
                        <a:t>(88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4AC1-C972-4496-A3F7-C8FDCE979D27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295280" y="1676520"/>
          <a:ext cx="5943600" cy="3962160"/>
        </p:xfrm>
        <a:graphic>
          <a:graphicData uri="http://schemas.openxmlformats.org/drawingml/2006/table">
            <a:tbl>
              <a:tblPr/>
              <a:tblGrid>
                <a:gridCol w="1838520"/>
                <a:gridCol w="1373040"/>
                <a:gridCol w="1371600"/>
                <a:gridCol w="1360440"/>
              </a:tblGrid>
              <a:tr h="417240"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a On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348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84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84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48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9% </a:t>
                      </a:r>
                      <a:r>
                        <a:rPr b="0" lang="fr-FR" sz="2000" spc="-1" strike="noStrike">
                          <a:solidFill>
                            <a:srgbClr val="1f497d"/>
                          </a:solidFill>
                          <a:latin typeface="Arial"/>
                          <a:ea typeface="바탕"/>
                        </a:rPr>
                        <a:t>(103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87% </a:t>
                      </a:r>
                      <a:r>
                        <a:rPr b="0" lang="fr-FR" sz="2000" spc="-1" strike="noStrike">
                          <a:solidFill>
                            <a:srgbClr val="1f497d"/>
                          </a:solidFill>
                          <a:latin typeface="Arial"/>
                          <a:ea typeface="바탕"/>
                        </a:rPr>
                        <a:t>(90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Administrator</cp:lastModifiedBy>
  <cp:lastPrinted>2009-04-22T19:24:48Z</cp:lastPrinted>
  <dcterms:modified xsi:type="dcterms:W3CDTF">2011-03-14T21:30:10Z</dcterms:modified>
  <cp:revision>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