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Ericsson  |  2010-10-04  |  Page </a:t>
            </a:r>
            <a:fld id="{2F2A7C11-3E6C-42CB-82C3-C89C1E84A834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7000"/>
            <a:ext cx="8352000" cy="1463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Ericsson Capital TT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480" y="2309760"/>
            <a:ext cx="8351640" cy="1098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On num_reorder_frames and max_dec_frame_buffering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585a"/>
                </a:solidFill>
                <a:latin typeface="Ericsson Capital TT"/>
              </a:rPr>
              <a:t>JCTvc-E339</a:t>
            </a:r>
            <a:endParaRPr b="0" lang="en-US" sz="2200" spc="-1" strike="noStrike">
              <a:solidFill>
                <a:srgbClr val="58585a"/>
              </a:solidFill>
              <a:latin typeface="Ericsson Capital TT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585a"/>
                </a:solidFill>
                <a:latin typeface="Ericsson Capital TT"/>
              </a:rPr>
              <a:t>Rickard Sjöberg</a:t>
            </a:r>
            <a:endParaRPr b="0" lang="en-US" sz="2200" spc="-1" strike="noStrike">
              <a:solidFill>
                <a:srgbClr val="58585a"/>
              </a:solidFill>
              <a:latin typeface="Ericsson Capital TT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585a"/>
                </a:solidFill>
                <a:latin typeface="Ericsson Capital TT"/>
              </a:rPr>
              <a:t>ericsson AB</a:t>
            </a:r>
            <a:endParaRPr b="0" lang="en-US" sz="2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background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920" y="1449360"/>
            <a:ext cx="8315280" cy="512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ax_dec_frame_buffering and num_reorder_frames is part of the optional VUI parameters of the H.264 SP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e VUI syntax is inherited from H.264 into HEVC that says the following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max_dec_frame_buffering</a:t>
            </a:r>
            <a:br>
              <a:rPr sz="1800"/>
            </a:br>
            <a:r>
              <a:rPr b="0" i="1" lang="en-US" sz="1800" spc="-1" strike="noStrike">
                <a:solidFill>
                  <a:srgbClr val="58585a"/>
                </a:solidFill>
                <a:latin typeface="Arial"/>
              </a:rPr>
              <a:t>The coded video sequence shall not require a decoded picture buffer with size of more than Max( 1, max_dec_frame_buffering ) frame buffers to enable the output of decoded pictures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num_reorder_frames</a:t>
            </a:r>
            <a:br>
              <a:rPr sz="1800"/>
            </a:b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58585a"/>
                </a:solidFill>
                <a:latin typeface="Arial"/>
              </a:rPr>
              <a:t>num_reorder_frames indicates the maximum number of frames ... that precede any frame ... in the coded video sequence in decoding order and follow it in output order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“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When VUI parameters are not present, both max_dec_frame_buffering and num_reorder_frames are set to MaxDpbFrames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066080" y="1179360"/>
            <a:ext cx="1780920" cy="1025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example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5920" y="1449360"/>
            <a:ext cx="8315280" cy="512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onsider a low-delay encoding of the 416x240 60Hz</a:t>
            </a:r>
            <a:br>
              <a:rPr sz="1800"/>
            </a:b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BQSquare sequence that uses two reference picture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e max macroblock processing rate (MaxMBPS) is 23,400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ince MaxMBPS of level 2.2 is 20,250 while for level 3 it is 40,500 the lowest level possible for this sequence is a level 3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Level 3 has a Max decoded picture buffer size (MaxDpbMbs) of 8,100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MaxDpbFrames then becomes</a:t>
            </a:r>
            <a:br>
              <a:rPr sz="1800"/>
            </a:b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axDpbFrames = Min( MaxDpbMbs / ( PicWidthInMbs * FrameHeightInMbs ), 16 ) = 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f VUI syntax is not sent, max_dec_frame_buffering and num_reorder_frames both becomes 16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example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5920" y="1449360"/>
            <a:ext cx="8315280" cy="305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e decoded picture buffer immediately after decoding a picture will generally look as follows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But the decoder does not know that this situation will never happen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92360" y="2392200"/>
            <a:ext cx="135000" cy="676080"/>
            <a:chOff x="1692360" y="2392200"/>
            <a:chExt cx="135000" cy="676080"/>
          </a:xfrm>
        </p:grpSpPr>
        <p:sp>
          <p:nvSpPr>
            <p:cNvPr id="93" name=""/>
            <p:cNvSpPr/>
            <p:nvPr/>
          </p:nvSpPr>
          <p:spPr>
            <a:xfrm flipV="1">
              <a:off x="1692360" y="257292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692360" y="239220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692360" y="288756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827360" y="239220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457360" y="2394000"/>
            <a:ext cx="135000" cy="676080"/>
            <a:chOff x="2457360" y="2394000"/>
            <a:chExt cx="135000" cy="676080"/>
          </a:xfrm>
        </p:grpSpPr>
        <p:sp>
          <p:nvSpPr>
            <p:cNvPr id="98" name=""/>
            <p:cNvSpPr/>
            <p:nvPr/>
          </p:nvSpPr>
          <p:spPr>
            <a:xfrm flipV="1">
              <a:off x="2457360" y="257472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457360" y="239400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457360" y="288936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592360" y="239400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222720" y="2392200"/>
            <a:ext cx="135000" cy="676080"/>
            <a:chOff x="3222720" y="2392200"/>
            <a:chExt cx="135000" cy="676080"/>
          </a:xfrm>
        </p:grpSpPr>
        <p:sp>
          <p:nvSpPr>
            <p:cNvPr id="103" name=""/>
            <p:cNvSpPr/>
            <p:nvPr/>
          </p:nvSpPr>
          <p:spPr>
            <a:xfrm flipV="1">
              <a:off x="3222720" y="257292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222720" y="239220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222720" y="288756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357720" y="239220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373040" y="3102120"/>
            <a:ext cx="71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on-ref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4120" y="3102120"/>
            <a:ext cx="5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6720" y="3460680"/>
            <a:ext cx="5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POC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09600" y="3106800"/>
            <a:ext cx="71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on-ref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+1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74600" y="3102120"/>
            <a:ext cx="71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on-ref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+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22400" y="3106800"/>
            <a:ext cx="54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ref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+14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71920" y="3106800"/>
            <a:ext cx="54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ref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+15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08480" y="3106800"/>
            <a:ext cx="54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ref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+16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932360" y="2394000"/>
            <a:ext cx="135000" cy="676080"/>
            <a:chOff x="4932360" y="2394000"/>
            <a:chExt cx="135000" cy="676080"/>
          </a:xfrm>
        </p:grpSpPr>
        <p:sp>
          <p:nvSpPr>
            <p:cNvPr id="116" name=""/>
            <p:cNvSpPr/>
            <p:nvPr/>
          </p:nvSpPr>
          <p:spPr>
            <a:xfrm flipV="1">
              <a:off x="4932360" y="257472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932360" y="239400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932360" y="288936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067360" y="239400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651640" y="2394000"/>
            <a:ext cx="134640" cy="676080"/>
            <a:chOff x="5651640" y="2394000"/>
            <a:chExt cx="134640" cy="676080"/>
          </a:xfrm>
        </p:grpSpPr>
        <p:sp>
          <p:nvSpPr>
            <p:cNvPr id="121" name=""/>
            <p:cNvSpPr/>
            <p:nvPr/>
          </p:nvSpPr>
          <p:spPr>
            <a:xfrm flipV="1">
              <a:off x="5651640" y="257472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651640" y="2394000"/>
              <a:ext cx="13464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651640" y="2889360"/>
              <a:ext cx="13464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786280" y="239400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416640" y="1808280"/>
            <a:ext cx="135000" cy="676080"/>
            <a:chOff x="6416640" y="1808280"/>
            <a:chExt cx="135000" cy="676080"/>
          </a:xfrm>
        </p:grpSpPr>
        <p:sp>
          <p:nvSpPr>
            <p:cNvPr id="126" name=""/>
            <p:cNvSpPr/>
            <p:nvPr/>
          </p:nvSpPr>
          <p:spPr>
            <a:xfrm flipV="1">
              <a:off x="6416640" y="198900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416640" y="180828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416640" y="230364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551640" y="180828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850200" y="2967120"/>
            <a:ext cx="3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0200" y="3289320"/>
            <a:ext cx="3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0200" y="2490840"/>
            <a:ext cx="3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32360" y="2393640"/>
            <a:ext cx="449280" cy="268200"/>
          </a:xfrm>
          <a:prstGeom prst="line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111640" y="2077560"/>
            <a:ext cx="1170000" cy="630360"/>
          </a:xfrm>
          <a:prstGeom prst="line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92360" y="5138640"/>
            <a:ext cx="135000" cy="676080"/>
            <a:chOff x="1692360" y="5138640"/>
            <a:chExt cx="135000" cy="676080"/>
          </a:xfrm>
        </p:grpSpPr>
        <p:sp>
          <p:nvSpPr>
            <p:cNvPr id="136" name=""/>
            <p:cNvSpPr/>
            <p:nvPr/>
          </p:nvSpPr>
          <p:spPr>
            <a:xfrm flipV="1">
              <a:off x="1692360" y="531936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692360" y="513864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692360" y="563400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827360" y="513864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457360" y="5140440"/>
            <a:ext cx="135000" cy="676080"/>
            <a:chOff x="2457360" y="5140440"/>
            <a:chExt cx="135000" cy="676080"/>
          </a:xfrm>
        </p:grpSpPr>
        <p:sp>
          <p:nvSpPr>
            <p:cNvPr id="141" name=""/>
            <p:cNvSpPr/>
            <p:nvPr/>
          </p:nvSpPr>
          <p:spPr>
            <a:xfrm flipV="1">
              <a:off x="2457360" y="532116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457360" y="514044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457360" y="563580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592360" y="514044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222720" y="5138640"/>
            <a:ext cx="135000" cy="676080"/>
            <a:chOff x="3222720" y="5138640"/>
            <a:chExt cx="135000" cy="676080"/>
          </a:xfrm>
        </p:grpSpPr>
        <p:sp>
          <p:nvSpPr>
            <p:cNvPr id="146" name=""/>
            <p:cNvSpPr/>
            <p:nvPr/>
          </p:nvSpPr>
          <p:spPr>
            <a:xfrm flipV="1">
              <a:off x="3222720" y="531936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222720" y="513864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222720" y="563400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357720" y="513864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373040" y="5848200"/>
            <a:ext cx="71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on-ref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+1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4120" y="5848200"/>
            <a:ext cx="5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6720" y="6207120"/>
            <a:ext cx="5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POC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09600" y="5853240"/>
            <a:ext cx="71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on-ref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+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74600" y="5848200"/>
            <a:ext cx="71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on-ref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+3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22400" y="5853240"/>
            <a:ext cx="54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ref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+15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71920" y="5853240"/>
            <a:ext cx="54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ref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+16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03520" y="5853240"/>
            <a:ext cx="353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ref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932360" y="5140440"/>
            <a:ext cx="135000" cy="676080"/>
            <a:chOff x="4932360" y="5140440"/>
            <a:chExt cx="135000" cy="676080"/>
          </a:xfrm>
        </p:grpSpPr>
        <p:sp>
          <p:nvSpPr>
            <p:cNvPr id="159" name=""/>
            <p:cNvSpPr/>
            <p:nvPr/>
          </p:nvSpPr>
          <p:spPr>
            <a:xfrm flipV="1">
              <a:off x="4932360" y="532116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932360" y="514044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932360" y="563580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5067360" y="514044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651640" y="5140440"/>
            <a:ext cx="134640" cy="676080"/>
            <a:chOff x="5651640" y="5140440"/>
            <a:chExt cx="134640" cy="676080"/>
          </a:xfrm>
        </p:grpSpPr>
        <p:sp>
          <p:nvSpPr>
            <p:cNvPr id="164" name=""/>
            <p:cNvSpPr/>
            <p:nvPr/>
          </p:nvSpPr>
          <p:spPr>
            <a:xfrm flipV="1">
              <a:off x="5651640" y="532116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651640" y="5140440"/>
              <a:ext cx="13464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651640" y="5635800"/>
              <a:ext cx="13464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786280" y="514044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416640" y="4554360"/>
            <a:ext cx="135000" cy="676080"/>
            <a:chOff x="6416640" y="4554360"/>
            <a:chExt cx="135000" cy="676080"/>
          </a:xfrm>
        </p:grpSpPr>
        <p:sp>
          <p:nvSpPr>
            <p:cNvPr id="169" name=""/>
            <p:cNvSpPr/>
            <p:nvPr/>
          </p:nvSpPr>
          <p:spPr>
            <a:xfrm flipV="1">
              <a:off x="6416640" y="473508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416640" y="455436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416640" y="5049720"/>
              <a:ext cx="135000" cy="18072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551640" y="4554360"/>
              <a:ext cx="0" cy="49536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850200" y="5713560"/>
            <a:ext cx="3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0200" y="6035760"/>
            <a:ext cx="3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0200" y="5237280"/>
            <a:ext cx="3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832360" y="5140080"/>
            <a:ext cx="449280" cy="268200"/>
          </a:xfrm>
          <a:prstGeom prst="line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111640" y="4824000"/>
            <a:ext cx="1170000" cy="630360"/>
          </a:xfrm>
          <a:prstGeom prst="line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proposal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5920" y="1449360"/>
            <a:ext cx="8315280" cy="3914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We propose to mandate num_reorder_frames and dec_ref_frame_buffering in the SP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e advantage of a mandatory dec_ref_frane_buffering is that decoders will know how much memory to allocate and not having to allocate the maximum amount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e advantage of a mandatory num_reorder_frames is to minimize unnecessary delay at the decoder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Logo_ChapterSlide_Norma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EAB/TVV Rickard Sjöberg</dc:creator>
  <dc:description>Rev PA1</dc:description>
  <cp:keywords/>
  <dc:language>en-US</dc:language>
  <cp:lastModifiedBy>Rickard Sjöberg</cp:lastModifiedBy>
  <dcterms:modified xsi:type="dcterms:W3CDTF">2011-03-20T09:46:54Z</dcterms:modified>
  <cp:revision>171</cp:revision>
  <dc:subject/>
  <dc:title>Fine granularity slic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10-04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1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/>
  </property>
  <property fmtid="{D5CDD505-2E9C-101B-9397-08002B2CF9AE}" pid="13" name="MiddleFooterField">
    <vt:lpwstr>Ericsson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EAB/TVV Rickard Sjöberg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10-04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Ericsson Capital TT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1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0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