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D8409-113F-4B45-B70F-31E073383F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41000" y="1044720"/>
            <a:ext cx="8001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1000" y="3768480"/>
            <a:ext cx="8001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12222-86C5-40B5-A263-4DD2BE5C9C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41000" y="1044720"/>
            <a:ext cx="39042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40680" y="1044720"/>
            <a:ext cx="39042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41000" y="3768480"/>
            <a:ext cx="39042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40680" y="3768480"/>
            <a:ext cx="39042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0AD3C-534D-45CD-B76F-D2F83A3923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41000" y="1044720"/>
            <a:ext cx="25761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46400" y="1044720"/>
            <a:ext cx="25761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51800" y="1044720"/>
            <a:ext cx="25761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41000" y="3768480"/>
            <a:ext cx="25761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46400" y="3768480"/>
            <a:ext cx="25761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51800" y="3768480"/>
            <a:ext cx="25761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67CE4-43C2-4047-B6D5-3981DCF662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41000" y="1044720"/>
            <a:ext cx="80010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1000" y="1044720"/>
            <a:ext cx="80010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1000" y="1044720"/>
            <a:ext cx="39042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40680" y="1044720"/>
            <a:ext cx="39042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6480" y="284040"/>
            <a:ext cx="7029720" cy="22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41000" y="1044720"/>
            <a:ext cx="39042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40680" y="1044720"/>
            <a:ext cx="39042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1000" y="3768480"/>
            <a:ext cx="39042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41000" y="1044720"/>
            <a:ext cx="80010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B91A1-FD21-48BC-90DF-ACB8E54432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41000" y="1044720"/>
            <a:ext cx="39042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40680" y="1044720"/>
            <a:ext cx="39042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40680" y="3768480"/>
            <a:ext cx="39042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1000" y="1044720"/>
            <a:ext cx="39042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40680" y="1044720"/>
            <a:ext cx="39042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41000" y="3768480"/>
            <a:ext cx="8001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41000" y="1044720"/>
            <a:ext cx="8001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1000" y="3768480"/>
            <a:ext cx="8001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41000" y="1044720"/>
            <a:ext cx="39042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40680" y="1044720"/>
            <a:ext cx="39042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1000" y="3768480"/>
            <a:ext cx="39042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40680" y="3768480"/>
            <a:ext cx="39042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41000" y="1044720"/>
            <a:ext cx="25761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46400" y="1044720"/>
            <a:ext cx="25761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851800" y="1044720"/>
            <a:ext cx="25761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41000" y="3768480"/>
            <a:ext cx="25761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46400" y="3768480"/>
            <a:ext cx="25761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851800" y="3768480"/>
            <a:ext cx="25761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1000" y="1044720"/>
            <a:ext cx="80010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E0A38-D7F7-4774-B886-09477F7F2E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41000" y="1044720"/>
            <a:ext cx="39042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40680" y="1044720"/>
            <a:ext cx="39042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880CE-C026-4F96-9AE0-2B8184A3A2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82929-4F7E-4F3D-9B16-F772121D97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6480" y="284040"/>
            <a:ext cx="7029720" cy="22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0949C-1E35-4025-AB81-302854CDB0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41000" y="1044720"/>
            <a:ext cx="39042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0680" y="1044720"/>
            <a:ext cx="39042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1000" y="3768480"/>
            <a:ext cx="39042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0A1B6-9003-4BC9-AE57-6494F9B95F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41000" y="1044720"/>
            <a:ext cx="39042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40680" y="1044720"/>
            <a:ext cx="39042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40680" y="3768480"/>
            <a:ext cx="39042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FB299-048C-402F-8E6D-F6EE2187F2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1000" y="1044720"/>
            <a:ext cx="39042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40680" y="1044720"/>
            <a:ext cx="39042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1000" y="3768480"/>
            <a:ext cx="8001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5B126-0BDC-4E3D-8214-37DE02EBD8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1000" y="1044720"/>
            <a:ext cx="80010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47080" y="6500520"/>
            <a:ext cx="990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900" spc="-1" strike="noStrike">
                <a:solidFill>
                  <a:srgbClr val="5f5f5f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174D-2305-4955-9FD4-A40328F690A9}" type="slidenum">
              <a:rPr b="0" lang="ja-JP" sz="9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67480"/>
            <a:ext cx="310824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DOCOMO USA Labs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533520"/>
            <a:ext cx="69840" cy="6324480"/>
            <a:chOff x="0" y="533520"/>
            <a:chExt cx="69840" cy="6324480"/>
          </a:xfrm>
        </p:grpSpPr>
        <p:sp>
          <p:nvSpPr>
            <p:cNvPr id="5" name=""/>
            <p:cNvSpPr/>
            <p:nvPr/>
          </p:nvSpPr>
          <p:spPr>
            <a:xfrm>
              <a:off x="0" y="2514600"/>
              <a:ext cx="69840" cy="43434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533520"/>
              <a:ext cx="69840" cy="1981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" name=""/>
          <p:cNvGrpSpPr/>
          <p:nvPr/>
        </p:nvGrpSpPr>
        <p:grpSpPr>
          <a:xfrm>
            <a:off x="236160" y="730080"/>
            <a:ext cx="8361000" cy="55800"/>
            <a:chOff x="236160" y="730080"/>
            <a:chExt cx="8361000" cy="55800"/>
          </a:xfrm>
        </p:grpSpPr>
        <p:sp>
          <p:nvSpPr>
            <p:cNvPr id="8" name=""/>
            <p:cNvSpPr/>
            <p:nvPr/>
          </p:nvSpPr>
          <p:spPr>
            <a:xfrm flipH="1" rot="10800000">
              <a:off x="535320" y="731880"/>
              <a:ext cx="8061480" cy="54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0800000">
              <a:off x="236160" y="730080"/>
              <a:ext cx="430200" cy="5400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0" y="395280"/>
            <a:ext cx="1025640" cy="385920"/>
          </a:xfrm>
          <a:prstGeom prst="parallelogram">
            <a:avLst>
              <a:gd name="adj" fmla="val 6644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新コーポレートブランドロゴ画像"/>
          <p:cNvPicPr/>
          <p:nvPr/>
        </p:nvPicPr>
        <p:blipFill>
          <a:blip r:embed="rId2"/>
          <a:stretch/>
        </p:blipFill>
        <p:spPr>
          <a:xfrm>
            <a:off x="7529400" y="0"/>
            <a:ext cx="1614600" cy="4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4640" y="12902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14560"/>
            <a:ext cx="361800" cy="5743080"/>
            <a:chOff x="0" y="1114560"/>
            <a:chExt cx="361800" cy="5743080"/>
          </a:xfrm>
        </p:grpSpPr>
        <p:sp>
          <p:nvSpPr>
            <p:cNvPr id="50" name=""/>
            <p:cNvSpPr/>
            <p:nvPr/>
          </p:nvSpPr>
          <p:spPr>
            <a:xfrm>
              <a:off x="0" y="2913480"/>
              <a:ext cx="361800" cy="3944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1114560"/>
              <a:ext cx="361800" cy="1798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3226320" y="6461280"/>
            <a:ext cx="303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COMO USA Labs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新コーポレートブランドロゴ画像"/>
          <p:cNvPicPr/>
          <p:nvPr/>
        </p:nvPicPr>
        <p:blipFill>
          <a:blip r:embed="rId2"/>
          <a:stretch/>
        </p:blipFill>
        <p:spPr>
          <a:xfrm>
            <a:off x="19080" y="0"/>
            <a:ext cx="1614600" cy="420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 Unicode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4640" y="12902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for improvement in visual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95160" y="3168720"/>
            <a:ext cx="77616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deep Kanumuri and Frank Bo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OMO USA L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M2.0 (LC_RA, QP 32, Kimon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370160" y="1827360"/>
            <a:ext cx="68580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6449E-1EB5-45AF-84A7-40AFDFFACA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c + 2.b + 3.b (LC_RA, QP 32, Kimon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370160" y="1827360"/>
            <a:ext cx="68580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EFA5E-21EA-4D5C-9D79-A36E5AD9F8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4640" y="12902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chor (HM2.0) vs 1.f + 2.a + 3.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M2.0 (LC_RA, QP 37, Kimon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370160" y="1827360"/>
            <a:ext cx="68580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43AFA-A5CC-4AF3-BB87-EA15C2C908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f + 2.a + 3.b (LC_RA, QP 37, Kimon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370160" y="1827360"/>
            <a:ext cx="68580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A86B5-101C-4068-8678-7AED8DA934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M2.0 (LC_RA, QP 32, Kimon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370160" y="1827360"/>
            <a:ext cx="68580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06EEA-C64F-4863-A5A3-497FE7097B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f + 2.a + 3.b (LC_RA, QP 32, Kimon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370160" y="1827360"/>
            <a:ext cx="68580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43EB1-E8EF-4C8B-82C1-FD00AC7D35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4640" y="12902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chor (HM2.0) vs 1.f + 2.b + 3.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M2.0 (LC_RA, QP 37, Kimon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70160" y="1827360"/>
            <a:ext cx="68580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0FD56-F57F-4BD8-924D-AF96CD87A8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f + 2.b + 3.b (LC_RA, QP 37, Kimon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370160" y="1827360"/>
            <a:ext cx="68580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3BFDC-BED0-4A15-84C8-510A5B5F7A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4640" y="12902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chor (HM2.0) vs 1.c + 2.a + 3.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M2.0 (LC_RA, QP 32, Kimon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70160" y="1827360"/>
            <a:ext cx="68580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35C33-4E48-4A6A-8688-56A55063FD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f + 2.b + 3.b (LC_RA, QP 32, Kimon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70160" y="1827360"/>
            <a:ext cx="68580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27CAB-000C-41E9-AA86-6696860A4AB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M2.0 (LC_RA, QP 37, Kimon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70160" y="1827360"/>
            <a:ext cx="68580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CFAA1-069D-40E8-8EE4-507A413776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c + 2.a + 3.b (LC_RA, QP 37, Kimon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70160" y="1827360"/>
            <a:ext cx="68580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88CEF-D3C1-4DB7-BE59-F3583630E6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M2.0 (LC_RA, QP 32, Kimon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70160" y="1827360"/>
            <a:ext cx="68580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5D098-50B6-4DAB-826C-64CEAD53A3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c + 2.a + 3.b (LC_RA, QP 32, Kimon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370160" y="1827360"/>
            <a:ext cx="68580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4AFDE-53D0-4EE5-B23E-5404CA8041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4640" y="12902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chor (HM2.0) vs 1.c + 2.b + 3.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M2.0 (LC_RA, QP 37, Kimon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70160" y="1827360"/>
            <a:ext cx="68580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62327-E15E-4815-8E10-970EC155F8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6480" y="284040"/>
            <a:ext cx="7029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c + 2.b + 3.b (LC_RA, QP 37, Kimon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70160" y="1827360"/>
            <a:ext cx="68580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B5D35-187D-4354-B988-B806B5E71A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5T00:34:23Z</dcterms:created>
  <dc:creator>Sandeep Kanumuri</dc:creator>
  <dc:description/>
  <dc:language>en-US</dc:language>
  <cp:lastModifiedBy>skanumuri</cp:lastModifiedBy>
  <cp:lastPrinted>2008-07-15T16:42:41Z</cp:lastPrinted>
  <dcterms:modified xsi:type="dcterms:W3CDTF">2011-03-10T23:10:24Z</dcterms:modified>
  <cp:revision>718</cp:revision>
  <dc:subject/>
  <dc:title/>
</cp:coreProperties>
</file>