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4630400" cy="82296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414648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457200" y="718920"/>
            <a:ext cx="64008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8"/>
          </p:nvPr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FE471-1986-4424-922C-C30792E37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5113A-ABBD-4592-B19C-70CDC8965F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457200" y="719280"/>
            <a:ext cx="64008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9B092-3C63-4464-9196-A840945DE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BF08B-607A-4C7D-98C2-3F022F63B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2D2CB-2D06-41F1-809A-A13370E1A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017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5065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969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3017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95065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A7F4B-3B27-4968-9616-BFBA1EEAB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7D670-C09A-44B8-AA35-1D1EA7EC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068C4-47BD-489F-AC8C-1FAC2D43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9465D-22D2-4E02-9429-BD2BAB84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E1043-4BE8-4C2F-A723-41FB5AA4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0DA29-1354-4BA5-833C-099843CF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356000" y="92160"/>
            <a:ext cx="102744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56435-C242-4DFA-BEC8-CDD56589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4EABF-708C-4BD6-B5B6-E2816D4D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10430-488E-4389-9D2C-419397B9D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499BE-8A9D-43C9-A7A6-CFDBF64A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12D0A-554C-4C4C-8050-5041FA59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1521E-ABC4-4B36-946A-B165C1CD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42887-A25B-42FE-9F5E-655BD68E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017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5065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969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53017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95065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F87A0-9D20-4676-A9FD-1B6C9C85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67746-6899-4B4D-A4C8-03D43E299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DABCD-CCD5-4575-9D33-50F850A40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14F60-29D3-4414-ACDE-EEAC964C5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56000" y="92160"/>
            <a:ext cx="102744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81DE5-8C89-46A8-8118-AD91A0EBD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A6953-CE8C-410E-AF41-22B40A482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178A3-452F-4435-9C57-2775BA401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AE9F1-F89E-4C25-B12C-0AC422D70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4287960" y="0"/>
            <a:ext cx="1036296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20520" y="822240"/>
            <a:ext cx="4267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16" descr="sharplogo"/>
          <p:cNvPicPr/>
          <p:nvPr/>
        </p:nvPicPr>
        <p:blipFill>
          <a:blip r:embed="rId2"/>
          <a:stretch/>
        </p:blipFill>
        <p:spPr>
          <a:xfrm>
            <a:off x="873000" y="200160"/>
            <a:ext cx="2683080" cy="3157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7"/>
          <p:cNvSpPr/>
          <p:nvPr/>
        </p:nvSpPr>
        <p:spPr>
          <a:xfrm>
            <a:off x="4287960" y="822240"/>
            <a:ext cx="1036296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" name="Picture 18" descr="besharp"/>
          <p:cNvPicPr/>
          <p:nvPr/>
        </p:nvPicPr>
        <p:blipFill>
          <a:blip r:embed="rId3"/>
          <a:stretch/>
        </p:blipFill>
        <p:spPr>
          <a:xfrm>
            <a:off x="12455640" y="7908840"/>
            <a:ext cx="2043000" cy="32220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9"/>
          <p:cNvSpPr/>
          <p:nvPr/>
        </p:nvSpPr>
        <p:spPr>
          <a:xfrm>
            <a:off x="0" y="7864560"/>
            <a:ext cx="121921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20"/>
          <p:cNvSpPr/>
          <p:nvPr/>
        </p:nvSpPr>
        <p:spPr>
          <a:xfrm>
            <a:off x="279360" y="458640"/>
            <a:ext cx="353556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 A B O R A T O R I E S  O F   A M E R I C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21"/>
          <p:cNvSpPr/>
          <p:nvPr/>
        </p:nvSpPr>
        <p:spPr>
          <a:xfrm>
            <a:off x="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5364000" y="7864560"/>
            <a:ext cx="46339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1011888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marL="216000"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D2E4B6A4-CD9D-4C8D-9266-15DEAB00051F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7"/>
          <p:cNvSpPr/>
          <p:nvPr/>
        </p:nvSpPr>
        <p:spPr>
          <a:xfrm>
            <a:off x="4287960" y="0"/>
            <a:ext cx="1036296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20520" y="822240"/>
            <a:ext cx="4267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19" descr="sharplogo"/>
          <p:cNvPicPr/>
          <p:nvPr/>
        </p:nvPicPr>
        <p:blipFill>
          <a:blip r:embed="rId2"/>
          <a:stretch/>
        </p:blipFill>
        <p:spPr>
          <a:xfrm>
            <a:off x="873000" y="200160"/>
            <a:ext cx="2683080" cy="315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0"/>
          <p:cNvSpPr/>
          <p:nvPr/>
        </p:nvSpPr>
        <p:spPr>
          <a:xfrm>
            <a:off x="4287960" y="822240"/>
            <a:ext cx="1036296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21" descr="besharp"/>
          <p:cNvPicPr/>
          <p:nvPr/>
        </p:nvPicPr>
        <p:blipFill>
          <a:blip r:embed="rId3"/>
          <a:stretch/>
        </p:blipFill>
        <p:spPr>
          <a:xfrm>
            <a:off x="12455640" y="7908840"/>
            <a:ext cx="2043000" cy="322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2"/>
          <p:cNvSpPr/>
          <p:nvPr/>
        </p:nvSpPr>
        <p:spPr>
          <a:xfrm>
            <a:off x="0" y="7864560"/>
            <a:ext cx="121921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79360" y="458640"/>
            <a:ext cx="353556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 A B O R A T O R I E S  O F   A M E R I C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052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3"/>
          </p:nvPr>
        </p:nvSpPr>
        <p:spPr>
          <a:xfrm>
            <a:off x="244080" y="7864560"/>
            <a:ext cx="30481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4"/>
          </p:nvPr>
        </p:nvSpPr>
        <p:spPr>
          <a:xfrm>
            <a:off x="5486400" y="7864560"/>
            <a:ext cx="463248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5"/>
          </p:nvPr>
        </p:nvSpPr>
        <p:spPr>
          <a:xfrm>
            <a:off x="1036332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8317E93A-549E-4493-8F75-EB100774783B}" type="slidenum"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4"/>
          <p:cNvSpPr/>
          <p:nvPr/>
        </p:nvSpPr>
        <p:spPr>
          <a:xfrm>
            <a:off x="244440" y="786456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b">
            <a:noAutofit/>
          </a:bodyPr>
          <a:p>
            <a:pPr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3174840"/>
            <a:ext cx="13279320" cy="3291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arallel Prediction Unit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Parallel Intra Coding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CTVC-E315</a:t>
            </a:r>
            <a:br>
              <a:rPr sz="3100"/>
            </a:br>
            <a:r>
              <a:rPr b="1" i="1" lang="en-US" sz="3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ie Zhao and Andrew Segall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We have shown parallel intra prediction (PIP) in previous proposal JCTVC-D074.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ur goal is to Reduce serial dependencies in the intra-prediction proces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Here, we review this technology first and then provide updated results of PIP in HM2.0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arallel Prediction Unit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89000"/>
          </a:bodyPr>
          <a:p>
            <a:pPr marL="492840" indent="-492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otivation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21320" indent="-440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a-prediction design in HM results in a significant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530000" indent="-440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e to the casual prediction of pixel values (top/left/left top neighbo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530000" indent="-440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 block sizes results in more dependencies within an LC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530000" indent="-440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mpacts designs for all archite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92840" indent="-492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Our solution –Parallel Prediction Uni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21320" indent="-440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s a CU size within a LCU that can be encoded/decoded in parall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1320" indent="-440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CUs that are larger than a defined PPU size, traditional sequential prediction is perform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1320" indent="-440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nefit: Enables parallelism for as serial dependencies increase (small blocks) within an LC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9317160" y="2701800"/>
            <a:ext cx="3797280" cy="379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11198160" y="2701800"/>
            <a:ext cx="0" cy="3807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9342360" y="4597560"/>
            <a:ext cx="3807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11160000" y="5530680"/>
            <a:ext cx="197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12141360" y="4574880"/>
            <a:ext cx="0" cy="19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10963440" y="4378320"/>
            <a:ext cx="2450880" cy="2378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9299160" y="2136600"/>
            <a:ext cx="9028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CU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1140560" y="6170760"/>
            <a:ext cx="799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CU/PU/TU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11297520" y="2736720"/>
            <a:ext cx="5479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U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9388440" y="6016680"/>
            <a:ext cx="5479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U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9354240" y="4130640"/>
            <a:ext cx="5479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U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11154240" y="5273640"/>
            <a:ext cx="799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CU/PU/TU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12054960" y="5273640"/>
            <a:ext cx="799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CU/PU/TU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12090600" y="6208560"/>
            <a:ext cx="799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CU/PU/TU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12912120" y="6811920"/>
            <a:ext cx="913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ahoma"/>
              </a:rPr>
              <a:t>PPU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arallel Intra Prediction (2x)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920" y="1828440"/>
            <a:ext cx="6299280" cy="517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647640" indent="-64764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teps of Parallel Intra Prediction: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ivide parallel unit into two sets of block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st set of blocks predicted using neighbors outside parallel uni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nd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set of blocks predicted using neighbors outside parallel unit and reconstructed 1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st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ass block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47640" indent="-647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enefit: 2X parallelism for intra-prediction on small block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647640" indent="-647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 be clear: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2" marL="1859040" indent="-552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Tahoma"/>
              <a:buAutoNum type="arabicPeriod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U/PU with intra split flag 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859040" indent="-552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Tahoma"/>
              <a:buAutoNum type="arabicPeriod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U split to four TU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252000" y="3228840"/>
            <a:ext cx="2673360" cy="25495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7"/>
          <p:cNvSpPr/>
          <p:nvPr/>
        </p:nvSpPr>
        <p:spPr>
          <a:xfrm>
            <a:off x="12173040" y="4938840"/>
            <a:ext cx="1849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rst set b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18"/>
          <p:cNvSpPr/>
          <p:nvPr/>
        </p:nvSpPr>
        <p:spPr>
          <a:xfrm flipH="1" flipV="1">
            <a:off x="11702520" y="4222440"/>
            <a:ext cx="946440" cy="71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10719720" y="1887480"/>
            <a:ext cx="21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econd set b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20"/>
          <p:cNvSpPr/>
          <p:nvPr/>
        </p:nvSpPr>
        <p:spPr>
          <a:xfrm flipH="1">
            <a:off x="10329840" y="2455200"/>
            <a:ext cx="525600" cy="87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arallel Intra Prediction (2x)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96920" y="1828440"/>
            <a:ext cx="7685280" cy="43052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81000"/>
          </a:bodyPr>
          <a:p>
            <a:pPr lvl="1" marL="860040" indent="-331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econd set predic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323000" indent="-264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ediction using upper/left neighbors and bottom/right neighbors using weighted combina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323000" indent="-264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 use a fixed prediction weighting tabl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323000" indent="-264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ighting is signaled on a slice basi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851480" indent="-2646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Encoder friendl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851480" indent="-2646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hen enabled, the number of modes is the same – the HM direction and its mirror are used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32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323000" indent="-264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Motivation: prediction of 1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 pass block losses coding efficiency compared to serial processing; we make up the performance with improved 2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 pass prediction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024440"/>
            <a:ext cx="14630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9972720" y="7246800"/>
                <a:ext cx="421308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∗</m:t>
                    </m:r>
                    <m:r>
                      <m:t xml:space="preserve">p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542600" y="6194520"/>
            <a:ext cx="1487520" cy="7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2318840" y="5835600"/>
            <a:ext cx="1433520" cy="1147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9252000" y="3228840"/>
            <a:ext cx="2673360" cy="25495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7"/>
          <p:cNvSpPr/>
          <p:nvPr/>
        </p:nvSpPr>
        <p:spPr>
          <a:xfrm>
            <a:off x="12173040" y="4938840"/>
            <a:ext cx="1849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rst set b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18"/>
          <p:cNvSpPr/>
          <p:nvPr/>
        </p:nvSpPr>
        <p:spPr>
          <a:xfrm flipH="1" flipV="1">
            <a:off x="11702520" y="4222440"/>
            <a:ext cx="946440" cy="71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10719720" y="1887480"/>
            <a:ext cx="21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econd set b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20"/>
          <p:cNvSpPr/>
          <p:nvPr/>
        </p:nvSpPr>
        <p:spPr>
          <a:xfrm flipH="1">
            <a:off x="10329840" y="2455200"/>
            <a:ext cx="525600" cy="87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erformance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69080" y="1293840"/>
            <a:ext cx="5183280" cy="63532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907920" y="1814400"/>
            <a:ext cx="603576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normAutofit fontScale="99000"/>
          </a:bodyPr>
          <a:p>
            <a:pPr marL="485640" indent="-485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051200" indent="-40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re parallel intra prediction versus current (serial) appr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51200" indent="-40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17120" indent="-3236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M2.0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617120" indent="-3236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All 6 standard test Configura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617120" indent="-3236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PPU of 8x8 (HD only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85640" indent="-485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verage Impact on BD rat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051200" indent="-4053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tra (HC&amp;LC):                0.3%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051200" indent="-4053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andomaccess (HC&amp;LC):  0.1%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051200" indent="-4053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Lowdelay (HC&amp;LC):          0.0%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051200" indent="-4053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85640" indent="-485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o, reduce the serial bottleneck of small block sizes on large resolution pictures with negligible impact on coding effici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mpatibility and Future Extensions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909972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xtension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 this meeting cycle, we combined Parallel Intra Prediction method with Combined Intra Prediction (from BBC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esults are reported in E130 and show further improvement in coding efficienc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dditionally, we have extended our technique to higher degrees of parallelism (8x). 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esults are reported in the document and show 8x is possible with 0.1%, 0.2% and 0.4% for AI, LD and RA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spcBef>
                <a:spcPts val="624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5000" y="3095640"/>
            <a:ext cx="35035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56960" y="1250640"/>
            <a:ext cx="13052520" cy="54608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649440" indent="-6494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presented parallel intra prediction technique for HEVC design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parallelism for both encoder and deco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776240" indent="-552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llelism is achieved by partitioning a PPU into two s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511360" indent="-552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st set predicted from boundaries of PP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511360" indent="-552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set predicted from all available pixe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 is 2x parallelism for small block sizes (most critical bottlene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 --  impact on average BD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776240" indent="-552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a (both HC and LC): 0.3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776240" indent="-552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dom access (both HC and LC): 0.1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776240" indent="-552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 delay (both HC and LC)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 verified by Toshiba (JCTVC-E20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 extensible (combined with CIP/E130 and extensible to 8x/E31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ose to adopt this technique to HM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6:56:50Z</dcterms:created>
  <dc:creator>Jack Van Oosterhout</dc:creator>
  <dc:description/>
  <dc:language>en-US</dc:language>
  <cp:lastModifiedBy>Andrew Segall</cp:lastModifiedBy>
  <dcterms:modified xsi:type="dcterms:W3CDTF">2011-03-16T18:58:36Z</dcterms:modified>
  <cp:revision>620</cp:revision>
  <dc:subject/>
  <dc:title>PowerPoint Presentation</dc:title>
</cp:coreProperties>
</file>