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8F8F-FC1B-46CA-8E45-522825A993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D7A1-9F63-4B21-BF8F-DB1397A865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71EF-6388-40F7-9D88-5128B5ACA8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642600" y="6438960"/>
            <a:ext cx="2639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7CBA7148-4B68-41DE-9CC2-1DD4538E2F6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6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7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10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1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2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3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4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5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6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9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0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1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4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5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6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0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1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2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3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4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5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6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7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8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9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0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1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2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3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4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5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6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7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8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9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0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1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2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3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4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5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6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7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8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9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0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1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2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3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4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5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6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7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8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9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70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1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2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3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4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0"/>
          <p:cNvSpPr/>
          <p:nvPr/>
        </p:nvSpPr>
        <p:spPr>
          <a:xfrm>
            <a:off x="4657680" y="6143760"/>
            <a:ext cx="2639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6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378-08B9-457B-A869-02C8B1CA3822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A8B1603C-F10E-46AB-A531-3831FC51BB47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29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" y="1762200"/>
            <a:ext cx="7072560" cy="1666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Next LT Medium"/>
              </a:rPr>
              <a:t>CE4 Subset1: Report on fine granularity slice partition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46" name="矩形 4"/>
          <p:cNvSpPr/>
          <p:nvPr/>
        </p:nvSpPr>
        <p:spPr>
          <a:xfrm>
            <a:off x="3000240" y="3143160"/>
            <a:ext cx="18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Regular"/>
              </a:rPr>
              <a:t>Qiu Shen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Regular"/>
              </a:rPr>
              <a:t>Qingpeng Xie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Regular"/>
              </a:rPr>
              <a:t>Haoping Yu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Fine granularity slice parti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13880" y="1642680"/>
            <a:ext cx="792972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nother solution is partitioning slice based on CU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lso, we propose to signal the start and endaddress hierarchically in slice heade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LCU Index + relative SCU Index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70316FD5-28D8-4A6C-91E8-7A7100119586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1643040" y="3429000"/>
            <a:ext cx="5940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imulation resul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2320" y="1499760"/>
            <a:ext cx="291960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BD-rate loss of slice partition based on 64x64 LCU compared to HM2.0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62C8D93D-A0AC-48F1-8071-C48D9615E147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3" name="矩形 7"/>
          <p:cNvSpPr/>
          <p:nvPr/>
        </p:nvSpPr>
        <p:spPr>
          <a:xfrm>
            <a:off x="2286000" y="3166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the BD-rate loss of slice partition based on 64x64 LCU compared to HM2.0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118040" y="1357200"/>
          <a:ext cx="4597200" cy="1447920"/>
        </p:xfrm>
        <a:graphic>
          <a:graphicData uri="http://schemas.openxmlformats.org/drawingml/2006/table">
            <a:tbl>
              <a:tblPr/>
              <a:tblGrid>
                <a:gridCol w="860400"/>
                <a:gridCol w="625320"/>
                <a:gridCol w="625680"/>
                <a:gridCol w="617400"/>
                <a:gridCol w="625680"/>
                <a:gridCol w="625320"/>
                <a:gridCol w="617400"/>
              </a:tblGrid>
              <a:tr h="17172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118040" y="2900520"/>
          <a:ext cx="4597200" cy="1742760"/>
        </p:xfrm>
        <a:graphic>
          <a:graphicData uri="http://schemas.openxmlformats.org/drawingml/2006/table">
            <a:tbl>
              <a:tblPr/>
              <a:tblGrid>
                <a:gridCol w="863640"/>
                <a:gridCol w="622080"/>
                <a:gridCol w="622440"/>
                <a:gridCol w="622440"/>
                <a:gridCol w="622080"/>
                <a:gridCol w="622440"/>
                <a:gridCol w="622080"/>
              </a:tblGrid>
              <a:tr h="45720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118040" y="4714920"/>
          <a:ext cx="4597200" cy="1457280"/>
        </p:xfrm>
        <a:graphic>
          <a:graphicData uri="http://schemas.openxmlformats.org/drawingml/2006/table">
            <a:tbl>
              <a:tblPr/>
              <a:tblGrid>
                <a:gridCol w="863640"/>
                <a:gridCol w="619200"/>
                <a:gridCol w="628560"/>
                <a:gridCol w="619200"/>
                <a:gridCol w="618840"/>
                <a:gridCol w="628920"/>
                <a:gridCol w="618840"/>
              </a:tblGrid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imulation resul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52320" y="1499760"/>
            <a:ext cx="291960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BD-rate loss of slice partition based on 32x32 LCU compared to HM2.0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3D509F31-E773-4314-96B2-3F9A3B4BAC59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91" name="矩形 7"/>
          <p:cNvSpPr/>
          <p:nvPr/>
        </p:nvSpPr>
        <p:spPr>
          <a:xfrm>
            <a:off x="2286000" y="3166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the BD-rate loss of slice partition based on 64x64 LCU compared to HM2.0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143240" y="1481040"/>
          <a:ext cx="4597560" cy="1447920"/>
        </p:xfrm>
        <a:graphic>
          <a:graphicData uri="http://schemas.openxmlformats.org/drawingml/2006/table">
            <a:tbl>
              <a:tblPr/>
              <a:tblGrid>
                <a:gridCol w="860400"/>
                <a:gridCol w="625680"/>
                <a:gridCol w="625320"/>
                <a:gridCol w="617760"/>
                <a:gridCol w="625320"/>
                <a:gridCol w="625680"/>
                <a:gridCol w="617400"/>
              </a:tblGrid>
              <a:tr h="17172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143240" y="2971800"/>
          <a:ext cx="4597560" cy="1743120"/>
        </p:xfrm>
        <a:graphic>
          <a:graphicData uri="http://schemas.openxmlformats.org/drawingml/2006/table">
            <a:tbl>
              <a:tblPr/>
              <a:tblGrid>
                <a:gridCol w="863640"/>
                <a:gridCol w="622440"/>
                <a:gridCol w="622080"/>
                <a:gridCol w="622440"/>
                <a:gridCol w="622440"/>
                <a:gridCol w="622080"/>
                <a:gridCol w="622440"/>
              </a:tblGrid>
              <a:tr h="45720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143240" y="4757760"/>
          <a:ext cx="4597560" cy="1457280"/>
        </p:xfrm>
        <a:graphic>
          <a:graphicData uri="http://schemas.openxmlformats.org/drawingml/2006/table">
            <a:tbl>
              <a:tblPr/>
              <a:tblGrid>
                <a:gridCol w="863640"/>
                <a:gridCol w="619200"/>
                <a:gridCol w="628560"/>
                <a:gridCol w="619200"/>
                <a:gridCol w="619200"/>
                <a:gridCol w="628560"/>
                <a:gridCol w="619200"/>
              </a:tblGrid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imulation resul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2320" y="1499760"/>
            <a:ext cx="291960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BD-rate loss of slice partition based on CU compared to HM2.0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9D6FCF56-EF31-446A-AF1E-EEB7A708EA1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99" name="矩形 7"/>
          <p:cNvSpPr/>
          <p:nvPr/>
        </p:nvSpPr>
        <p:spPr>
          <a:xfrm>
            <a:off x="2286000" y="3166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utigerNext LT Regular"/>
              </a:rPr>
              <a:t>the BD-rate loss of slice partition based on 64x64 LCU compared to HM2.0</a:t>
            </a: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000680" y="1285920"/>
          <a:ext cx="4597200" cy="1447920"/>
        </p:xfrm>
        <a:graphic>
          <a:graphicData uri="http://schemas.openxmlformats.org/drawingml/2006/table">
            <a:tbl>
              <a:tblPr/>
              <a:tblGrid>
                <a:gridCol w="860400"/>
                <a:gridCol w="625320"/>
                <a:gridCol w="625320"/>
                <a:gridCol w="617760"/>
                <a:gridCol w="625320"/>
                <a:gridCol w="625680"/>
                <a:gridCol w="617400"/>
              </a:tblGrid>
              <a:tr h="17136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4000680" y="2828880"/>
          <a:ext cx="4597200" cy="1743120"/>
        </p:xfrm>
        <a:graphic>
          <a:graphicData uri="http://schemas.openxmlformats.org/drawingml/2006/table">
            <a:tbl>
              <a:tblPr/>
              <a:tblGrid>
                <a:gridCol w="863280"/>
                <a:gridCol w="622440"/>
                <a:gridCol w="622440"/>
                <a:gridCol w="622080"/>
                <a:gridCol w="622440"/>
                <a:gridCol w="622080"/>
                <a:gridCol w="622440"/>
              </a:tblGrid>
              <a:tr h="45720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000680" y="4614840"/>
          <a:ext cx="4597200" cy="1457280"/>
        </p:xfrm>
        <a:graphic>
          <a:graphicData uri="http://schemas.openxmlformats.org/drawingml/2006/table">
            <a:tbl>
              <a:tblPr/>
              <a:tblGrid>
                <a:gridCol w="863280"/>
                <a:gridCol w="619200"/>
                <a:gridCol w="628560"/>
                <a:gridCol w="619200"/>
                <a:gridCol w="619200"/>
                <a:gridCol w="628560"/>
                <a:gridCol w="619200"/>
              </a:tblGrid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nclus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ecommends adopting fine granularity slice parti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Proposes to signal the slice start and end address in the slice header hierarchically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4A3D43C8-7C35-4FED-8F52-3730BA66400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Abstrac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nalyzes the necessary of supporting CU based slice parti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eports the performance signaling the slice start and end address in sli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A5D559AB-8306-4D06-ABD4-BBFF71ABB5C5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Introdu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HEVC only supports slice boundaries on largest coding unit (LCU) which size is 64x64 in common condi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data sizes of LCUs are diversified for different video sequence, different bitrate and different coding mod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D082FF27-B816-479C-8891-85E995B72AB0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6760" y="429840"/>
            <a:ext cx="83487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LCU data size distribution (64x64 &amp; QP 22)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3AFE21B2-14CA-4156-AF7C-9D097B4F7938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1"/>
          <a:stretch/>
        </p:blipFill>
        <p:spPr>
          <a:xfrm>
            <a:off x="1500120" y="1271520"/>
            <a:ext cx="5940360" cy="2443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"/>
          <p:cNvPicPr/>
          <p:nvPr/>
        </p:nvPicPr>
        <p:blipFill>
          <a:blip r:embed="rId2"/>
          <a:stretch/>
        </p:blipFill>
        <p:spPr>
          <a:xfrm>
            <a:off x="1488960" y="3714840"/>
            <a:ext cx="594072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56760" y="429840"/>
            <a:ext cx="83487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LCU data size distribution (64x64 &amp; QP 37)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EA5916EC-E96A-41DE-81A8-FBA76C88AE7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560600" y="1357200"/>
            <a:ext cx="5940360" cy="2443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571760" y="3786120"/>
            <a:ext cx="59403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Introdu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It becomes difficult to control the data size of slices in terms of bytes in the case of big LCU size.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One solution is reducing the size of LCU to 32x32 or 16x16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4009CAB3-1FE3-423A-BA0C-DC73573EDF3B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6760" y="429840"/>
            <a:ext cx="83487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LCU data size distribution (32x32 &amp; QP 22)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A99239F7-D78E-4F16-BE67-51C114B24FD7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071720" y="2000160"/>
            <a:ext cx="6948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6760" y="429840"/>
            <a:ext cx="834876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LCU data size distribution (16x16 &amp; QP 22)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79C6F6F-04F7-461E-95B6-2EE626B22CF9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7294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Introdu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52320" y="1499760"/>
            <a:ext cx="291960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maller size of LCU may induces great loss of coding efficiency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9B78A1A2-1D81-475B-A0E6-FB29DEC7BE48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046400" y="1552680"/>
          <a:ext cx="4597560" cy="1447560"/>
        </p:xfrm>
        <a:graphic>
          <a:graphicData uri="http://schemas.openxmlformats.org/drawingml/2006/table">
            <a:tbl>
              <a:tblPr/>
              <a:tblGrid>
                <a:gridCol w="860400"/>
                <a:gridCol w="625680"/>
                <a:gridCol w="625320"/>
                <a:gridCol w="617760"/>
                <a:gridCol w="625320"/>
                <a:gridCol w="625680"/>
                <a:gridCol w="617400"/>
              </a:tblGrid>
              <a:tr h="17136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ra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046400" y="3043080"/>
          <a:ext cx="4597560" cy="1743120"/>
        </p:xfrm>
        <a:graphic>
          <a:graphicData uri="http://schemas.openxmlformats.org/drawingml/2006/table">
            <a:tbl>
              <a:tblPr/>
              <a:tblGrid>
                <a:gridCol w="863640"/>
                <a:gridCol w="622440"/>
                <a:gridCol w="622080"/>
                <a:gridCol w="622440"/>
                <a:gridCol w="622440"/>
                <a:gridCol w="622080"/>
                <a:gridCol w="622440"/>
              </a:tblGrid>
              <a:tr h="45720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046400" y="4829040"/>
          <a:ext cx="4597560" cy="1457640"/>
        </p:xfrm>
        <a:graphic>
          <a:graphicData uri="http://schemas.openxmlformats.org/drawingml/2006/table">
            <a:tbl>
              <a:tblPr/>
              <a:tblGrid>
                <a:gridCol w="863640"/>
                <a:gridCol w="619200"/>
                <a:gridCol w="628560"/>
                <a:gridCol w="619200"/>
                <a:gridCol w="619200"/>
                <a:gridCol w="628560"/>
                <a:gridCol w="619200"/>
              </a:tblGrid>
              <a:tr h="171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4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.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9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8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3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6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44:50Z</dcterms:created>
  <dc:creator>huawei</dc:creator>
  <dc:description/>
  <dc:language>en-US</dc:language>
  <cp:lastModifiedBy>shenqiu 00161233</cp:lastModifiedBy>
  <dcterms:modified xsi:type="dcterms:W3CDTF">2011-03-14T08:20:54Z</dcterms:modified>
  <cp:revision>1846</cp:revision>
  <dc:subject/>
  <dc:title>EDE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00090816</vt:lpwstr>
  </property>
</Properties>
</file>