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93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70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</p:sldMasterIdLst>
  <p:notesMasterIdLst>
    <p:notesMasterId r:id="rId95"/>
  </p:notesMasterIdLst>
  <p:sldIdLst>
    <p:sldId id="256" r:id="rId96"/>
    <p:sldId id="257" r:id="rId97"/>
    <p:sldId id="258" r:id="rId98"/>
    <p:sldId id="259" r:id="rId9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notesMaster" Target="notesMasters/notesMaster1.xml"/><Relationship Id="rId96" Type="http://schemas.openxmlformats.org/officeDocument/2006/relationships/slide" Target="slides/slide1.xml"/><Relationship Id="rId97" Type="http://schemas.openxmlformats.org/officeDocument/2006/relationships/slide" Target="slides/slide2.xml"/><Relationship Id="rId98" Type="http://schemas.openxmlformats.org/officeDocument/2006/relationships/slide" Target="slides/slide3.xml"/><Relationship Id="rId99" Type="http://schemas.openxmlformats.org/officeDocument/2006/relationships/slide" Target="slides/slide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 type="dt" idx="23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 type="ftr" idx="2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 type="sldNum" idx="2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6FF6BE1-17AA-4F72-A484-CEE214E8283F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085BD4C-8291-4BC3-92FE-3E7321BCB223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22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겉표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타이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: Tahoma 46, Date : Arial 24 )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F034B9-13E8-416D-9C11-920FB1AB9584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2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9EF3750-EF91-4DA0-BD95-A011451B7B45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2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DA7324-495B-46DB-8951-A16B28E7CBE3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EB0-985D-48C6-9C9D-C0D5B1D6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2CE-5AD8-4949-995D-4E99C73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1A5E8-309D-4DC0-98C6-C7A0C27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183D238E-17EC-4595-B1D6-FB965ED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15E58A82-7D60-439C-B639-6F179137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221CB1A-766B-4D4E-92AD-1467DDE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C83E8DD-5EE3-4AE0-965B-D0776B4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AD01F5E-6DAA-45E4-B7AD-FAEECFEA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32DDFAD-B640-41E0-84A3-960CB55B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23C2434-2615-408E-B7FC-E352EDDF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E2D39A8-509B-4548-A01E-1B8A7DE0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E1E75F2-BBA0-441B-8D85-D9C56096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EF6FA8C-C160-42CE-9710-6448F5BC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7C6BE-9C3C-4FA0-A4E7-31E7776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E7B4636-5052-4B30-BB30-D9CF835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A138FC1-BBCA-474B-B9D8-40D37312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1F7E936-74B4-48CE-BDAE-7809F7D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2014F342-1292-48EE-82A1-CDBFFBD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56840DC-38B9-4013-97E3-E1FCC484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29EBF28-AD83-420A-BB0A-A327364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635719C-EE05-45F2-AE49-C02C08D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2330EDBB-DE6D-4225-8CB0-0ACC0A2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05F6692-48EE-4BB4-91BF-953E9CDD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3277CE2-7FEE-4A03-9548-D832EADC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2C655-C9DE-48F0-B6D1-B44AA8F3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863F7CD-BF3B-4131-9CE7-891521E8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3F43E17-D77E-41F9-A935-7775CE2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FFD64CF-2853-4CCC-9F49-784CE60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A5DD46F-7AD5-4DC7-9841-D06B796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24D3288-8A0D-4D68-B2E4-7327671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4197F9B-1FBF-4056-8641-787B3C2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FDC9FAF-D3EB-4931-89D9-84C1CD9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7E2A462-8DB2-4F77-9076-7404218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ADFF0A4-2709-4AF1-B36C-996A631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FBD5E25-E74B-4145-B738-FDADF62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6A88C-113A-44EE-9164-A0385B5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5BD8C62-A162-482A-8692-97805EFF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36620CE-5CC2-49C3-B418-850CB6F2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02CE736-54E7-4AD5-B095-BE36CCB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EE5F026-1EEE-43E2-89E2-163B5F28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0FCE546-8E5E-4540-863B-43FD0F8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F9253B4-CFBB-4C4F-9848-7CC47B1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ACD7C6D-9883-405F-ABC2-37BF592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0529255-97E3-401A-94B9-4A1541B0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9181E2BA-3781-4150-8A86-68F97B6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27ACB1F-B319-4AEE-96AF-5BAAC6B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9765B-8243-4FBC-B7E8-8E04366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9DB1A684-D5BD-4153-AE27-C292645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0F6B768-F344-4C55-90CF-3EBD518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24BC15B-246F-44CC-ABAA-7B83452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1198935C-3191-4536-831A-FE3CE515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15DD480-C94B-4F7E-9A22-EC77E733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CFB0211-F38E-4D04-A16A-0FE3B586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9707DA0-0081-4943-9E7B-2DB7AEA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91B078B-BF01-4B27-8626-5514F84A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D738724-7C1D-4C8E-A76A-3AF0C26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903C37E3-FED3-4D62-847D-669A834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D97B4-04C7-4BC3-850A-94BA318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DB61742-58AA-4FF8-847D-D67DB25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315BF48F-3CAD-47F2-B34A-8636C96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45D8FF82-5A23-41E3-94E2-AB989B6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42E3E661-6275-4FCD-8250-1415752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7FC6801-DD93-4802-9531-2A67712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1148E86C-C701-4F8F-8417-674CE081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D85611A-36E3-4F34-AFB7-7625B90F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C5ADFDA-38E8-40DC-87DD-60165B6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3588C4D-CAEB-4502-BF78-0A7CE9D6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740AB42-58F7-4240-A400-ABA7CD4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2A157-53DB-4ABD-9CBE-B7F2FFC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5E4C568-2E00-4293-B057-41D7217C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7E60EC7-DA74-4843-9E90-28C2306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0843288-34E7-4A26-82D2-AF1229B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C2BFAB9-8E50-430C-99EB-5137428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AFBEFE3-1BE8-4E5E-B428-7164E16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DF637F6-9796-474D-86D6-6150FDEA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7235DD6-CBE2-4AC7-B2F5-57FC625B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53B80EF-D83F-44FB-9C23-AF4050F7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10F80E6-53FD-4CD2-A071-D27F32C0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82636A6D-52AC-4913-B098-78B1DCE8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01F6D-860B-442C-9AE2-1F593DA1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A3AD2A64-E433-4F3D-8B89-DDE8657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A245DD5-5B1A-4862-A753-B954F41A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58548969-BF6C-4712-9EF4-3690032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B8916BD-D25A-4E04-846E-1C41D94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97A11B8-EEC7-445A-938C-B075F26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0D9B1EF-7A88-4892-BA69-2BE7EDE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06BC575-C5E1-4FF7-9C50-230CA89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51D1CDB-F1DD-4D4B-8BAC-3B6E395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BC4E87E-510D-45DD-9957-3990DCD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11ACF5C7-F68F-4939-A28A-61EF6943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BCFD0-C9F6-4E7C-8A4F-E1ABF9D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5A00BA4-9420-4B7F-A0E9-C2FAF1EF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AB2A368-EA8E-4AC7-AC66-BBC18B0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2D6F600-12F9-4A4C-8ACE-0911376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FF0B9A8-53DD-40CC-8E25-F7178D03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0FD9074-29C7-4807-86ED-41698EE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2F96EEF-D48D-4C6C-B765-43827D96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7E5BFC16-9A94-4767-9AA4-F026C5B3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7E1F9B64-2641-4A58-A297-DFCA2B2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E68B13F-5EDC-4F00-A42A-A0ED7F4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7DCD497-2250-441C-A01C-DB883E1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48370-C0CA-4950-8E0D-B8C7944E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7E82043-8AC9-4517-BF3B-D066E57D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4172D89-EA32-43B7-8D7A-13BC822E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0DAA0E77-ED3D-4DD5-BE74-66A6D921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F985D985-08F6-4960-8A2E-ACBFCA3D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5E7F1B3-3B37-4287-B471-5A6CD734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D0C03606-15CF-4714-BE71-7062723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DE8AA5B-8FD1-4EBD-811F-924DAB5A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1CF7F18-9124-4D99-A829-9304731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72ED4E0C-0A80-4D00-8E2D-4F89DA57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D50F1328-18E6-4D4B-BB0F-881562A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A9D-F16D-4DDE-AA07-2753098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0EA6-82FD-43CF-915C-5897011C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7C93317-C8D3-4B2B-A50F-E2B2E19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29524CE-8AF7-427D-A627-C9313E7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7E637EC1-3167-47C2-8633-C361B45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23E1EDD-76FF-4FF4-AF4A-3D2812E4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860974DD-E622-42FB-A104-29116F9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89C2C1A-35E3-4F50-833A-D21C283A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0754511-F002-4F15-BE7C-CD6A126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39F9005-781A-4AB7-A80D-CE80C64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7504618D-84D3-47E9-A845-18D8FD3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504488C7-1CFF-4A7B-9D7C-892EA2A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BF5FB-4EA4-42DA-8DAC-A3D12FA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5E2DE4B-1F46-438B-ACA5-8FBD4745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C34A0992-95E3-41B3-99DC-ED4B38B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96C69AE2-AB62-422D-94E2-DB29854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51F94D15-2F44-46A0-9B1B-44CC84D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49BA7A0-2661-4390-B3F3-3672223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1F8C26B-12CF-4EFB-9062-D13DAA70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5B482E1-F82F-41A1-BB47-30C0BBF6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46A9A-F3AB-42CB-B844-D92B61E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F633F-6F99-4744-B0A8-65350BB7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42420-34CE-461A-A0DC-9157B57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FCEEA-A3AD-4FE0-938C-8FB27A3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2635A-4581-40D9-96C1-2062C941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0ADF4-4672-4D86-BA5E-6166053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ECA0D-0F8F-4EA7-9D3C-BB83811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6C184-81B6-4F49-931B-746E7A6A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442-1279-4DA9-B985-9978A2E9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F4702-B2EB-4B11-ACA4-C936FF28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8ED0A-AE0E-4707-9E89-C96AB782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36DE0-D908-4895-995E-DF34D7AC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FEBB4B-F9AE-4DCA-9E74-B9016CA3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7157F5-3BC8-4A07-AB4A-11BCB4D2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42A2F6-DD73-4F01-A574-3814C0D4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A1D4E5-DC54-4B05-81ED-17B3651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B8C490-6E49-4E38-85D9-6603FC9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EC4377-9C2C-478C-A6B0-6A500DA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58491D-2ECE-4E41-8C56-92B7880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6631E2-D8F0-49B1-99DB-5CBD41C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B02C9B-2904-4A93-84F9-FCD0D16E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05E3CC-4783-4403-8328-8E3982A4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7ED07-9AC0-40F6-9F1D-DACA910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BE7C7-207B-43D9-983C-C3A3E8EB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A1141-8713-4B8F-99B6-6876EE8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CF9DA-745C-423A-BC25-4E55721D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97514-F3BB-4395-8CB5-D7031B0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D448B-FA4A-4A39-9FCF-920C751B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7D778-15B1-4BF1-A846-EEE2CBD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27BCE-894F-41DA-A203-98F78F3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27E72-E857-419C-888D-E34A00F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0EFC3-B29C-444F-9E25-98518E9A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5255F-CD05-41F2-B1EE-F74CC95C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A86A9-75EE-4340-9970-7E3D7D77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1E3D96-37DE-4231-A0BB-61C5D425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19C173-758B-4448-8484-FD73D61B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3E9587-B205-4333-997C-5954FAA4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BE371F-F994-44E9-8AB4-9A899A8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E6CF6B-7211-482E-8D8E-61469F1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46693E-C54C-45D0-9F13-52B7C73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A827BA-075D-49B6-B785-9C2F08B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8A15AE-9C24-417E-AA52-93297D3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747068-1CE7-45A6-8FA2-EB9AED8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98D129-6F9E-4F70-939E-476156C9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A9C88B-6926-4041-ABE7-748DBE2E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ED5F58-506B-441E-850F-491C5A08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040205-AC7C-4ACB-AB63-74CE4F49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7CCD4A-74F8-4E19-A70B-9CA1197A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6B4E12-69A1-46AB-AFBA-22BC8A9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F2DE15-1F45-487A-9932-C318F010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8A8175-435C-4BBB-865D-719906E0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A761F8-A713-4E40-AFFE-97C41BEC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D499D3-BE9D-439B-ACC7-BDDDC02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B501C8-1BE5-4D80-AF60-FEC1FAA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FFA3C0-FB3D-4DA5-BF98-61893F4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30D191-8A9D-49E9-9E7C-C054F4CB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F2C544-9D6B-4091-A884-56AD60AD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0A09D3-7BB8-478B-B955-278C2442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F82CC9-A86F-49FB-8F13-A880A2D2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6A94A7-0FF0-4882-94B7-095B149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A6E333-D00C-4B21-B7F4-C4C01933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E8A132-2A27-436E-822A-FE16B56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14B8FE-1CDE-454B-8974-554DD25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7D7509-C51E-4748-9B58-BA0C1E65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2CDAE9-C06F-4429-9F91-CE230D9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4E4604-0FD7-4CC6-A77D-EBA6C0A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BEE02B-5036-4AAF-8F87-B13879C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2CAFDC-D2AA-4BC5-9970-AFDDB95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7F5BBF-4CB1-4A64-AB81-326ACB95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D3858C-02BD-46FA-BD9F-ADCDBEE1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2BE945-43C4-42EE-9C0F-7FE64E1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1E57DD-A8AC-4C68-A317-5AF18FD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1AEAA1-7655-4D5C-BC2E-9D5CEAF9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433868-F9C6-409A-AC2C-E8A6F97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223293-CADE-4F98-9810-EFBBA67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C642B7-3FAD-43DE-AA75-85CB2D3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C44725-38F5-4CDB-B185-AF523D0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02C955-F602-447F-9746-421AA11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99E391-6B3A-47A3-92BA-42A028D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670B44-8216-4AEB-866D-F751447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48684A-710C-4A59-B0A1-F8572959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B0FBAE-C9D7-471C-9CF2-3D0CD78E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2EF745-1AAA-4D21-8AD6-9E97AF5A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FD8BCA-47A9-47B3-B541-7EAEF5C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9EEFD6-5E83-4A32-BD3A-5F221DC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DAEC90-2C70-4CA6-B239-A1450B4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87A565-F736-4257-A288-F8AE3C5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8D5823-ADF7-499A-A71F-FBB6BE1F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D2E8A6-E7AB-43E4-95B0-CA224B7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A65-2572-4D96-86BA-13E9CE26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97EC0D-7BB6-4214-A356-AF6E8CA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04E252-6132-4D46-B5EA-44B62F4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4E7F92-EA64-4047-8BC1-9E262B51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6500A9-B4BC-4219-B350-5865D746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4B00F4-F8EC-4CF7-A6B4-8FA97F5A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549926-6268-4111-99B3-687E259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275009-7001-49EC-A844-C975F44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C85777-E195-4A3A-BEE4-1EB2D4A3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B7EBC9-8467-4CCE-BA22-E839B8C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D1CDB5-650B-4447-8E10-C3CB37A1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E94FE2-DBB4-4166-A174-D7FBA76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EF94AD-A287-49A0-8064-CDA7BA2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0B410D-DF13-4DD7-8680-051A945D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E5335A-6A32-4579-9216-282EBDF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B2D8CA-87D2-4DF1-9487-CB6D017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8641D4-CB25-4777-B012-CA76FDB9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DDE171-C090-45BD-9E11-DAAB7A9A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B9AD81-956B-461F-9C0E-AA57C31A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2F82AF-6F3B-43F5-8CCE-7F5D9B2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A6789D-BBA6-4288-BBA7-3403DB3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1CDB8B-BC98-4A35-AF50-FCE29DA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941B31-277C-400F-A829-D00AEB2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74F878-659E-4DC6-BB43-9770DAE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482851-4BCD-4550-BA7F-8548342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A554F3-E884-4BCA-8DDE-6607D18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5BDD64-ED6B-4BB0-8DCA-54CB8D7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72E226-D0BD-412D-B323-4A6B706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7DF503-9FC5-4038-BFBE-D5798053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8A8AE9-082E-4CB4-AB84-AA31E918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75E7ABE-B171-4059-96B4-44AB13E8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B75246-1E0C-47B5-93C7-EB1215B1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B4058A-A6ED-444B-BEE5-4DD331CF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982BB1-FDE1-4E8F-B1A6-76556C65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DDF1EB-6B64-44D7-A123-A6A5AB09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C824A9-57DA-435D-AA34-C67D5E4E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A99CD1-D561-49BA-80F3-097DD9C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2DB167-74E7-45E9-86A4-844CCD4B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A183CE-A1F6-43D5-B34C-5DBC038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5A2788-955E-4226-B96E-EE172502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6CC3D1-481E-405F-B4DB-DE7986E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021026-98A4-46E6-9051-576C5C78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CD12CC-C128-429E-B456-46046B59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4B2E79-B6CE-43B3-8834-9B50615A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FCFE651-6DC2-43F9-8854-4BB03BBD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784584-1DF1-432D-B1C6-A7EAE1D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9F8E7FF-2DDF-4402-97E6-41F84CA3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5A2C02-332D-49C4-BFD4-C625F02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F897C4-E4DC-448F-8696-2382316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6690D1-046D-4046-9CF7-630B02B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6E41F0-DE84-4E75-82DF-49AC72F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8383-D8A4-43BC-9EB3-922182A0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3958DA-C398-4418-85DB-C416CC64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F00436-D44C-482C-A90E-9FD784B6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3862ED-0EAE-433D-8294-2BCCB2D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E16DF1B-4C6C-48B9-992C-9ED053D5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70F1B3-A2AD-4681-A650-46C480C4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908791-BEFD-4766-9991-D28DB5A3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35F4E55-A2A6-417E-AF89-E891375D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5A7F08-CAEF-4FED-9B7F-159222D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496641-17B1-4420-8E59-866E66D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0BE789-862A-4C6B-9C2B-F82006D0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0B235-15F7-4BCE-8B05-2B5C5EB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F9130C-B6BE-481A-BC83-37632C5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C87CBF-86EE-49C3-A509-2937875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2364C6-7E2C-4B8A-A1E1-1DE8912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5644DE-9722-47EC-ABC0-37687C9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08B9F6-2CB6-411B-B4C1-E54AD8C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0F25E5-2DAE-4023-9A70-1BB0238B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945454-8940-432E-944C-A7E4811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FAB11E3-D3C1-4C94-94ED-4258E95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E3158B-39F8-4505-A160-5CC4B295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4D9AAE-F574-4746-90C1-54D47E6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40217-3C47-419B-BBFC-5310EB5D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DF3164-1925-4947-B047-BEB9C3B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4C43D3-96AE-4D1E-A91E-9EE3052D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0A4A70-A667-4A6E-8D97-08AE501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F2E194-65EF-49D5-9ACA-87F05D3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A1FEC8-943D-4ADE-B975-1F09F76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EA291A-3917-42E8-96AD-0AE003D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F314E4-B80F-4BBA-8613-ABFE392B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00172-B682-4A7E-BE94-91BE9D2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A29A3-33E7-4F4D-8781-D8E6E14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16F-A195-43EF-9783-3397207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42196-4D6C-48B3-AFE9-9651076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1C88DA-C068-4DA9-850D-4569C86D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5769EE-49BE-4789-8C92-34452AD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0BCBAB-6479-4D54-8E88-9DAB79D1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0CE80D3-B687-470E-BB6A-94AB910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F2E281-1110-4F5C-B105-589DC70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82247C-F97E-49E5-94BE-D27C9C5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6B8542-D15F-43AF-ABF7-A532C38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6EA96E-104D-41F3-B445-A1BDAF1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423D64-8969-4AF5-B443-2F267F4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74AD1-9226-4D50-A1A3-905B011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F7244AE-7DEA-4588-A47D-E4EDD02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827987-5F15-4DA6-AF2A-2CF67CEA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AD89EA-F6C9-4910-95AA-0E041814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799340-31B3-4758-B56E-5944FBAC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A4F77A-A848-42EB-832D-42197D42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E08D6F-CC57-4CEA-B7EA-F7ADF4E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26C3F30-B72A-4E16-9A83-D2571B2A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2C964B-04E6-4F11-A10B-E7E9883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C25F65-BCA6-462C-94DE-AB1238C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39F8C5C-AAA2-4531-829A-D8C9972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3DE03-828D-496C-A2BC-86ED676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F1E4E7D-76A8-4125-8658-CF248DF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8D0B07-51EE-49E1-9E76-F03EF35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0D2E8C-A281-48B0-8751-332C151C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A3C0ED-EC66-4BBE-AE5F-CCD26CAD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9FC3551-F18E-4CD6-A6EC-AE7CAD84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871BE7-B507-42A6-B22B-27062733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149FAE-6BF2-4E1F-A053-7DAC8B2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0076FC-05BF-4F46-9F0C-314B05E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91A5AE-4E53-4B4E-B325-8D5E5DD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BE33790-DC70-4010-856D-E558066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5D494-7AE0-4371-8E95-1A2365E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DEC61DD-3C41-4A98-95A7-5B832E38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095188-0541-498D-A682-785358F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05AE68-37EB-4CCC-989F-75ABA5B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18CDE1-920E-4EE0-96EF-0F7FEDD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E6BCB4-FBD2-4E76-9BFC-9231659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1CEC89E-258E-4BC3-8B7B-ACF84EF2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453928-13B7-4674-B0C5-AED94A5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3C9C4F1-2BCD-422B-8EF1-01F1902A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070AE5-A2DE-4587-93AC-741962C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556FA7D-BF5B-43B5-BF68-14756E9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6B5CC-8BC7-4A1D-AB20-131BF67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64AB7C2-9461-490D-B95E-E7DBC5E7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BD1CDF8-872F-4EF1-8F1B-F3F5F49E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B42CFDD-3637-4FAF-A555-2649D6FA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BD1DAE-3E6E-413F-AB5B-111D2ED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7089E37-AF6D-42B0-8565-6BACCD3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6E8784B-1732-42D6-A08E-BE7519A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6FCEB1-EF28-4289-B283-AE25E5BD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C326A2-EE56-46BE-89AC-AA78390B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066D85-C39D-4DCF-9770-E5D70339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0FEF8B-5295-4971-97EF-AC6CA5CE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ADB1E-E231-4570-ADF8-9E9E7947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CD75290-A95D-46AD-80D8-BAEE7201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486F1C3-1030-49BA-8722-6D38797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AAC6FE-7242-46C7-8F8D-1D2C392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EDD9679-E5B3-4F40-93B6-3798C3E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4215D6-C2F9-4618-88AF-124853CF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468652-78A8-4B52-B4E9-CAA4E7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02FAF7D-D2C1-433B-8309-0E506FE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1552D69-6B01-49FF-90C9-13C86E1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74A352-C5AB-4C46-A3DB-0753969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F126F8-DF9E-416C-ABC0-458EDE95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16257-C494-45AB-8982-47489DC1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958695-D17B-434F-B741-EE3798D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E39C953-AAE5-48C9-A637-D6F28FC3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DCED94-CC9B-42A1-9FA3-EE9E8A0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AAA3BC0-7A17-46F1-970A-81E58ECB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501C576-2E61-4C0A-B8A6-DC1BE25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3B3D4DD-A1B8-40F1-B6D9-B4B597D2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40F2A10-200E-46E0-AE39-1C46164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68760D8-0506-46A2-8B07-44EAD04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3347A5-5799-44C5-BFFF-9B8418B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CFDF810-339F-4712-B26D-63B6E33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9088D20-6F2D-4259-A095-743BBE30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411A331-AADD-491C-A8E0-97EC477B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4D3BF5-491B-4D09-B443-16BBEF2F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7D69EE6-DF8C-4682-8FCA-00E65E33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4DABC12-DA64-4762-A514-DA8A8C75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B13B7F8-811E-49F5-8B7F-4BA371AF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6BFEDED-9147-4C79-838E-69C516E1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9F5D2C4-38BB-42E3-B432-FA9DC6C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1D8DE1-0E89-47D8-BC98-1C5E1FE5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EFEF476-56C5-411B-97E5-03B79DB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E1CDE25-8939-4C37-9D11-1EF5DF8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13D63FC-09A6-4C6C-82ED-CEF0A49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F80CDC-456A-4D1E-82CD-92287581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F71BEC8-6B2E-43B4-9342-E55AEDF3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EE42AA-1D03-488F-B79D-83483F39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DF2399-B663-4407-BAFB-5781FCE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4626D8B-9547-4354-BD0B-C3C599D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3071AD-09DA-4DFD-BC65-572D4DA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B3CBB2-DCCE-4ECB-888A-1290741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2217066-F29E-4611-935F-965DCD3F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A9D0CD6-D8B0-4601-A070-43518C04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DC9CFB9-D482-45B9-9AA6-7B35737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08FB20F-8B3B-4C33-97DA-31FFDCEF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71CB814-2E09-49D8-9A7F-4CFAAC4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A06424-F7D3-400E-8E96-363F385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94862EC-1417-400E-9B38-C23DB051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C2316AA-7F45-4589-AE05-6E70917E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9324099-2E72-44CE-9F8A-6AD1E7BB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0D3F5CD-6D8C-4D93-A0CC-0AEC386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E9D82F-EAEC-46BF-B3FF-0904C892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7AE-2476-4613-811E-60061E8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FE2D18-DB10-4ABA-AB72-BB19F23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668F00-D31F-4625-8459-073C456A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49EFAE3-1729-43D6-9DC4-823A304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B6B2EA-D76C-489E-8418-1AF390C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FDBFF87-6813-4815-A197-87FBD00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65160A-B0D4-4DEF-BBDD-9F47CA9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712FBAD-0F23-4E76-8FAC-9E99909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133F26E-2AD3-4435-95FA-C016DE04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EBB25DE-E84D-4BBC-A4B6-65D769C5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D56B8C2-3FC7-48A6-9675-0547761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45E296D-1B82-439E-885E-D740F4A3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0D8E6E-EEE7-4F9E-AE24-C9BE12EA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FE57652-8D43-420A-A8FA-0CDE662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A8097F0-5695-4F1A-ADE0-5ADFF66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71B707C-8134-41C6-9688-A1210C0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3ECDE0F-2D38-4271-BA55-75F1CFC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2367659-BFCA-4CA5-81E3-D8A7A724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3ACC20E-F41D-4E8C-AD1E-D6C464B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DC7DDDB-4CE2-428B-8297-E63B12EC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3CF4CA0-51A8-47C1-8346-CB2B4B0A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3F4DE5-B13C-40AA-8978-F055D5E7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DBC7F2B-4A2E-4FFC-8D0A-547A869D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3E4728C-D5D3-402E-ACC2-A5610E3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E505A08-2CE0-4249-B196-11465C0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F221CF1-2035-4AC3-B378-F9CEA5D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15C13E-D1A6-4CFA-B624-1B727D5E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DBEAACD-F933-4DDD-9B59-2F758A0F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7F81B9F-714C-43D3-9262-EBE393EB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FACDD48-7904-4116-89FD-72B47AA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1FBF0C6-D243-43CA-92A8-2ED212E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9CDC69F-71B6-4F5B-89D1-F7DA4475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A21BD91-7279-45CD-BFB7-3AEA4B92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53ADB8-048F-460E-807D-BB6C10C8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F65B5CA-73F0-4A96-B3A8-893909D2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1D69A95-56A6-4598-AE3A-56AB6D1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504AAB6-0B31-445B-900E-896E615A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A8B6E43-AFFD-4CC9-9777-CA1339B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56FD3A6-4325-4FB9-BE6C-DFD6437A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F956407-7BF3-4945-9474-DFB209C2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5A9012B-4D46-417D-8602-0B072D5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C643C36-C345-4A03-8C93-4DCF230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8547D73-86F1-4828-A402-EDED422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59FBE55-8BA5-4111-A5EA-A8162475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DF8E0E1-4B0C-4EA1-8FE2-BE9F5C46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A092091-84CC-44C6-9E25-EABFD15F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30392A5-3F11-43C3-A05F-14C3D7E3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A2630F-598A-4185-8FA3-86C8D637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FB6EC75-57FB-4A2C-8C27-D120276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D9CB8D-DCA3-4F42-9008-930B8652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A70BE20-FE02-461F-9B46-F3BA73F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35B0657-F0E6-4ABE-BC93-327C831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1A58C8E-D98D-432C-8F48-95BA787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913690-C7C1-450C-9CEB-81BAB88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C4BEB8-2D5C-4D3B-803A-1C2BB76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B3CD6AB-2350-4C02-AB61-FD32A5B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0570E00-237A-4BDA-A31F-F0387FA6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265C448-E25E-4370-BF8D-42884665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04B7CDA-BF44-4AA0-8D9A-DF619247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6719AF0-C5AD-44FB-A52F-276963D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D7B02B-5E5A-4E3E-B9E8-3DF04E10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90C75CF-00F1-4E2A-B5FD-726742CC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F84CEE-B5D3-45C0-877D-2C71485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EA0E08-9E22-47C4-844D-86E3A9A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5D035CE-1909-4747-B93C-87D8807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55497DE-F8A8-4297-A42D-A1BCB027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E37F82F-91AD-49FD-B5A8-BA59C81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F4E13D2-C970-4D1A-8FC6-5C0F738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4708C43-DA89-436C-B526-79A5DFC7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CA4DCE8-C37C-4C50-83D4-8431C34A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226B15F-6297-40E7-A448-293CC391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6600F00-6053-4CBF-97D3-24F86AF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81948FB-F423-4341-A7CC-B139C3C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3EC6120-0DB6-46FF-9493-EA5BBE0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5B24105-25A2-46AD-8A5B-BBFA2FC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818873E-01AC-47B5-930E-D29B2A7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51E2250-C228-4927-9AFD-455F20B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760BC8-52D8-4100-BF21-22F25EB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BDDF79C-E646-44B4-A844-0E1B94B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312BDCC-0F09-40F8-B289-5C693AF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9C8A2E-280E-4E72-B501-A079840D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0BCD3DF-FBF2-4D16-B249-E133156E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A6295-90CD-4425-9DBB-1829CC25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BE8-E8F8-45CA-A0D7-F8D27E8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713C88-FC4C-46B0-BCEA-BC9C8131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B1BD2-24A2-4F34-8BED-9FF128AE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E4F34-ACC5-4943-BE8E-EA6219FA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B21C4B-CBBF-4DEE-8E2C-5FFF8AB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2394B-FA22-4CF5-87A5-EE1F8BBF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7BCA6-1138-4688-BAB1-A35D6B8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B4635-303C-430B-95E5-9482891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30EACB-BFB0-4596-88A0-C528A15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2D10D1-A6AC-42B7-A89E-A195FD5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A3C55-BF89-45F0-985E-F5541435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D95-E502-45E6-8451-5548751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39EC8-4EFD-40CE-895E-1000B36B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13C702-DC5D-4B58-A8B4-61D362F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4077D-F1D2-485D-807F-BD0CCE5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6B917-F8D2-4542-8DD8-9FD093A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85D7BA7-50E0-4F17-B324-CD77ED95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0809E21-FCCA-47B0-BED8-4141085F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EDC3F75-7F56-4CE6-8E11-FDC8FD0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AD608-B935-426E-A1F1-AF3784B4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7C34B7A-E2C3-4083-BE76-24721507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3F863E0-B4F6-43F9-96A2-7DBFD21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E527DD4-8DE0-4DC1-8FCB-9B398B2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97C573D-2E24-4EDA-9D58-ABC69B8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BEB6D59-C5D8-4E3D-929F-E941408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60CEC72-5BEA-4814-B7FD-7C171A0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B3A4186-96CD-4EAA-8C24-754831B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88B316F-366C-4C3B-847E-20AF0E5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4BC0FF0-4114-42B7-8BCE-8113AD4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FDC4959-86A4-4A9F-A571-074E3070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6B79A-F20F-4C43-A980-6056F58D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2940B18-0CFA-481D-AF0A-7EC2C4AF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BF491BC-BECE-40B1-8DCF-4B08603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D2EEC94-BDB8-48A0-A81E-2631C470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0614F7D-AF5C-4147-9700-93F20CB0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E4D4547-C2BC-493A-853C-4942658E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2F27DE1-0131-4A62-94AF-3BE614E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50C2BBB-12B3-4A50-B8A8-007A093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922026-0F00-42FC-9998-6B35922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640E933-E0CD-4977-ABE6-4D3559F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8E79A2C-646C-49F6-953B-68A0E64B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BE33D-5249-4014-B9B7-6E43E39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47D07CC-738D-4850-A0AA-7976E7CA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76870-F70C-495C-B417-8DE7EF76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767E3-5897-4DE3-AEA9-AC65D84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206873-B9E1-45CF-ADE1-B28DD4F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E0E-01D7-49FE-A294-1D03F1D0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23DC2-C7EF-4B76-A2BF-D8BCE03B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5D41A-9AAF-46B9-BF09-3AB7BE75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3EC0F-C3C0-4C7D-B003-F77F7A0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E2F64-FE23-49C1-82CC-A667F74F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3BF005-558F-4741-9F67-1D062642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19CD19-D1C2-4A6C-A4D4-06C46C3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CFE6F-7B0D-4505-B5B8-CD3C566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F4C9D91-32E1-4B65-A031-E6910A06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77140B-C721-489B-A7BF-2F9692E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0127E77-1FA8-4D12-BE0B-42A4FE0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D04411A-65E0-47B4-AB61-5F1348A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314548D-A1C9-4B0A-8317-508E663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9AA8CC4-5687-48AF-A249-3101EB2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9485CA7-00F9-490C-95D7-D1F6B70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315569B-902C-4E27-A3CE-265273C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465C41B-9C70-4725-AA23-C5C1AB6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137057C-3AF0-4D6A-BBC6-1CFCADC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09ADEA9-3551-4501-9C52-8DFDF9F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D48AB55-3BFB-440F-ABE7-FC94826E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E82B9F-4FB1-4804-BE22-50F1C48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C2E34B3-F69F-4A68-9FC8-C26F8422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B3176-9624-4FE4-8493-A36357D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929-AA66-4C4C-8772-8E541581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B9CAA7-1AD5-48B4-A75A-FFA9A41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A5621-116C-4266-868F-23D2E00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1EDC4-FABE-4EB8-807F-0244A45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5580A-BE5F-4B15-BD1E-68CB9B4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DE1D0-6ECE-4A3F-8530-703BB9E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EE5E0-F48B-4D67-B644-87EC17D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5F221-91D0-463C-95CB-855207EC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477E6-4357-44B7-B8E2-1201A7B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0CE94-1D78-419A-9F21-C1547CE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51CF88-A10B-44A4-AACB-D796A024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2F3-FB06-47B7-A804-FE9FCD3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E7484-3767-4ECF-8399-EFFAB3C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67CE42-80E3-4046-B624-8961C5EE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D7A89-61D0-4B6E-BBA8-8884FC6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94B33-FC33-4662-8166-92852DA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CA9F9-A704-4387-8B68-DC4CDDD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5C323A7A-62FA-4D1A-8CE4-A2CB46EF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6CAEE-E97F-47EA-BE36-FD8B5267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E8D2A59-9ED0-4650-B9A0-E524BD87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FC6F08E-61FC-4648-B464-AA63E5B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54CA0C6C-FCF6-4BB2-836C-56FCBBBA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44071D3-2C11-4E9C-93D2-9CAE5C9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10D7181-DA92-4E0D-8F4E-11E9B31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AF57B02-644D-489E-80CD-3BC8EE77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F68F3BF-A331-443E-84B0-0E0B2EA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CC0642C-1B44-45CE-9F3E-CC94C43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50CC44C-E755-4E95-A25E-A99FF2F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2B8632E-B84F-4C12-8D4A-6FEAF190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439755-CA77-4BA2-99C0-909B7488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69B53AE-9D94-4203-A524-0C7E9190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DB0D77E-899B-4F4D-B03E-6C99785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9D2D3D9-AA30-4E0E-91A6-97A3C345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2591F1F-53D9-46C8-BCD1-BA282D7C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8B093CD-CB48-46C5-B5A8-4A6A749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25592D8-255C-43AD-AD5D-2AF0CA0A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66E55E8-42D4-45B6-994B-12E8F8D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82230E6-CC15-44B2-B34A-EF438FD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A38E6A11-D2BF-41B1-A69A-AD113DB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A63FC5A-E7DF-4A83-B8A8-0183A47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0CFB9-30BB-4DCA-971B-126EE803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3D43FED-60CC-4EA1-89D3-9E1CCA4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F8438CE-364F-4AB5-B1C2-77BCE72F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B78DD82-AFD5-44A7-A240-F10B2DC6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B89F202A-8F57-41EC-84A9-C6BDCED9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20E7B9C-AB59-477A-B5D9-C438699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7059E5D-F2DB-4DE1-9E37-4955B67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807FF29-86F6-46CC-B528-931B503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0D75CBD-6D02-4439-917C-CDAABBF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768307B-EA38-4EF6-AB6F-CF74BFD9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A32F125-3B35-4414-84E0-9F0A3A8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C4518-CF2F-4496-8D36-6355274F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40D3A6F-1E33-4D10-9CE2-6CB2D25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DE2D677-F437-4042-8F89-A1EF310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C073B84-CB3F-4393-802F-AD27E69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7E99709-0D0E-4925-AC51-D02BD740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F95CF63-55FB-462C-920D-66FFDBB5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7B25394-4E75-4E90-8BEC-67608B3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4A0FCD1-799F-4C13-B164-97EF790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6DC3E3E-B9B1-494E-B6A4-A0357B5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98E48E4-3439-4F90-A497-38639B0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5477AA0-EB4F-4DF4-840A-47175DA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DF9F8-7584-48EC-82E8-E8904B8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19EDD1C-BD46-4A28-AE4E-79100ED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3C42325-3BF1-4BE3-B908-3E8F046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47386A9-57BD-4DB4-92B3-0F736CB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3163641-CBB2-4ECC-9005-38F8F2B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69D933C-D700-42C4-B621-EC2B83F0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A8B21A0-A022-4515-B07B-7317A4C2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713E3C4-B17E-49AB-A717-A0145CDD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BDDE997-9F48-46E1-83D5-99A8E6C7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B9504E4-EDE3-476C-824A-65EB4108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D0919C4-89B2-42D2-BDD3-0870DFF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A46-B01B-421B-8C3F-B4015666CA0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1E97-1AD4-4018-B9EC-42A3D82C4B7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3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C14-F0A4-493D-8F11-01CE3A48C9A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7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50E-CCCA-4A64-BA41-553CB6884C6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2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7E5-8B78-4243-96F3-25A80AB34CB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6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F07-5645-4480-BFB2-AC3A0658AF3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0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F427-DFF9-45E3-BA9B-5E22792E896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5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F78A-4E9B-44AA-8D7F-CABD1B247E6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9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24C-34B7-4013-A63D-4AFDBA1CA3D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4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B2B-2EAD-4B2A-819F-FC0F092EC1C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359-FC74-4D88-8B2C-E14F5FA7DA0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2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375D-A519-4B4A-AF3A-DCBB2EB94FA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7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2777-0722-4958-987B-B58C7F3CDF5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1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6EA1-0095-47C3-807C-9291EAAF8C7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6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2C3-5B65-427C-A95F-C1EB62D1AC8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07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9E1-6452-4FA2-85C5-1CE56D19C15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2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68B5-8582-478A-8178-400F7795DB1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6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871-0752-4377-989C-44176321DB5C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1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EA8-50D3-4091-8C24-474CE90CA57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8779-A446-41AE-B0DD-194B88B6FA2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5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40B-B084-4100-B389-C863BE808FC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9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8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93F-56BC-45F6-9143-3908F1541598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4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8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B24-E002-4A73-A7F6-2DF174B71BD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8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6126-091D-471A-9C57-8019FAC0183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3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A04-6B03-41B5-AA98-9D9FFE91766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7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B34D-4CF1-4F1A-B1B2-EEB8A98DB1C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1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4683-9F6D-4BF3-AB19-A2D73059A71C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6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91D-724D-4B2A-A3F0-F38C1D4972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0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199C-53CD-4B62-9D04-310BF0D2895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5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B7E-327F-4E9B-A9E4-DD29699B112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C21-02B1-4D23-A70D-A01C81A807E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E4B-C1EE-4F39-A352-F25AD741EBA4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F3B-55C1-4CEE-92AB-172B0E8577F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29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 type="sldNum" idx="142"/>
          </p:nvPr>
        </p:nvSpPr>
        <p:spPr>
          <a:xfrm>
            <a:off x="8305920" y="648648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5F3-0F32-4F68-97E5-1DD0B9A1B51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1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7A8-094D-4C9C-A75F-6950A6EE287C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 type="ftr" idx="1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dt" idx="1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 type="ftr" idx="1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 type="sldNum" idx="16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3AFD-ECCB-4E75-8A40-A460D2BEDB8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 type="dt" idx="1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 type="ftr" idx="1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5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A1C-52B5-4500-8A35-9A463EB6C19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 type="dt" idx="1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 type="ftr" idx="1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 type="dt" idx="1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 type="ftr" idx="1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 type="dt" idx="1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 type="ftr" idx="1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0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EA6-8C0C-40C9-8A1B-F65F863619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0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 type="dt" idx="1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 type="ftr" idx="1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 type="sldNum" idx="1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4D3-3C0A-4EF4-9F24-61B3BF14233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4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 type="dt" idx="1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 type="ftr" idx="1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 type="sldNum" idx="1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649-8DBD-4427-8208-FFE82D01666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9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2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FDD-9F41-431E-B1A9-2A18D1B3307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3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 type="dt" idx="2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 type="ftr" idx="2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 type="sldNum" idx="2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144A-8BA2-4F35-965B-C0C1709304B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8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dt" idx="2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 type="ftr" idx="2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 type="sldNum" idx="2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F36-604A-4094-898F-3AC497C7BD2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2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8A6-E004-4D33-A8FB-DB7D1E194CC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6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 type="dt" idx="2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 type="ftr" idx="2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5"/>
          <p:cNvSpPr>
            <a:spLocks noGrp="1"/>
          </p:cNvSpPr>
          <p:nvPr>
            <p:ph type="sldNum" idx="2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014-65A4-46D0-8B2D-D71A041D1F9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1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 type="dt" idx="2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 type="ftr" idx="2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 type="sldNum" idx="21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8D6-42B7-4E40-9DE5-F190BDF95CF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5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 type="dt" idx="2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 type="ftr" idx="2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 type="sldNum" idx="21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91E-451E-4C52-8DC8-47E0EF04028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 type="dt" idx="2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 type="ftr" idx="2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 type="sldNum" idx="22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DD80-1DE1-47A3-A881-5BD72D65057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2BA-33A1-4B31-859E-4264F4E80CD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4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 type="dt" idx="2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4"/>
          <p:cNvSpPr>
            <a:spLocks noGrp="1"/>
          </p:cNvSpPr>
          <p:nvPr>
            <p:ph type="ftr" idx="2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5"/>
          <p:cNvSpPr>
            <a:spLocks noGrp="1"/>
          </p:cNvSpPr>
          <p:nvPr>
            <p:ph type="sldNum" idx="22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FE10-E3D7-4243-A606-7425C9AC26F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8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2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61F-EF20-4516-B620-E30E6B81A04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3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 type="dt" idx="2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 type="ftr" idx="2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5"/>
          <p:cNvSpPr>
            <a:spLocks noGrp="1"/>
          </p:cNvSpPr>
          <p:nvPr>
            <p:ph type="sldNum" idx="23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C7B-6738-4359-8328-E1C1701F169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7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 type="dt" idx="2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4"/>
          <p:cNvSpPr>
            <a:spLocks noGrp="1"/>
          </p:cNvSpPr>
          <p:nvPr>
            <p:ph type="ftr" idx="2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5"/>
          <p:cNvSpPr>
            <a:spLocks noGrp="1"/>
          </p:cNvSpPr>
          <p:nvPr>
            <p:ph type="sldNum" idx="23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5E5-6031-4F37-95A6-AF03B846C86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6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779-25A1-4C3A-B24E-F8D0421A085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슬라이드 번호 개체 틀 2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3C2D-632B-4F42-B3CD-9B9152273221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8" name="Picture 64" descr="표지변경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65" descr="별2"/>
          <p:cNvPicPr/>
          <p:nvPr/>
        </p:nvPicPr>
        <p:blipFill>
          <a:blip r:embed="rId2"/>
          <a:srcRect l="90810" t="0" r="0" b="-6977"/>
          <a:stretch/>
        </p:blipFill>
        <p:spPr>
          <a:xfrm>
            <a:off x="8118360" y="333360"/>
            <a:ext cx="358920" cy="58104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6" descr="별2"/>
          <p:cNvPicPr/>
          <p:nvPr/>
        </p:nvPicPr>
        <p:blipFill>
          <a:blip r:embed="rId3"/>
          <a:srcRect l="90810" t="0" r="0" b="-6977"/>
          <a:stretch/>
        </p:blipFill>
        <p:spPr>
          <a:xfrm>
            <a:off x="6300720" y="189000"/>
            <a:ext cx="3272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31" name="Rectangle 69"/>
          <p:cNvGrpSpPr/>
          <p:nvPr/>
        </p:nvGrpSpPr>
        <p:grpSpPr>
          <a:xfrm>
            <a:off x="-6480" y="2090880"/>
            <a:ext cx="9156960" cy="2496240"/>
            <a:chOff x="-6480" y="2090880"/>
            <a:chExt cx="9156960" cy="2496240"/>
          </a:xfrm>
        </p:grpSpPr>
        <p:pic>
          <p:nvPicPr>
            <p:cNvPr id="3932" name="Rectangle 69" descr=""/>
            <p:cNvPicPr/>
            <p:nvPr/>
          </p:nvPicPr>
          <p:blipFill>
            <a:blip r:embed="rId4"/>
            <a:stretch/>
          </p:blipFill>
          <p:spPr>
            <a:xfrm>
              <a:off x="-6480" y="2090880"/>
              <a:ext cx="9156960" cy="24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3" name="Text Box 10"/>
            <p:cNvSpPr/>
            <p:nvPr/>
          </p:nvSpPr>
          <p:spPr>
            <a:xfrm>
              <a:off x="0" y="2106720"/>
              <a:ext cx="9144000" cy="24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JCT-VC D288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Loop Filter with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Directional Features</a:t>
              </a:r>
              <a:br>
                <a:rPr sz="4400"/>
              </a:b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i="1" lang="en-US" sz="28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JCT-VC Meeting, Mar. 2011</a:t>
              </a:r>
              <a:br>
                <a:rPr sz="2800"/>
              </a:b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oLin Lai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elix C. Fernandes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amsung Electronics Co., Ltd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7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850" autoRev="1" fill="hold"/>
                                        <p:tgtEl>
                                          <p:spTgt spid="39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700"/>
                                        <p:tgtEl>
                                          <p:spTgt spid="3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850" autoRev="1" fill="hold"/>
                                        <p:tgtEl>
                                          <p:spTgt spid="3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0. Pixel-based filter adaptation in HM 2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6C19-317D-4B4B-9E3C-6F4E32955D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7" name="Straight Arrow Connector 80"/>
          <p:cNvCxnSpPr/>
          <p:nvPr/>
        </p:nvCxnSpPr>
        <p:spPr>
          <a:xfrm flipH="1">
            <a:off x="564840" y="12697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38" name="Straight Arrow Connector 81"/>
          <p:cNvCxnSpPr/>
          <p:nvPr/>
        </p:nvCxnSpPr>
        <p:spPr>
          <a:xfrm flipH="1">
            <a:off x="564840" y="17251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39" name="Straight Arrow Connector 82"/>
          <p:cNvCxnSpPr/>
          <p:nvPr/>
        </p:nvCxnSpPr>
        <p:spPr>
          <a:xfrm flipH="1">
            <a:off x="564840" y="21823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0" name="Straight Arrow Connector 83"/>
          <p:cNvCxnSpPr/>
          <p:nvPr/>
        </p:nvCxnSpPr>
        <p:spPr>
          <a:xfrm flipH="1">
            <a:off x="1019880" y="12679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1" name="Straight Arrow Connector 84"/>
          <p:cNvCxnSpPr/>
          <p:nvPr/>
        </p:nvCxnSpPr>
        <p:spPr>
          <a:xfrm flipH="1">
            <a:off x="1019880" y="17251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2" name="Straight Arrow Connector 85"/>
          <p:cNvCxnSpPr/>
          <p:nvPr/>
        </p:nvCxnSpPr>
        <p:spPr>
          <a:xfrm flipH="1">
            <a:off x="1019880" y="21823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3" name="Straight Arrow Connector 86"/>
          <p:cNvCxnSpPr/>
          <p:nvPr/>
        </p:nvCxnSpPr>
        <p:spPr>
          <a:xfrm flipH="1">
            <a:off x="1477080" y="12679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4" name="Straight Arrow Connector 87"/>
          <p:cNvCxnSpPr/>
          <p:nvPr/>
        </p:nvCxnSpPr>
        <p:spPr>
          <a:xfrm flipH="1">
            <a:off x="1477080" y="17251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5" name="Straight Arrow Connector 88"/>
          <p:cNvCxnSpPr/>
          <p:nvPr/>
        </p:nvCxnSpPr>
        <p:spPr>
          <a:xfrm flipH="1">
            <a:off x="1477080" y="21823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46" name="TextBox 107"/>
          <p:cNvSpPr/>
          <p:nvPr/>
        </p:nvSpPr>
        <p:spPr>
          <a:xfrm>
            <a:off x="3438360" y="941400"/>
            <a:ext cx="54453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xel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modified Laplasian on neighbors (SML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  4  -1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 pixels based on strength of SM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 filter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Can reuse partial SML computations *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Oval 115"/>
          <p:cNvSpPr/>
          <p:nvPr/>
        </p:nvSpPr>
        <p:spPr>
          <a:xfrm>
            <a:off x="976320" y="300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Oval 116"/>
          <p:cNvSpPr/>
          <p:nvPr/>
        </p:nvSpPr>
        <p:spPr>
          <a:xfrm>
            <a:off x="1433520" y="300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Oval 117"/>
          <p:cNvSpPr/>
          <p:nvPr/>
        </p:nvSpPr>
        <p:spPr>
          <a:xfrm>
            <a:off x="1890720" y="300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Oval 118"/>
          <p:cNvSpPr/>
          <p:nvPr/>
        </p:nvSpPr>
        <p:spPr>
          <a:xfrm>
            <a:off x="2347920" y="300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Oval 119"/>
          <p:cNvSpPr/>
          <p:nvPr/>
        </p:nvSpPr>
        <p:spPr>
          <a:xfrm>
            <a:off x="976320" y="25480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Oval 120"/>
          <p:cNvSpPr/>
          <p:nvPr/>
        </p:nvSpPr>
        <p:spPr>
          <a:xfrm>
            <a:off x="1433520" y="25480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Oval 121"/>
          <p:cNvSpPr/>
          <p:nvPr/>
        </p:nvSpPr>
        <p:spPr>
          <a:xfrm>
            <a:off x="1890720" y="25480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Oval 122"/>
          <p:cNvSpPr/>
          <p:nvPr/>
        </p:nvSpPr>
        <p:spPr>
          <a:xfrm>
            <a:off x="2347920" y="25480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Oval 123"/>
          <p:cNvSpPr/>
          <p:nvPr/>
        </p:nvSpPr>
        <p:spPr>
          <a:xfrm>
            <a:off x="976320" y="2090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Oval 124"/>
          <p:cNvSpPr/>
          <p:nvPr/>
        </p:nvSpPr>
        <p:spPr>
          <a:xfrm>
            <a:off x="1433520" y="2090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Oval 125"/>
          <p:cNvSpPr/>
          <p:nvPr/>
        </p:nvSpPr>
        <p:spPr>
          <a:xfrm>
            <a:off x="1890720" y="2090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Oval 126"/>
          <p:cNvSpPr/>
          <p:nvPr/>
        </p:nvSpPr>
        <p:spPr>
          <a:xfrm>
            <a:off x="2347920" y="2090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Oval 127"/>
          <p:cNvSpPr/>
          <p:nvPr/>
        </p:nvSpPr>
        <p:spPr>
          <a:xfrm>
            <a:off x="976320" y="1633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128"/>
          <p:cNvSpPr/>
          <p:nvPr/>
        </p:nvSpPr>
        <p:spPr>
          <a:xfrm>
            <a:off x="1433520" y="1633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Oval 129"/>
          <p:cNvSpPr/>
          <p:nvPr/>
        </p:nvSpPr>
        <p:spPr>
          <a:xfrm>
            <a:off x="1890720" y="1633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Oval 130"/>
          <p:cNvSpPr/>
          <p:nvPr/>
        </p:nvSpPr>
        <p:spPr>
          <a:xfrm>
            <a:off x="2347920" y="1633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3" name="Straight Arrow Connector 131"/>
          <p:cNvCxnSpPr/>
          <p:nvPr/>
        </p:nvCxnSpPr>
        <p:spPr>
          <a:xfrm>
            <a:off x="637920" y="12193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4" name="Straight Arrow Connector 132"/>
          <p:cNvCxnSpPr/>
          <p:nvPr/>
        </p:nvCxnSpPr>
        <p:spPr>
          <a:xfrm>
            <a:off x="1095120" y="12193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5" name="Straight Arrow Connector 133"/>
          <p:cNvCxnSpPr/>
          <p:nvPr/>
        </p:nvCxnSpPr>
        <p:spPr>
          <a:xfrm>
            <a:off x="1552320" y="12193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6" name="Straight Arrow Connector 134"/>
          <p:cNvCxnSpPr/>
          <p:nvPr/>
        </p:nvCxnSpPr>
        <p:spPr>
          <a:xfrm>
            <a:off x="637920" y="16765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7" name="Straight Arrow Connector 135"/>
          <p:cNvCxnSpPr/>
          <p:nvPr/>
        </p:nvCxnSpPr>
        <p:spPr>
          <a:xfrm>
            <a:off x="1095120" y="16765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8" name="Straight Arrow Connector 136"/>
          <p:cNvCxnSpPr/>
          <p:nvPr/>
        </p:nvCxnSpPr>
        <p:spPr>
          <a:xfrm>
            <a:off x="1552320" y="16765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9" name="Straight Arrow Connector 137"/>
          <p:cNvCxnSpPr/>
          <p:nvPr/>
        </p:nvCxnSpPr>
        <p:spPr>
          <a:xfrm>
            <a:off x="637920" y="2131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70" name="Straight Arrow Connector 138"/>
          <p:cNvCxnSpPr/>
          <p:nvPr/>
        </p:nvCxnSpPr>
        <p:spPr>
          <a:xfrm>
            <a:off x="1095120" y="2131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71" name="Straight Arrow Connector 139"/>
          <p:cNvCxnSpPr/>
          <p:nvPr/>
        </p:nvCxnSpPr>
        <p:spPr>
          <a:xfrm>
            <a:off x="1552320" y="2131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72" name="Oval 140"/>
          <p:cNvSpPr/>
          <p:nvPr/>
        </p:nvSpPr>
        <p:spPr>
          <a:xfrm>
            <a:off x="487440" y="20462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Oval 141"/>
          <p:cNvSpPr/>
          <p:nvPr/>
        </p:nvSpPr>
        <p:spPr>
          <a:xfrm>
            <a:off x="944640" y="20462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Oval 142"/>
          <p:cNvSpPr/>
          <p:nvPr/>
        </p:nvSpPr>
        <p:spPr>
          <a:xfrm>
            <a:off x="1401840" y="20462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Oval 143"/>
          <p:cNvSpPr/>
          <p:nvPr/>
        </p:nvSpPr>
        <p:spPr>
          <a:xfrm>
            <a:off x="487440" y="1589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Oval 144"/>
          <p:cNvSpPr/>
          <p:nvPr/>
        </p:nvSpPr>
        <p:spPr>
          <a:xfrm>
            <a:off x="944640" y="1589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Oval 145"/>
          <p:cNvSpPr/>
          <p:nvPr/>
        </p:nvSpPr>
        <p:spPr>
          <a:xfrm>
            <a:off x="1401840" y="1589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Oval 146"/>
          <p:cNvSpPr/>
          <p:nvPr/>
        </p:nvSpPr>
        <p:spPr>
          <a:xfrm>
            <a:off x="487440" y="1131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Oval 147"/>
          <p:cNvSpPr/>
          <p:nvPr/>
        </p:nvSpPr>
        <p:spPr>
          <a:xfrm>
            <a:off x="944640" y="1131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Oval 148"/>
          <p:cNvSpPr/>
          <p:nvPr/>
        </p:nvSpPr>
        <p:spPr>
          <a:xfrm>
            <a:off x="1401840" y="1131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1" name="Straight Arrow Connector 149"/>
          <p:cNvCxnSpPr/>
          <p:nvPr/>
        </p:nvCxnSpPr>
        <p:spPr>
          <a:xfrm flipH="1">
            <a:off x="552240" y="41238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2" name="Straight Arrow Connector 150"/>
          <p:cNvCxnSpPr/>
          <p:nvPr/>
        </p:nvCxnSpPr>
        <p:spPr>
          <a:xfrm flipH="1">
            <a:off x="552240" y="45795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3" name="Straight Arrow Connector 151"/>
          <p:cNvCxnSpPr/>
          <p:nvPr/>
        </p:nvCxnSpPr>
        <p:spPr>
          <a:xfrm flipH="1">
            <a:off x="552240" y="50367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4" name="Straight Arrow Connector 152"/>
          <p:cNvCxnSpPr/>
          <p:nvPr/>
        </p:nvCxnSpPr>
        <p:spPr>
          <a:xfrm flipH="1">
            <a:off x="1022040" y="41223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5" name="Straight Arrow Connector 153"/>
          <p:cNvCxnSpPr/>
          <p:nvPr/>
        </p:nvCxnSpPr>
        <p:spPr>
          <a:xfrm flipH="1">
            <a:off x="1022040" y="45795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6" name="Straight Arrow Connector 154"/>
          <p:cNvCxnSpPr/>
          <p:nvPr/>
        </p:nvCxnSpPr>
        <p:spPr>
          <a:xfrm flipH="1">
            <a:off x="1022040" y="50367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7" name="Straight Arrow Connector 155"/>
          <p:cNvCxnSpPr/>
          <p:nvPr/>
        </p:nvCxnSpPr>
        <p:spPr>
          <a:xfrm flipH="1">
            <a:off x="1479240" y="41223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8" name="Straight Arrow Connector 156"/>
          <p:cNvCxnSpPr/>
          <p:nvPr/>
        </p:nvCxnSpPr>
        <p:spPr>
          <a:xfrm flipH="1">
            <a:off x="1479240" y="45795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9" name="Straight Arrow Connector 157"/>
          <p:cNvCxnSpPr/>
          <p:nvPr/>
        </p:nvCxnSpPr>
        <p:spPr>
          <a:xfrm flipH="1">
            <a:off x="1479240" y="50367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90" name="Oval 158"/>
          <p:cNvSpPr/>
          <p:nvPr/>
        </p:nvSpPr>
        <p:spPr>
          <a:xfrm>
            <a:off x="977760" y="5861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Oval 159"/>
          <p:cNvSpPr/>
          <p:nvPr/>
        </p:nvSpPr>
        <p:spPr>
          <a:xfrm>
            <a:off x="1434960" y="5861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Oval 160"/>
          <p:cNvSpPr/>
          <p:nvPr/>
        </p:nvSpPr>
        <p:spPr>
          <a:xfrm>
            <a:off x="1892160" y="5861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Oval 161"/>
          <p:cNvSpPr/>
          <p:nvPr/>
        </p:nvSpPr>
        <p:spPr>
          <a:xfrm>
            <a:off x="2349360" y="5861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Oval 162"/>
          <p:cNvSpPr/>
          <p:nvPr/>
        </p:nvSpPr>
        <p:spPr>
          <a:xfrm>
            <a:off x="977760" y="5403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Oval 163"/>
          <p:cNvSpPr/>
          <p:nvPr/>
        </p:nvSpPr>
        <p:spPr>
          <a:xfrm>
            <a:off x="1434960" y="5403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Oval 164"/>
          <p:cNvSpPr/>
          <p:nvPr/>
        </p:nvSpPr>
        <p:spPr>
          <a:xfrm>
            <a:off x="1892160" y="5403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Oval 165"/>
          <p:cNvSpPr/>
          <p:nvPr/>
        </p:nvSpPr>
        <p:spPr>
          <a:xfrm>
            <a:off x="2349360" y="5403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Oval 166"/>
          <p:cNvSpPr/>
          <p:nvPr/>
        </p:nvSpPr>
        <p:spPr>
          <a:xfrm>
            <a:off x="977760" y="4946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Oval 167"/>
          <p:cNvSpPr/>
          <p:nvPr/>
        </p:nvSpPr>
        <p:spPr>
          <a:xfrm>
            <a:off x="1434960" y="4946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Oval 168"/>
          <p:cNvSpPr/>
          <p:nvPr/>
        </p:nvSpPr>
        <p:spPr>
          <a:xfrm>
            <a:off x="1892160" y="4946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Oval 169"/>
          <p:cNvSpPr/>
          <p:nvPr/>
        </p:nvSpPr>
        <p:spPr>
          <a:xfrm>
            <a:off x="2349360" y="4946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Oval 170"/>
          <p:cNvSpPr/>
          <p:nvPr/>
        </p:nvSpPr>
        <p:spPr>
          <a:xfrm>
            <a:off x="977760" y="4489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Oval 171"/>
          <p:cNvSpPr/>
          <p:nvPr/>
        </p:nvSpPr>
        <p:spPr>
          <a:xfrm>
            <a:off x="1434960" y="4489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Oval 172"/>
          <p:cNvSpPr/>
          <p:nvPr/>
        </p:nvSpPr>
        <p:spPr>
          <a:xfrm>
            <a:off x="1892160" y="4489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Oval 173"/>
          <p:cNvSpPr/>
          <p:nvPr/>
        </p:nvSpPr>
        <p:spPr>
          <a:xfrm>
            <a:off x="2349360" y="4489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6" name="Straight Arrow Connector 174"/>
          <p:cNvCxnSpPr/>
          <p:nvPr/>
        </p:nvCxnSpPr>
        <p:spPr>
          <a:xfrm>
            <a:off x="639360" y="4073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7" name="Straight Arrow Connector 175"/>
          <p:cNvCxnSpPr/>
          <p:nvPr/>
        </p:nvCxnSpPr>
        <p:spPr>
          <a:xfrm>
            <a:off x="1096560" y="4073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8" name="Straight Arrow Connector 176"/>
          <p:cNvCxnSpPr/>
          <p:nvPr/>
        </p:nvCxnSpPr>
        <p:spPr>
          <a:xfrm>
            <a:off x="1553760" y="4073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9" name="Straight Arrow Connector 177"/>
          <p:cNvCxnSpPr/>
          <p:nvPr/>
        </p:nvCxnSpPr>
        <p:spPr>
          <a:xfrm>
            <a:off x="639360" y="45302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0" name="Straight Arrow Connector 178"/>
          <p:cNvCxnSpPr/>
          <p:nvPr/>
        </p:nvCxnSpPr>
        <p:spPr>
          <a:xfrm>
            <a:off x="1096560" y="45302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1" name="Straight Arrow Connector 179"/>
          <p:cNvCxnSpPr/>
          <p:nvPr/>
        </p:nvCxnSpPr>
        <p:spPr>
          <a:xfrm>
            <a:off x="1553760" y="45302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2" name="Straight Arrow Connector 180"/>
          <p:cNvCxnSpPr/>
          <p:nvPr/>
        </p:nvCxnSpPr>
        <p:spPr>
          <a:xfrm>
            <a:off x="639360" y="49863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3" name="Straight Arrow Connector 181"/>
          <p:cNvCxnSpPr/>
          <p:nvPr/>
        </p:nvCxnSpPr>
        <p:spPr>
          <a:xfrm>
            <a:off x="1096560" y="49863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4" name="Straight Arrow Connector 182"/>
          <p:cNvCxnSpPr/>
          <p:nvPr/>
        </p:nvCxnSpPr>
        <p:spPr>
          <a:xfrm>
            <a:off x="1553760" y="49863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15" name="Oval 183"/>
          <p:cNvSpPr/>
          <p:nvPr/>
        </p:nvSpPr>
        <p:spPr>
          <a:xfrm>
            <a:off x="488880" y="49006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Oval 184"/>
          <p:cNvSpPr/>
          <p:nvPr/>
        </p:nvSpPr>
        <p:spPr>
          <a:xfrm>
            <a:off x="946080" y="49006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Oval 185"/>
          <p:cNvSpPr/>
          <p:nvPr/>
        </p:nvSpPr>
        <p:spPr>
          <a:xfrm>
            <a:off x="1403280" y="49006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Oval 186"/>
          <p:cNvSpPr/>
          <p:nvPr/>
        </p:nvSpPr>
        <p:spPr>
          <a:xfrm>
            <a:off x="488880" y="4443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Oval 187"/>
          <p:cNvSpPr/>
          <p:nvPr/>
        </p:nvSpPr>
        <p:spPr>
          <a:xfrm>
            <a:off x="946080" y="4443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Oval 188"/>
          <p:cNvSpPr/>
          <p:nvPr/>
        </p:nvSpPr>
        <p:spPr>
          <a:xfrm>
            <a:off x="1403280" y="4443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Oval 189"/>
          <p:cNvSpPr/>
          <p:nvPr/>
        </p:nvSpPr>
        <p:spPr>
          <a:xfrm>
            <a:off x="488880" y="3986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Oval 190"/>
          <p:cNvSpPr/>
          <p:nvPr/>
        </p:nvSpPr>
        <p:spPr>
          <a:xfrm>
            <a:off x="946080" y="3986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Oval 191"/>
          <p:cNvSpPr/>
          <p:nvPr/>
        </p:nvSpPr>
        <p:spPr>
          <a:xfrm>
            <a:off x="1403280" y="3986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4" name="Straight Arrow Connector 223"/>
          <p:cNvCxnSpPr/>
          <p:nvPr/>
        </p:nvCxnSpPr>
        <p:spPr>
          <a:xfrm flipH="1">
            <a:off x="1947600" y="41256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5" name="Straight Arrow Connector 224"/>
          <p:cNvCxnSpPr/>
          <p:nvPr/>
        </p:nvCxnSpPr>
        <p:spPr>
          <a:xfrm flipH="1">
            <a:off x="1947600" y="45810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6" name="Straight Arrow Connector 225"/>
          <p:cNvCxnSpPr/>
          <p:nvPr/>
        </p:nvCxnSpPr>
        <p:spPr>
          <a:xfrm flipH="1">
            <a:off x="1947600" y="50382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7" name="Straight Arrow Connector 226"/>
          <p:cNvCxnSpPr/>
          <p:nvPr/>
        </p:nvCxnSpPr>
        <p:spPr>
          <a:xfrm flipH="1">
            <a:off x="2402640" y="50382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8" name="Straight Arrow Connector 227"/>
          <p:cNvCxnSpPr/>
          <p:nvPr/>
        </p:nvCxnSpPr>
        <p:spPr>
          <a:xfrm>
            <a:off x="2020680" y="40762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9" name="Straight Arrow Connector 228"/>
          <p:cNvCxnSpPr/>
          <p:nvPr/>
        </p:nvCxnSpPr>
        <p:spPr>
          <a:xfrm>
            <a:off x="2477880" y="40762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0" name="Straight Arrow Connector 229"/>
          <p:cNvCxnSpPr/>
          <p:nvPr/>
        </p:nvCxnSpPr>
        <p:spPr>
          <a:xfrm>
            <a:off x="2020680" y="45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1" name="Straight Arrow Connector 230"/>
          <p:cNvCxnSpPr/>
          <p:nvPr/>
        </p:nvCxnSpPr>
        <p:spPr>
          <a:xfrm>
            <a:off x="2477880" y="45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2" name="Straight Arrow Connector 231"/>
          <p:cNvCxnSpPr/>
          <p:nvPr/>
        </p:nvCxnSpPr>
        <p:spPr>
          <a:xfrm>
            <a:off x="2020680" y="49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3" name="Straight Arrow Connector 232"/>
          <p:cNvCxnSpPr/>
          <p:nvPr/>
        </p:nvCxnSpPr>
        <p:spPr>
          <a:xfrm>
            <a:off x="2477880" y="49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34" name="Oval 233"/>
          <p:cNvSpPr/>
          <p:nvPr/>
        </p:nvSpPr>
        <p:spPr>
          <a:xfrm>
            <a:off x="1870200" y="49021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Oval 234"/>
          <p:cNvSpPr/>
          <p:nvPr/>
        </p:nvSpPr>
        <p:spPr>
          <a:xfrm>
            <a:off x="2327400" y="49021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Oval 235"/>
          <p:cNvSpPr/>
          <p:nvPr/>
        </p:nvSpPr>
        <p:spPr>
          <a:xfrm>
            <a:off x="1870200" y="44449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Oval 236"/>
          <p:cNvSpPr/>
          <p:nvPr/>
        </p:nvSpPr>
        <p:spPr>
          <a:xfrm>
            <a:off x="2327400" y="44449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Oval 237"/>
          <p:cNvSpPr/>
          <p:nvPr/>
        </p:nvSpPr>
        <p:spPr>
          <a:xfrm>
            <a:off x="1870200" y="39877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Oval 238"/>
          <p:cNvSpPr/>
          <p:nvPr/>
        </p:nvSpPr>
        <p:spPr>
          <a:xfrm>
            <a:off x="2327400" y="39877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0" name="Straight Arrow Connector 240"/>
          <p:cNvCxnSpPr/>
          <p:nvPr/>
        </p:nvCxnSpPr>
        <p:spPr>
          <a:xfrm flipH="1">
            <a:off x="2400120" y="412884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1" name="Straight Arrow Connector 241"/>
          <p:cNvCxnSpPr/>
          <p:nvPr/>
        </p:nvCxnSpPr>
        <p:spPr>
          <a:xfrm flipH="1">
            <a:off x="2401560" y="45810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2" name="Straight Arrow Connector 242"/>
          <p:cNvCxnSpPr/>
          <p:nvPr/>
        </p:nvCxnSpPr>
        <p:spPr>
          <a:xfrm flipH="1">
            <a:off x="2835000" y="41256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3" name="Straight Arrow Connector 243"/>
          <p:cNvCxnSpPr/>
          <p:nvPr/>
        </p:nvCxnSpPr>
        <p:spPr>
          <a:xfrm flipH="1">
            <a:off x="2835000" y="45810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4" name="Straight Arrow Connector 244"/>
          <p:cNvCxnSpPr/>
          <p:nvPr/>
        </p:nvCxnSpPr>
        <p:spPr>
          <a:xfrm flipH="1">
            <a:off x="2835000" y="50382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5" name="Straight Arrow Connector 245"/>
          <p:cNvCxnSpPr/>
          <p:nvPr/>
        </p:nvCxnSpPr>
        <p:spPr>
          <a:xfrm>
            <a:off x="2920680" y="40762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6" name="Straight Arrow Connector 246"/>
          <p:cNvCxnSpPr/>
          <p:nvPr/>
        </p:nvCxnSpPr>
        <p:spPr>
          <a:xfrm>
            <a:off x="2920680" y="45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7" name="Straight Arrow Connector 247"/>
          <p:cNvCxnSpPr/>
          <p:nvPr/>
        </p:nvCxnSpPr>
        <p:spPr>
          <a:xfrm>
            <a:off x="2920680" y="49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48" name="Oval 248"/>
          <p:cNvSpPr/>
          <p:nvPr/>
        </p:nvSpPr>
        <p:spPr>
          <a:xfrm>
            <a:off x="2771640" y="49021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Oval 249"/>
          <p:cNvSpPr/>
          <p:nvPr/>
        </p:nvSpPr>
        <p:spPr>
          <a:xfrm>
            <a:off x="2771640" y="44449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Oval 250"/>
          <p:cNvSpPr/>
          <p:nvPr/>
        </p:nvSpPr>
        <p:spPr>
          <a:xfrm>
            <a:off x="2771640" y="39877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1" name="Straight Arrow Connector 351"/>
          <p:cNvCxnSpPr/>
          <p:nvPr/>
        </p:nvCxnSpPr>
        <p:spPr>
          <a:xfrm flipH="1">
            <a:off x="554760" y="5482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2" name="Straight Arrow Connector 352"/>
          <p:cNvCxnSpPr/>
          <p:nvPr/>
        </p:nvCxnSpPr>
        <p:spPr>
          <a:xfrm flipH="1">
            <a:off x="554760" y="59400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3" name="Straight Arrow Connector 353"/>
          <p:cNvCxnSpPr/>
          <p:nvPr/>
        </p:nvCxnSpPr>
        <p:spPr>
          <a:xfrm flipH="1">
            <a:off x="1023120" y="5482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4" name="Straight Arrow Connector 354"/>
          <p:cNvCxnSpPr/>
          <p:nvPr/>
        </p:nvCxnSpPr>
        <p:spPr>
          <a:xfrm flipH="1">
            <a:off x="1023120" y="59400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5" name="Straight Arrow Connector 355"/>
          <p:cNvCxnSpPr/>
          <p:nvPr/>
        </p:nvCxnSpPr>
        <p:spPr>
          <a:xfrm flipH="1">
            <a:off x="1480320" y="5482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6" name="Straight Arrow Connector 356"/>
          <p:cNvCxnSpPr/>
          <p:nvPr/>
        </p:nvCxnSpPr>
        <p:spPr>
          <a:xfrm flipH="1">
            <a:off x="1480320" y="59400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57" name="Oval 357"/>
          <p:cNvSpPr/>
          <p:nvPr/>
        </p:nvSpPr>
        <p:spPr>
          <a:xfrm>
            <a:off x="981000" y="58500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Oval 358"/>
          <p:cNvSpPr/>
          <p:nvPr/>
        </p:nvSpPr>
        <p:spPr>
          <a:xfrm>
            <a:off x="1438200" y="58500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Oval 359"/>
          <p:cNvSpPr/>
          <p:nvPr/>
        </p:nvSpPr>
        <p:spPr>
          <a:xfrm>
            <a:off x="1895400" y="58500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Oval 360"/>
          <p:cNvSpPr/>
          <p:nvPr/>
        </p:nvSpPr>
        <p:spPr>
          <a:xfrm>
            <a:off x="2352600" y="58500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Oval 361"/>
          <p:cNvSpPr/>
          <p:nvPr/>
        </p:nvSpPr>
        <p:spPr>
          <a:xfrm>
            <a:off x="981000" y="53928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Oval 362"/>
          <p:cNvSpPr/>
          <p:nvPr/>
        </p:nvSpPr>
        <p:spPr>
          <a:xfrm>
            <a:off x="1438200" y="53928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Oval 363"/>
          <p:cNvSpPr/>
          <p:nvPr/>
        </p:nvSpPr>
        <p:spPr>
          <a:xfrm>
            <a:off x="1895400" y="53928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Oval 364"/>
          <p:cNvSpPr/>
          <p:nvPr/>
        </p:nvSpPr>
        <p:spPr>
          <a:xfrm>
            <a:off x="2352600" y="53928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5" name="Straight Arrow Connector 365"/>
          <p:cNvCxnSpPr/>
          <p:nvPr/>
        </p:nvCxnSpPr>
        <p:spPr>
          <a:xfrm>
            <a:off x="641160" y="54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6" name="Straight Arrow Connector 366"/>
          <p:cNvCxnSpPr/>
          <p:nvPr/>
        </p:nvCxnSpPr>
        <p:spPr>
          <a:xfrm>
            <a:off x="1098360" y="54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7" name="Straight Arrow Connector 367"/>
          <p:cNvCxnSpPr/>
          <p:nvPr/>
        </p:nvCxnSpPr>
        <p:spPr>
          <a:xfrm>
            <a:off x="1555560" y="54334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8" name="Straight Arrow Connector 368"/>
          <p:cNvCxnSpPr/>
          <p:nvPr/>
        </p:nvCxnSpPr>
        <p:spPr>
          <a:xfrm>
            <a:off x="641160" y="58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9" name="Straight Arrow Connector 369"/>
          <p:cNvCxnSpPr/>
          <p:nvPr/>
        </p:nvCxnSpPr>
        <p:spPr>
          <a:xfrm>
            <a:off x="1098360" y="58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70" name="Straight Arrow Connector 370"/>
          <p:cNvCxnSpPr/>
          <p:nvPr/>
        </p:nvCxnSpPr>
        <p:spPr>
          <a:xfrm>
            <a:off x="1555560" y="58896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71" name="Oval 371"/>
          <p:cNvSpPr/>
          <p:nvPr/>
        </p:nvSpPr>
        <p:spPr>
          <a:xfrm>
            <a:off x="492120" y="58039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Oval 372"/>
          <p:cNvSpPr/>
          <p:nvPr/>
        </p:nvSpPr>
        <p:spPr>
          <a:xfrm>
            <a:off x="949320" y="58039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Oval 373"/>
          <p:cNvSpPr/>
          <p:nvPr/>
        </p:nvSpPr>
        <p:spPr>
          <a:xfrm>
            <a:off x="1406520" y="58039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Oval 374"/>
          <p:cNvSpPr/>
          <p:nvPr/>
        </p:nvSpPr>
        <p:spPr>
          <a:xfrm>
            <a:off x="492120" y="53467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Oval 375"/>
          <p:cNvSpPr/>
          <p:nvPr/>
        </p:nvSpPr>
        <p:spPr>
          <a:xfrm>
            <a:off x="949320" y="53467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Oval 376"/>
          <p:cNvSpPr/>
          <p:nvPr/>
        </p:nvSpPr>
        <p:spPr>
          <a:xfrm>
            <a:off x="1406520" y="53467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7" name="Straight Arrow Connector 377"/>
          <p:cNvCxnSpPr/>
          <p:nvPr/>
        </p:nvCxnSpPr>
        <p:spPr>
          <a:xfrm flipH="1">
            <a:off x="1948680" y="54846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78" name="Straight Arrow Connector 378"/>
          <p:cNvCxnSpPr/>
          <p:nvPr/>
        </p:nvCxnSpPr>
        <p:spPr>
          <a:xfrm flipH="1">
            <a:off x="1948680" y="5941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79" name="Straight Arrow Connector 379"/>
          <p:cNvCxnSpPr/>
          <p:nvPr/>
        </p:nvCxnSpPr>
        <p:spPr>
          <a:xfrm flipH="1">
            <a:off x="2404800" y="59418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80" name="Straight Arrow Connector 380"/>
          <p:cNvCxnSpPr/>
          <p:nvPr/>
        </p:nvCxnSpPr>
        <p:spPr>
          <a:xfrm>
            <a:off x="2022120" y="543564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81" name="Straight Arrow Connector 381"/>
          <p:cNvCxnSpPr/>
          <p:nvPr/>
        </p:nvCxnSpPr>
        <p:spPr>
          <a:xfrm>
            <a:off x="2479320" y="543564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82" name="Straight Arrow Connector 382"/>
          <p:cNvCxnSpPr/>
          <p:nvPr/>
        </p:nvCxnSpPr>
        <p:spPr>
          <a:xfrm>
            <a:off x="2022120" y="58906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83" name="Straight Arrow Connector 383"/>
          <p:cNvCxnSpPr/>
          <p:nvPr/>
        </p:nvCxnSpPr>
        <p:spPr>
          <a:xfrm>
            <a:off x="2479320" y="58906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84" name="Oval 384"/>
          <p:cNvSpPr/>
          <p:nvPr/>
        </p:nvSpPr>
        <p:spPr>
          <a:xfrm>
            <a:off x="1873080" y="580536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Oval 385"/>
          <p:cNvSpPr/>
          <p:nvPr/>
        </p:nvSpPr>
        <p:spPr>
          <a:xfrm>
            <a:off x="2330280" y="580536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Oval 386"/>
          <p:cNvSpPr/>
          <p:nvPr/>
        </p:nvSpPr>
        <p:spPr>
          <a:xfrm>
            <a:off x="1873080" y="534816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Oval 387"/>
          <p:cNvSpPr/>
          <p:nvPr/>
        </p:nvSpPr>
        <p:spPr>
          <a:xfrm>
            <a:off x="2330280" y="534816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8" name="Straight Arrow Connector 388"/>
          <p:cNvCxnSpPr/>
          <p:nvPr/>
        </p:nvCxnSpPr>
        <p:spPr>
          <a:xfrm flipH="1">
            <a:off x="2404800" y="54846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89" name="Straight Arrow Connector 389"/>
          <p:cNvCxnSpPr/>
          <p:nvPr/>
        </p:nvCxnSpPr>
        <p:spPr>
          <a:xfrm flipH="1">
            <a:off x="2836080" y="54846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0" name="Straight Arrow Connector 390"/>
          <p:cNvCxnSpPr/>
          <p:nvPr/>
        </p:nvCxnSpPr>
        <p:spPr>
          <a:xfrm flipH="1">
            <a:off x="2836080" y="5941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1" name="Straight Arrow Connector 391"/>
          <p:cNvCxnSpPr/>
          <p:nvPr/>
        </p:nvCxnSpPr>
        <p:spPr>
          <a:xfrm>
            <a:off x="2923920" y="543564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2" name="Straight Arrow Connector 392"/>
          <p:cNvCxnSpPr/>
          <p:nvPr/>
        </p:nvCxnSpPr>
        <p:spPr>
          <a:xfrm>
            <a:off x="2923920" y="589068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93" name="Oval 393"/>
          <p:cNvSpPr/>
          <p:nvPr/>
        </p:nvSpPr>
        <p:spPr>
          <a:xfrm>
            <a:off x="2773440" y="58053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Oval 394"/>
          <p:cNvSpPr/>
          <p:nvPr/>
        </p:nvSpPr>
        <p:spPr>
          <a:xfrm>
            <a:off x="2773440" y="5348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5" name="Straight Arrow Connector 395"/>
          <p:cNvCxnSpPr/>
          <p:nvPr/>
        </p:nvCxnSpPr>
        <p:spPr>
          <a:xfrm flipH="1">
            <a:off x="554760" y="636408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6" name="Straight Arrow Connector 396"/>
          <p:cNvCxnSpPr/>
          <p:nvPr/>
        </p:nvCxnSpPr>
        <p:spPr>
          <a:xfrm flipH="1">
            <a:off x="1023120" y="636228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7" name="Straight Arrow Connector 397"/>
          <p:cNvCxnSpPr/>
          <p:nvPr/>
        </p:nvCxnSpPr>
        <p:spPr>
          <a:xfrm flipH="1">
            <a:off x="1480320" y="636228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8" name="Straight Arrow Connector 398"/>
          <p:cNvCxnSpPr/>
          <p:nvPr/>
        </p:nvCxnSpPr>
        <p:spPr>
          <a:xfrm>
            <a:off x="641160" y="63151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9" name="Straight Arrow Connector 399"/>
          <p:cNvCxnSpPr/>
          <p:nvPr/>
        </p:nvCxnSpPr>
        <p:spPr>
          <a:xfrm>
            <a:off x="1098360" y="63151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00" name="Straight Arrow Connector 400"/>
          <p:cNvCxnSpPr/>
          <p:nvPr/>
        </p:nvCxnSpPr>
        <p:spPr>
          <a:xfrm>
            <a:off x="1555560" y="63151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01" name="Oval 401"/>
          <p:cNvSpPr/>
          <p:nvPr/>
        </p:nvSpPr>
        <p:spPr>
          <a:xfrm>
            <a:off x="492120" y="6226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402"/>
          <p:cNvSpPr/>
          <p:nvPr/>
        </p:nvSpPr>
        <p:spPr>
          <a:xfrm>
            <a:off x="949320" y="6226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403"/>
          <p:cNvSpPr/>
          <p:nvPr/>
        </p:nvSpPr>
        <p:spPr>
          <a:xfrm>
            <a:off x="1406520" y="6226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4" name="Straight Arrow Connector 404"/>
          <p:cNvCxnSpPr/>
          <p:nvPr/>
        </p:nvCxnSpPr>
        <p:spPr>
          <a:xfrm flipH="1">
            <a:off x="1948680" y="63669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05" name="Straight Arrow Connector 405"/>
          <p:cNvCxnSpPr/>
          <p:nvPr/>
        </p:nvCxnSpPr>
        <p:spPr>
          <a:xfrm>
            <a:off x="2022120" y="63162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06" name="Straight Arrow Connector 406"/>
          <p:cNvCxnSpPr/>
          <p:nvPr/>
        </p:nvCxnSpPr>
        <p:spPr>
          <a:xfrm>
            <a:off x="2479320" y="63162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07" name="Oval 407"/>
          <p:cNvSpPr/>
          <p:nvPr/>
        </p:nvSpPr>
        <p:spPr>
          <a:xfrm>
            <a:off x="1873080" y="622944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Oval 408"/>
          <p:cNvSpPr/>
          <p:nvPr/>
        </p:nvSpPr>
        <p:spPr>
          <a:xfrm>
            <a:off x="2330280" y="622944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9" name="Straight Arrow Connector 409"/>
          <p:cNvCxnSpPr/>
          <p:nvPr/>
        </p:nvCxnSpPr>
        <p:spPr>
          <a:xfrm flipH="1">
            <a:off x="2401560" y="63687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10" name="Straight Arrow Connector 410"/>
          <p:cNvCxnSpPr/>
          <p:nvPr/>
        </p:nvCxnSpPr>
        <p:spPr>
          <a:xfrm flipH="1">
            <a:off x="2836080" y="63669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11" name="Straight Arrow Connector 411"/>
          <p:cNvCxnSpPr/>
          <p:nvPr/>
        </p:nvCxnSpPr>
        <p:spPr>
          <a:xfrm>
            <a:off x="2923920" y="63162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12" name="Oval 412"/>
          <p:cNvSpPr/>
          <p:nvPr/>
        </p:nvSpPr>
        <p:spPr>
          <a:xfrm>
            <a:off x="2773440" y="62294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4x4 block-based FA, with Directional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188-39EC-4B93-9B56-44169864452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Oval 7"/>
          <p:cNvSpPr/>
          <p:nvPr/>
        </p:nvSpPr>
        <p:spPr>
          <a:xfrm>
            <a:off x="266760" y="2378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Oval 8"/>
          <p:cNvSpPr/>
          <p:nvPr/>
        </p:nvSpPr>
        <p:spPr>
          <a:xfrm>
            <a:off x="723960" y="2378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Oval 9"/>
          <p:cNvSpPr/>
          <p:nvPr/>
        </p:nvSpPr>
        <p:spPr>
          <a:xfrm>
            <a:off x="1181160" y="2378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Oval 10"/>
          <p:cNvSpPr/>
          <p:nvPr/>
        </p:nvSpPr>
        <p:spPr>
          <a:xfrm>
            <a:off x="1638360" y="2378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Oval 11"/>
          <p:cNvSpPr/>
          <p:nvPr/>
        </p:nvSpPr>
        <p:spPr>
          <a:xfrm>
            <a:off x="266760" y="19209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Oval 12"/>
          <p:cNvSpPr/>
          <p:nvPr/>
        </p:nvSpPr>
        <p:spPr>
          <a:xfrm>
            <a:off x="723960" y="19209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Oval 13"/>
          <p:cNvSpPr/>
          <p:nvPr/>
        </p:nvSpPr>
        <p:spPr>
          <a:xfrm>
            <a:off x="1181160" y="19209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Oval 14"/>
          <p:cNvSpPr/>
          <p:nvPr/>
        </p:nvSpPr>
        <p:spPr>
          <a:xfrm>
            <a:off x="1638360" y="19209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Oval 15"/>
          <p:cNvSpPr/>
          <p:nvPr/>
        </p:nvSpPr>
        <p:spPr>
          <a:xfrm>
            <a:off x="266760" y="14637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Oval 16"/>
          <p:cNvSpPr/>
          <p:nvPr/>
        </p:nvSpPr>
        <p:spPr>
          <a:xfrm>
            <a:off x="723960" y="14637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Oval 17"/>
          <p:cNvSpPr/>
          <p:nvPr/>
        </p:nvSpPr>
        <p:spPr>
          <a:xfrm>
            <a:off x="1181160" y="14637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Oval 18"/>
          <p:cNvSpPr/>
          <p:nvPr/>
        </p:nvSpPr>
        <p:spPr>
          <a:xfrm>
            <a:off x="1638360" y="14637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Oval 19"/>
          <p:cNvSpPr/>
          <p:nvPr/>
        </p:nvSpPr>
        <p:spPr>
          <a:xfrm>
            <a:off x="266760" y="10065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Oval 20"/>
          <p:cNvSpPr/>
          <p:nvPr/>
        </p:nvSpPr>
        <p:spPr>
          <a:xfrm>
            <a:off x="723960" y="10065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Oval 21"/>
          <p:cNvSpPr/>
          <p:nvPr/>
        </p:nvSpPr>
        <p:spPr>
          <a:xfrm>
            <a:off x="1181160" y="10065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Oval 22"/>
          <p:cNvSpPr/>
          <p:nvPr/>
        </p:nvSpPr>
        <p:spPr>
          <a:xfrm>
            <a:off x="1638360" y="10065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2" name="Straight Arrow Connector 23"/>
          <p:cNvCxnSpPr>
            <a:stCxn id="4128" idx="6"/>
          </p:cNvCxnSpPr>
          <p:nvPr/>
        </p:nvCxnSpPr>
        <p:spPr>
          <a:xfrm>
            <a:off x="418680" y="10821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3" name="Straight Arrow Connector 24"/>
          <p:cNvCxnSpPr/>
          <p:nvPr/>
        </p:nvCxnSpPr>
        <p:spPr>
          <a:xfrm>
            <a:off x="875880" y="10821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4" name="Straight Arrow Connector 25"/>
          <p:cNvCxnSpPr/>
          <p:nvPr/>
        </p:nvCxnSpPr>
        <p:spPr>
          <a:xfrm>
            <a:off x="1333080" y="10821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5" name="Straight Arrow Connector 26"/>
          <p:cNvCxnSpPr/>
          <p:nvPr/>
        </p:nvCxnSpPr>
        <p:spPr>
          <a:xfrm>
            <a:off x="418680" y="15393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6" name="Straight Arrow Connector 27"/>
          <p:cNvCxnSpPr/>
          <p:nvPr/>
        </p:nvCxnSpPr>
        <p:spPr>
          <a:xfrm>
            <a:off x="875880" y="15393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7" name="Straight Arrow Connector 28"/>
          <p:cNvCxnSpPr/>
          <p:nvPr/>
        </p:nvCxnSpPr>
        <p:spPr>
          <a:xfrm>
            <a:off x="1333080" y="1539360"/>
            <a:ext cx="22932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8" name="Straight Arrow Connector 29"/>
          <p:cNvCxnSpPr/>
          <p:nvPr/>
        </p:nvCxnSpPr>
        <p:spPr>
          <a:xfrm>
            <a:off x="418680" y="1995480"/>
            <a:ext cx="229320" cy="2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39" name="Straight Arrow Connector 30"/>
          <p:cNvCxnSpPr/>
          <p:nvPr/>
        </p:nvCxnSpPr>
        <p:spPr>
          <a:xfrm>
            <a:off x="875880" y="1995480"/>
            <a:ext cx="229320" cy="2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40" name="Straight Arrow Connector 31"/>
          <p:cNvCxnSpPr/>
          <p:nvPr/>
        </p:nvCxnSpPr>
        <p:spPr>
          <a:xfrm>
            <a:off x="1333080" y="1995480"/>
            <a:ext cx="229320" cy="2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sp>
        <p:nvSpPr>
          <p:cNvPr id="4141" name="Oval 32"/>
          <p:cNvSpPr/>
          <p:nvPr/>
        </p:nvSpPr>
        <p:spPr>
          <a:xfrm>
            <a:off x="2508120" y="2378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Oval 33"/>
          <p:cNvSpPr/>
          <p:nvPr/>
        </p:nvSpPr>
        <p:spPr>
          <a:xfrm>
            <a:off x="2965320" y="2378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Oval 34"/>
          <p:cNvSpPr/>
          <p:nvPr/>
        </p:nvSpPr>
        <p:spPr>
          <a:xfrm>
            <a:off x="3422520" y="2378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Oval 35"/>
          <p:cNvSpPr/>
          <p:nvPr/>
        </p:nvSpPr>
        <p:spPr>
          <a:xfrm>
            <a:off x="3879720" y="23781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Oval 36"/>
          <p:cNvSpPr/>
          <p:nvPr/>
        </p:nvSpPr>
        <p:spPr>
          <a:xfrm>
            <a:off x="2508120" y="1920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Oval 37"/>
          <p:cNvSpPr/>
          <p:nvPr/>
        </p:nvSpPr>
        <p:spPr>
          <a:xfrm>
            <a:off x="2965320" y="1920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Oval 38"/>
          <p:cNvSpPr/>
          <p:nvPr/>
        </p:nvSpPr>
        <p:spPr>
          <a:xfrm>
            <a:off x="3422520" y="1920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Oval 39"/>
          <p:cNvSpPr/>
          <p:nvPr/>
        </p:nvSpPr>
        <p:spPr>
          <a:xfrm>
            <a:off x="3879720" y="19209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Oval 40"/>
          <p:cNvSpPr/>
          <p:nvPr/>
        </p:nvSpPr>
        <p:spPr>
          <a:xfrm>
            <a:off x="2508120" y="1463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Oval 41"/>
          <p:cNvSpPr/>
          <p:nvPr/>
        </p:nvSpPr>
        <p:spPr>
          <a:xfrm>
            <a:off x="2965320" y="1463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Oval 42"/>
          <p:cNvSpPr/>
          <p:nvPr/>
        </p:nvSpPr>
        <p:spPr>
          <a:xfrm>
            <a:off x="3422520" y="1463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Oval 43"/>
          <p:cNvSpPr/>
          <p:nvPr/>
        </p:nvSpPr>
        <p:spPr>
          <a:xfrm>
            <a:off x="3879720" y="14637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Oval 44"/>
          <p:cNvSpPr/>
          <p:nvPr/>
        </p:nvSpPr>
        <p:spPr>
          <a:xfrm>
            <a:off x="2508120" y="1006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Oval 45"/>
          <p:cNvSpPr/>
          <p:nvPr/>
        </p:nvSpPr>
        <p:spPr>
          <a:xfrm>
            <a:off x="2965320" y="1006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Oval 46"/>
          <p:cNvSpPr/>
          <p:nvPr/>
        </p:nvSpPr>
        <p:spPr>
          <a:xfrm>
            <a:off x="3422520" y="1006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Oval 47"/>
          <p:cNvSpPr/>
          <p:nvPr/>
        </p:nvSpPr>
        <p:spPr>
          <a:xfrm>
            <a:off x="3879720" y="100656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Oval 48"/>
          <p:cNvSpPr/>
          <p:nvPr/>
        </p:nvSpPr>
        <p:spPr>
          <a:xfrm>
            <a:off x="266760" y="45878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Oval 49"/>
          <p:cNvSpPr/>
          <p:nvPr/>
        </p:nvSpPr>
        <p:spPr>
          <a:xfrm>
            <a:off x="723960" y="45878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Oval 50"/>
          <p:cNvSpPr/>
          <p:nvPr/>
        </p:nvSpPr>
        <p:spPr>
          <a:xfrm>
            <a:off x="1181160" y="45878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Oval 51"/>
          <p:cNvSpPr/>
          <p:nvPr/>
        </p:nvSpPr>
        <p:spPr>
          <a:xfrm>
            <a:off x="1638360" y="45878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Oval 52"/>
          <p:cNvSpPr/>
          <p:nvPr/>
        </p:nvSpPr>
        <p:spPr>
          <a:xfrm>
            <a:off x="266760" y="41306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Oval 53"/>
          <p:cNvSpPr/>
          <p:nvPr/>
        </p:nvSpPr>
        <p:spPr>
          <a:xfrm>
            <a:off x="723960" y="41306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Oval 54"/>
          <p:cNvSpPr/>
          <p:nvPr/>
        </p:nvSpPr>
        <p:spPr>
          <a:xfrm>
            <a:off x="1181160" y="41306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Oval 55"/>
          <p:cNvSpPr/>
          <p:nvPr/>
        </p:nvSpPr>
        <p:spPr>
          <a:xfrm>
            <a:off x="1638360" y="41306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Oval 56"/>
          <p:cNvSpPr/>
          <p:nvPr/>
        </p:nvSpPr>
        <p:spPr>
          <a:xfrm>
            <a:off x="266760" y="36734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Oval 57"/>
          <p:cNvSpPr/>
          <p:nvPr/>
        </p:nvSpPr>
        <p:spPr>
          <a:xfrm>
            <a:off x="723960" y="36734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Oval 58"/>
          <p:cNvSpPr/>
          <p:nvPr/>
        </p:nvSpPr>
        <p:spPr>
          <a:xfrm>
            <a:off x="1181160" y="36734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Oval 59"/>
          <p:cNvSpPr/>
          <p:nvPr/>
        </p:nvSpPr>
        <p:spPr>
          <a:xfrm>
            <a:off x="1638360" y="36734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Oval 60"/>
          <p:cNvSpPr/>
          <p:nvPr/>
        </p:nvSpPr>
        <p:spPr>
          <a:xfrm>
            <a:off x="266760" y="32162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Oval 61"/>
          <p:cNvSpPr/>
          <p:nvPr/>
        </p:nvSpPr>
        <p:spPr>
          <a:xfrm>
            <a:off x="723960" y="32162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Oval 62"/>
          <p:cNvSpPr/>
          <p:nvPr/>
        </p:nvSpPr>
        <p:spPr>
          <a:xfrm>
            <a:off x="1181160" y="32162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Oval 63"/>
          <p:cNvSpPr/>
          <p:nvPr/>
        </p:nvSpPr>
        <p:spPr>
          <a:xfrm>
            <a:off x="1638360" y="321624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Oval 64"/>
          <p:cNvSpPr/>
          <p:nvPr/>
        </p:nvSpPr>
        <p:spPr>
          <a:xfrm>
            <a:off x="2508120" y="45878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Oval 65"/>
          <p:cNvSpPr/>
          <p:nvPr/>
        </p:nvSpPr>
        <p:spPr>
          <a:xfrm>
            <a:off x="2965320" y="45878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Oval 66"/>
          <p:cNvSpPr/>
          <p:nvPr/>
        </p:nvSpPr>
        <p:spPr>
          <a:xfrm>
            <a:off x="3422520" y="45878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Oval 67"/>
          <p:cNvSpPr/>
          <p:nvPr/>
        </p:nvSpPr>
        <p:spPr>
          <a:xfrm>
            <a:off x="3879720" y="45878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Oval 68"/>
          <p:cNvSpPr/>
          <p:nvPr/>
        </p:nvSpPr>
        <p:spPr>
          <a:xfrm>
            <a:off x="2508120" y="41306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Oval 69"/>
          <p:cNvSpPr/>
          <p:nvPr/>
        </p:nvSpPr>
        <p:spPr>
          <a:xfrm>
            <a:off x="2965320" y="41306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Oval 70"/>
          <p:cNvSpPr/>
          <p:nvPr/>
        </p:nvSpPr>
        <p:spPr>
          <a:xfrm>
            <a:off x="3422520" y="41306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Oval 71"/>
          <p:cNvSpPr/>
          <p:nvPr/>
        </p:nvSpPr>
        <p:spPr>
          <a:xfrm>
            <a:off x="3879720" y="41306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Oval 72"/>
          <p:cNvSpPr/>
          <p:nvPr/>
        </p:nvSpPr>
        <p:spPr>
          <a:xfrm>
            <a:off x="2508120" y="36734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Oval 73"/>
          <p:cNvSpPr/>
          <p:nvPr/>
        </p:nvSpPr>
        <p:spPr>
          <a:xfrm>
            <a:off x="2965320" y="36734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Oval 74"/>
          <p:cNvSpPr/>
          <p:nvPr/>
        </p:nvSpPr>
        <p:spPr>
          <a:xfrm>
            <a:off x="3422520" y="36734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Oval 75"/>
          <p:cNvSpPr/>
          <p:nvPr/>
        </p:nvSpPr>
        <p:spPr>
          <a:xfrm>
            <a:off x="3879720" y="36734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Oval 76"/>
          <p:cNvSpPr/>
          <p:nvPr/>
        </p:nvSpPr>
        <p:spPr>
          <a:xfrm>
            <a:off x="2508120" y="32162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Oval 77"/>
          <p:cNvSpPr/>
          <p:nvPr/>
        </p:nvSpPr>
        <p:spPr>
          <a:xfrm>
            <a:off x="2965320" y="32162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Oval 78"/>
          <p:cNvSpPr/>
          <p:nvPr/>
        </p:nvSpPr>
        <p:spPr>
          <a:xfrm>
            <a:off x="3422520" y="32162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Oval 79"/>
          <p:cNvSpPr/>
          <p:nvPr/>
        </p:nvSpPr>
        <p:spPr>
          <a:xfrm>
            <a:off x="3879720" y="321624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9" name="Straight Arrow Connector 80"/>
          <p:cNvCxnSpPr>
            <a:stCxn id="4153" idx="4"/>
          </p:cNvCxnSpPr>
          <p:nvPr/>
        </p:nvCxnSpPr>
        <p:spPr>
          <a:xfrm flipH="1">
            <a:off x="2584080" y="11602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0" name="Straight Arrow Connector 81"/>
          <p:cNvCxnSpPr/>
          <p:nvPr/>
        </p:nvCxnSpPr>
        <p:spPr>
          <a:xfrm flipH="1">
            <a:off x="2584080" y="16156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1" name="Straight Arrow Connector 82"/>
          <p:cNvCxnSpPr/>
          <p:nvPr/>
        </p:nvCxnSpPr>
        <p:spPr>
          <a:xfrm flipH="1">
            <a:off x="2584080" y="20728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2" name="Straight Arrow Connector 83"/>
          <p:cNvCxnSpPr/>
          <p:nvPr/>
        </p:nvCxnSpPr>
        <p:spPr>
          <a:xfrm flipH="1">
            <a:off x="3039840" y="11584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3" name="Straight Arrow Connector 84"/>
          <p:cNvCxnSpPr/>
          <p:nvPr/>
        </p:nvCxnSpPr>
        <p:spPr>
          <a:xfrm flipH="1">
            <a:off x="3039840" y="16156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4" name="Straight Arrow Connector 85"/>
          <p:cNvCxnSpPr/>
          <p:nvPr/>
        </p:nvCxnSpPr>
        <p:spPr>
          <a:xfrm flipH="1">
            <a:off x="3039840" y="20728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5" name="Straight Arrow Connector 86"/>
          <p:cNvCxnSpPr/>
          <p:nvPr/>
        </p:nvCxnSpPr>
        <p:spPr>
          <a:xfrm flipH="1">
            <a:off x="3497040" y="11584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6" name="Straight Arrow Connector 87"/>
          <p:cNvCxnSpPr/>
          <p:nvPr/>
        </p:nvCxnSpPr>
        <p:spPr>
          <a:xfrm flipH="1">
            <a:off x="3497040" y="16156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7" name="Straight Arrow Connector 88"/>
          <p:cNvCxnSpPr/>
          <p:nvPr/>
        </p:nvCxnSpPr>
        <p:spPr>
          <a:xfrm flipH="1">
            <a:off x="3497040" y="2072880"/>
            <a:ext cx="2160" cy="229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8" name="Straight Arrow Connector 89"/>
          <p:cNvCxnSpPr>
            <a:stCxn id="4169" idx="5"/>
          </p:cNvCxnSpPr>
          <p:nvPr/>
        </p:nvCxnSpPr>
        <p:spPr>
          <a:xfrm>
            <a:off x="39564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199" name="Straight Arrow Connector 90"/>
          <p:cNvCxnSpPr/>
          <p:nvPr/>
        </p:nvCxnSpPr>
        <p:spPr>
          <a:xfrm>
            <a:off x="85284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0" name="Straight Arrow Connector 91"/>
          <p:cNvCxnSpPr/>
          <p:nvPr/>
        </p:nvCxnSpPr>
        <p:spPr>
          <a:xfrm>
            <a:off x="133236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1" name="Straight Arrow Connector 92"/>
          <p:cNvCxnSpPr/>
          <p:nvPr/>
        </p:nvCxnSpPr>
        <p:spPr>
          <a:xfrm>
            <a:off x="41796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2" name="Straight Arrow Connector 93"/>
          <p:cNvCxnSpPr/>
          <p:nvPr/>
        </p:nvCxnSpPr>
        <p:spPr>
          <a:xfrm>
            <a:off x="87516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3" name="Straight Arrow Connector 94"/>
          <p:cNvCxnSpPr/>
          <p:nvPr/>
        </p:nvCxnSpPr>
        <p:spPr>
          <a:xfrm>
            <a:off x="135468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4" name="Straight Arrow Connector 95"/>
          <p:cNvCxnSpPr/>
          <p:nvPr/>
        </p:nvCxnSpPr>
        <p:spPr>
          <a:xfrm>
            <a:off x="41796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5" name="Straight Arrow Connector 96"/>
          <p:cNvCxnSpPr/>
          <p:nvPr/>
        </p:nvCxnSpPr>
        <p:spPr>
          <a:xfrm>
            <a:off x="87516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6" name="Straight Arrow Connector 97"/>
          <p:cNvCxnSpPr/>
          <p:nvPr/>
        </p:nvCxnSpPr>
        <p:spPr>
          <a:xfrm>
            <a:off x="135468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7" name="Straight Arrow Connector 98"/>
          <p:cNvCxnSpPr>
            <a:stCxn id="4186" idx="3"/>
          </p:cNvCxnSpPr>
          <p:nvPr/>
        </p:nvCxnSpPr>
        <p:spPr>
          <a:xfrm flipH="1">
            <a:off x="273600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8" name="Straight Arrow Connector 99"/>
          <p:cNvCxnSpPr/>
          <p:nvPr/>
        </p:nvCxnSpPr>
        <p:spPr>
          <a:xfrm flipH="1">
            <a:off x="319320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09" name="Straight Arrow Connector 100"/>
          <p:cNvCxnSpPr/>
          <p:nvPr/>
        </p:nvCxnSpPr>
        <p:spPr>
          <a:xfrm flipH="1">
            <a:off x="2278800" y="33465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0" name="Straight Arrow Connector 101"/>
          <p:cNvCxnSpPr/>
          <p:nvPr/>
        </p:nvCxnSpPr>
        <p:spPr>
          <a:xfrm flipH="1">
            <a:off x="273600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1" name="Straight Arrow Connector 102"/>
          <p:cNvCxnSpPr/>
          <p:nvPr/>
        </p:nvCxnSpPr>
        <p:spPr>
          <a:xfrm flipH="1">
            <a:off x="319320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2" name="Straight Arrow Connector 103"/>
          <p:cNvCxnSpPr/>
          <p:nvPr/>
        </p:nvCxnSpPr>
        <p:spPr>
          <a:xfrm flipH="1">
            <a:off x="2278800" y="38037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3" name="Straight Arrow Connector 104"/>
          <p:cNvCxnSpPr/>
          <p:nvPr/>
        </p:nvCxnSpPr>
        <p:spPr>
          <a:xfrm flipH="1">
            <a:off x="273600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4" name="Straight Arrow Connector 105"/>
          <p:cNvCxnSpPr/>
          <p:nvPr/>
        </p:nvCxnSpPr>
        <p:spPr>
          <a:xfrm flipH="1">
            <a:off x="319320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cxnSp>
        <p:nvCxnSpPr>
          <p:cNvPr id="4215" name="Straight Arrow Connector 106"/>
          <p:cNvCxnSpPr/>
          <p:nvPr/>
        </p:nvCxnSpPr>
        <p:spPr>
          <a:xfrm flipH="1">
            <a:off x="2278800" y="4260960"/>
            <a:ext cx="251640" cy="25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</p:cxnSp>
      <p:sp>
        <p:nvSpPr>
          <p:cNvPr id="4216" name="TextBox 107"/>
          <p:cNvSpPr/>
          <p:nvPr/>
        </p:nvSpPr>
        <p:spPr>
          <a:xfrm>
            <a:off x="4162320" y="941400"/>
            <a:ext cx="4981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4x4 block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[-1,2,-1] or [1,-1] on h, v, diagonal down, diagonal up (D221, E108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and v already computed in HM2.0 *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 blocks into smallest gradien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peration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only 4 filter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7" name="Picture 8" descr=""/>
          <p:cNvPicPr/>
          <p:nvPr/>
        </p:nvPicPr>
        <p:blipFill>
          <a:blip r:embed="rId1"/>
          <a:stretch/>
        </p:blipFill>
        <p:spPr>
          <a:xfrm>
            <a:off x="4165560" y="3726000"/>
            <a:ext cx="4826160" cy="30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6AE-B0FC-4458-84CB-BC3FDB6E228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0" name=""/>
          <p:cNvGraphicFramePr/>
          <p:nvPr/>
        </p:nvGraphicFramePr>
        <p:xfrm>
          <a:off x="1619280" y="1432080"/>
          <a:ext cx="7224840" cy="3630600"/>
        </p:xfrm>
        <a:graphic>
          <a:graphicData uri="http://schemas.openxmlformats.org/drawingml/2006/table">
            <a:tbl>
              <a:tblPr/>
              <a:tblGrid>
                <a:gridCol w="1104840"/>
                <a:gridCol w="663480"/>
                <a:gridCol w="760680"/>
                <a:gridCol w="761760"/>
                <a:gridCol w="192240"/>
                <a:gridCol w="214200"/>
                <a:gridCol w="192240"/>
                <a:gridCol w="557280"/>
                <a:gridCol w="555480"/>
                <a:gridCol w="555480"/>
                <a:gridCol w="555840"/>
                <a:gridCol w="555480"/>
                <a:gridCol w="555840"/>
              </a:tblGrid>
              <a:tr h="550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adaptation with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rectional featur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p to 4 filter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D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B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C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D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ass E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D-rate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c. Time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1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5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c. time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%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2:16:24Z</dcterms:created>
  <dc:creator>WSL</dc:creator>
  <dc:description/>
  <dc:language>en-US</dc:language>
  <cp:lastModifiedBy>wlai</cp:lastModifiedBy>
  <dcterms:modified xsi:type="dcterms:W3CDTF">2011-03-18T19:46:37Z</dcterms:modified>
  <cp:revision>5553</cp:revision>
  <dc:subject>RF/Modem Workshop</dc:subject>
  <dc:title>WSL Introduction - Status</dc:title>
</cp:coreProperties>
</file>