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A1C3-0C21-40B1-8BE2-B2D3E351F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350C-24FD-4C6C-88D5-8CC96AACEF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43B5-0D2C-4FA9-829C-63843A84C3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8C12-DDD3-4C28-AF91-A8570E2876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B226-0270-44BA-9920-5D366A3802C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5CC9-1354-42A1-82D2-1CE3BA3CA3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69BE-FF87-4573-8559-C53E463A14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FE48-FC86-42EB-AA29-25869B8189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22BF-D5EC-4184-B8C0-2914D4AB1C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CD90-2082-42F5-9264-7EC1483BFD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8686-93D6-43BC-BA5F-166837F5B4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A1057-3369-4046-8B0D-3744D752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B7B3-D2FF-45C2-B87D-9274965F6D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2D167-FFB4-421B-82DA-D961DF6516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CF1AB-5D2E-4195-BF83-DFF3D4A456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DDB4E-E7DF-483D-B4C1-38945FBF36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98D71-46FC-43FD-9D3E-1889223A5F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8BB84-ED2B-4123-838B-9DBE90E392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B9A24-3361-4B44-8F20-3801F4A976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96927-75C4-49D6-80E3-E4FAA4E048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09107-9048-45F4-B60A-72B68DBB09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8F2B0-4FDE-4C47-A734-5D6CC7BA03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E8650-97B3-4DDA-B9A2-19406DD3C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1DCF-D387-4ABD-BDA0-A8DE580CCC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BA909-9597-4F71-B262-720BD253C9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2C4B7-1C5B-4683-A58C-29F588DCF2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9C304-35F4-408E-BFCD-0C1B520380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04114-AC65-4735-823A-47193C58CD5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E3282-2CCD-4364-AFC3-DDFEF3A8D0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C6018-DF26-4973-A110-9E25F5739F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1664E-6183-46D9-A441-586FE397BD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BDDB8-44F7-48AB-AA59-94ED22D401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B40AF-3F07-45C7-91A2-69B66B0A7E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6CB12-7BF2-4692-9BC9-60B07D16D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1B55-14AE-4D07-8213-095DBAFA7A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B101E-64E6-4898-832E-F29FB963CF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A45FF-2CAB-4567-9AE0-B92221EA2F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5BA94-F11E-47F9-BEAE-55DDDC5190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0534-8BAF-4C8F-9949-46971B2C8A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5A95-C7BB-4108-8308-A26C8D039A0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003E-D6E7-479C-AF94-1DFA0C59DC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B190-0835-422E-BAE4-E0A6992A8EA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BE5A-2E52-49FC-99E4-EA19EB4CE0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B2C6-BC0C-4570-8532-63FEA6328F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8AB5-7023-41A3-894F-2172676F4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55DC-2B00-4C17-B264-FE819771AB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A713-33F5-42DD-B107-2D453D84D9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20AB-CCFD-489B-B54A-76CC8E21EE9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04A9-FE1D-4B23-B515-09892E3C1E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34E2-BB19-478E-B798-7ACE1629A6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415B-4CC1-413D-B2CD-22649E705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9FB0-8E33-457C-93E6-33E61A5B22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1001-9EBE-4559-8872-76AF21577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F48B-3DD9-409A-9E26-E486F4ECF0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9DDA-2DF5-466C-8467-90107DF822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670F-22DE-44DD-94F2-A1FDB8E18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7D38-615F-44DC-9C47-DC44A5610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AD23-37F1-48F3-B037-EC0DE0ADFD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92D7-9845-47F5-82EB-256481D39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1A02-DEFC-4E84-B128-E59FD5DA61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0E50-632D-489D-9E79-E6A707E010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1DED-C40B-4D3F-A8A8-5F60794051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0D3-45F4-4321-918C-508410FF5D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1EE-FF50-46E3-80C4-D46E8F2076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F53-F5DB-4148-BBB0-AC5CB18029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D73-F1B0-4637-8B8D-DBEB378866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C80-644B-4D8D-B261-B09DE977B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74D0-F93C-4C77-B641-A3C2C60D0E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529-613A-4426-A81F-D0E0618953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0BF-0BE7-4385-8E1A-AAD5D6B743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B63-3359-4C96-AC37-3AF062F9CB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71F-7EC9-49C0-9DD5-6EA6A56944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B47-902C-4F57-97F4-753669708A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C5A-BB67-428D-8088-86AAB4A4E2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A8F-3E93-459A-953C-BE702C9185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49A51-C2F6-4F64-B9E7-92A35BE368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2FDA5-99C4-49BD-89FC-9CC7FAF8AA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E7DDC-12B0-4EEC-A3C6-4AB897AA7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29EE-D204-466C-909B-932199CA8F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314D9-B4E3-4238-8FB6-67959A6D6A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FB7B2-066E-48AD-BCB3-ED8630DAC9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1209F-9446-4E44-8BBB-7AA4A004BF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867F2-1AF8-4EE0-AA1B-AF2052F0F4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FBF0-9962-495B-9D22-BD94DF31AC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50240-42D4-439F-AA8C-F71A5A8C0D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EE54-38B8-47B7-9FD6-372DFFFFA4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97194-A6BA-4A73-864A-6DAC61663C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AAB15-4B98-499A-A8CA-EFA9988024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6EC5-642C-49F8-9AA8-DB6109310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61FE-10B0-4C0A-8AF5-66FE4E05DD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22742-F482-4FC2-9A03-783657369F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878C-8C1E-4740-AB27-8578AD53BE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A8A3D-D35D-4E7C-8F2F-AE7493AC8E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69C47-5321-4C0C-9EAC-A0A41FD21E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7D95B-D642-42CE-8A19-749E4FCD63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41759-C33B-4923-A738-4C54C3690A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024D7-CA24-4DB6-8883-A1A7729F5C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46378-CD37-44CF-BC21-6A8C3D6EE0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96EEB-7E83-4A34-83AE-9CD28B7FBD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EA47-7795-4CCB-B732-006039ABA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15FC-DC02-4394-8DB1-2CBC72E907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10DD3-9F53-49CA-87E5-C3ADD7DB04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B0D-8DA0-4FBB-8780-A400A704D0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9D3-4F99-41FB-B464-F2CE7AAC72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914-8EFB-41ED-855C-D777345514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804F-9A9E-4921-B338-A968685B48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251B-865E-4F63-A8B7-8F16BF29B0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7210-496C-4C46-8862-9EC0B02393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3D97-5565-451A-AA04-7F52E592D2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EFD-7320-4C76-B94F-02EFEAC6F2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D964-B322-44FA-A958-E469C9140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BC17-6D29-40EF-B6DC-83ECE95629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BA5-7C1B-4555-814F-0EEABB275E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829A-BB33-41EC-9BC5-EAF220284E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24F-29E8-4ACB-999C-F3F3678861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8AC0E-103C-4C7C-8DCE-3986FBC406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168B4-5F59-40C8-B5D5-7589925380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21B31-EA92-454D-97CD-5C97F9348B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F1C1C-03CD-4125-9760-4AE5AF933C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36EE0-F2F3-4C66-ACA8-439F96D77F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F6C76-82DF-4BE7-90BE-32355B9F57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3B80B-6C49-4207-A000-C381F3A01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F1E6-E5B7-4B7F-844F-B2B22E455D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5F389-2D02-4CDB-9EE0-ECD9D2E848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3A1AF-E608-4006-9EA5-4BB08BDE74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083F1-4965-4F7A-9F66-5D91C8D6DF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DE670-0CE2-4C94-ABF0-A328CC2659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E372A-2F63-4292-92B8-5A536D6575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93929-D507-4DEC-ABF6-E7B7EF2751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09D12-BD92-4616-9B49-9E1E889A28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83C96-0C71-416A-BD1E-41B78A83AF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E4228-3FCB-4FA2-9B5C-87B83D4289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3230-4624-447E-BE21-15DE8C7B3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9CFC-DA11-4271-8E87-B848D41B18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BE192-3F2D-4DBE-9EFD-8C77A6DB346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43C0E-3B3E-4E9C-9ADE-6E9D0BEF11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C28A9-B100-4471-AEAE-9C0018A768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F6F41-6AA7-4B95-8B1A-0EFF0DC222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F8C25-C2EC-4A33-8853-803A241C50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5D17C-4E18-4B6F-87D2-C9E99D1E12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488D0-27D3-406C-9924-7A709A3846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3AAC-3F74-4966-A634-7F3450D6D8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F78B-BE31-4568-A69B-E9512DD4CB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D9FA-71F3-4DB1-8C5C-BABCEC874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CAB-2D97-4841-8CDD-EB572609610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204-085F-4C85-A838-2058CF2B04E0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86E-91D8-4E7B-B466-94D543C1E9D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3E2-AD85-4868-857F-E18F956350C5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556-D447-4F60-B0D8-541A33C3BF5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BDB-AD2D-4A70-864D-4EA5E2878D7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143-39DA-49F0-B34D-4B2FEF07E96C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78F-3E42-4E44-B721-18F0FBCD3D67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18B0-09E2-4E1F-A69F-16295DD0C5B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E026-4886-44E1-A3C4-569610C573C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A8C-5EBC-4741-B442-2F58E087F0C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5CB1-035C-47C1-A75A-BE3BC4BD39BA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C08-6EBD-41C9-9FAF-F1D8D8C98F4A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1752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E284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: An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Filt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5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6-23 March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FD1A-C0FE-4CA8-B9F8-1DA934F23EFD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523880" y="990720"/>
          <a:ext cx="6705720" cy="5495760"/>
        </p:xfrm>
        <a:graphic>
          <a:graphicData uri="http://schemas.openxmlformats.org/drawingml/2006/table">
            <a:tbl>
              <a:tblPr/>
              <a:tblGrid>
                <a:gridCol w="704880"/>
                <a:gridCol w="1508040"/>
                <a:gridCol w="1390680"/>
                <a:gridCol w="1390680"/>
                <a:gridCol w="914400"/>
                <a:gridCol w="7970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ff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opleO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bu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amLocomo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mo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kSc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c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Dr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Terr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Dr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Sc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Squ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wingBub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2FF-3E50-48A6-8297-017DD548825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technique provides an average of 0.7% reduction in BD-Rate for the Luminance samples when compared to the HM 2.0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ing efficiency gains increase for the large video sequences (Classes E, A and 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ing efficiency gains are particularly high (more than 3% on average)  for the new Class Test sequ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4EB3-13EC-4956-81CE-D54473764E0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er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that of the HM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-case additional complexity: Decoding of at most four AIF filters for each video picture/slic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additional complexity requi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t least 50% of the video pictures/slic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r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at most four AIF filters for each video picture/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mplexity depends on the application at h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as large as 25% (MV search, coefficient  generation, decis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have no additional complexity: Use four pre-determined AIF filters for sets of video sequences having similar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3F6-6FE5-4731-BA72-479D680D58D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commend that the JCT-VC committee adopt the proposed technique into the 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985-4DFD-46B7-8E9F-DA7ACEFB99C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echniqu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selection &amp;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-generate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fficienc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mplexity pro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&amp; 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1EE5-5B31-48C9-8136-A61029BC6264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M 2.0 filtering does not allow for the use of content- and/or application-adaptive AIF fi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0FA5-5E40-4B2A-94EC-D03D8BE56E3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F Filter Sele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reference picture list, select between HM 2.0 one/two 8-tap filter(s) or corresponding new AIF filters for each picture/slice &amp; sub-sample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AIF filters can be determined by a specific application and/or generated on-line (i.e., optimized for the picture/sl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sample position grouping (as in HM 2.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 at most two 8-tap AIF filters for each one of four groups of sub-sample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de information (i.e., the decision &amp; coefficient bits) is reduced without significant coding efficiency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7329-EF97-4598-80D6-51686F48BD4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8"/>
          <p:cNvGraphicFramePr/>
          <p:nvPr/>
        </p:nvGraphicFramePr>
        <p:xfrm>
          <a:off x="990720" y="1905120"/>
          <a:ext cx="7467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467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076-7766-452F-BC15-8EA5E82C57F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43000" y="3124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ed (HM2.0) 8-tap filters (6-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143000" y="53344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ly-generated 8-tap filters (6-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219320" y="1905120"/>
          <a:ext cx="6705360" cy="838080"/>
        </p:xfrm>
        <a:graphic>
          <a:graphicData uri="http://schemas.openxmlformats.org/drawingml/2006/table">
            <a:tbl>
              <a:tblPr/>
              <a:tblGrid>
                <a:gridCol w="1374480"/>
                <a:gridCol w="533088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-1,   4,  -10,  57,   19,    -7,   3,   -1 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-1,   4,  -11,  40,   40,  -11,   4,   -1 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219320" y="4084560"/>
          <a:ext cx="6705360" cy="792360"/>
        </p:xfrm>
        <a:graphic>
          <a:graphicData uri="http://schemas.openxmlformats.org/drawingml/2006/table">
            <a:tbl>
              <a:tblPr/>
              <a:tblGrid>
                <a:gridCol w="1374480"/>
                <a:gridCol w="5330880"/>
              </a:tblGrid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0,   a1,   a2,   a3,   a4,   a5,   a6,   a7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b0,   b1,   b2,   b3,   b3,   b2,   b1,  b0}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2578-5E98-4469-9C93-32AFA1EF8B37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F Filter Gen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Estimate MVs using HM 2.0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Estimate the Most referenced picture by the curren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Estimate filter coefficient values by minimizing the energy of prediction errors after performing MC prediction using MVs from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F Filte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p the filter coeffici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fferences between filter coefficient values and corresponding HM 2.0 filter coefficie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F Using Adaptive 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600200" y="3962520"/>
          <a:ext cx="5867280" cy="676080"/>
        </p:xfrm>
        <a:graphic>
          <a:graphicData uri="http://schemas.openxmlformats.org/drawingml/2006/table">
            <a:tbl>
              <a:tblPr/>
              <a:tblGrid>
                <a:gridCol w="2462040"/>
                <a:gridCol w="363600"/>
                <a:gridCol w="433440"/>
                <a:gridCol w="434880"/>
                <a:gridCol w="435240"/>
                <a:gridCol w="434880"/>
                <a:gridCol w="506520"/>
                <a:gridCol w="434880"/>
                <a:gridCol w="361800"/>
              </a:tblGrid>
              <a:tr h="3052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efficient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ip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6B45-A3DF-407C-AFDC-0960D19CEFB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990720" y="1981080"/>
          <a:ext cx="7337160" cy="3048120"/>
        </p:xfrm>
        <a:graphic>
          <a:graphicData uri="http://schemas.openxmlformats.org/drawingml/2006/table">
            <a:tbl>
              <a:tblPr/>
              <a:tblGrid>
                <a:gridCol w="1199880"/>
                <a:gridCol w="1008360"/>
                <a:gridCol w="1020600"/>
                <a:gridCol w="1012680"/>
                <a:gridCol w="1008360"/>
                <a:gridCol w="1020600"/>
                <a:gridCol w="10666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delay LoCo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16A-48B3-4074-BF3C-51972F01FAB5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14400" y="1905120"/>
          <a:ext cx="7602480" cy="3031920"/>
        </p:xfrm>
        <a:graphic>
          <a:graphicData uri="http://schemas.openxmlformats.org/drawingml/2006/table">
            <a:tbl>
              <a:tblPr/>
              <a:tblGrid>
                <a:gridCol w="1200240"/>
                <a:gridCol w="1008000"/>
                <a:gridCol w="1020600"/>
                <a:gridCol w="1016280"/>
                <a:gridCol w="1009440"/>
                <a:gridCol w="1020960"/>
                <a:gridCol w="13269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 LoCo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03-16T18:00:3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