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Public  |  © Ericsson AB 2010  |  2010-10-07  |  Page </a:t>
            </a:r>
            <a:fld id="{0ECBECB4-59A0-440C-9CED-5A39D5094744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720" y="2096280"/>
            <a:ext cx="8352000" cy="14626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5" name="Logo_TM" descr=""/>
          <p:cNvPicPr/>
          <p:nvPr/>
        </p:nvPicPr>
        <p:blipFill>
          <a:blip r:embed="rId2"/>
          <a:stretch/>
        </p:blipFill>
        <p:spPr>
          <a:xfrm>
            <a:off x="4162320" y="-17640"/>
            <a:ext cx="803520" cy="99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5560" y="2488680"/>
            <a:ext cx="8351640" cy="7318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Ericsson deblocking filter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JCTVC-E276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Andrey Norkin, Kenneth Andersson, Rickard Sjöberg 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Ericsson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ompression performance Low delay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6720" y="1376280"/>
          <a:ext cx="8352000" cy="4584960"/>
        </p:xfrm>
        <a:graphic>
          <a:graphicData uri="http://schemas.openxmlformats.org/drawingml/2006/table">
            <a:tbl>
              <a:tblPr/>
              <a:tblGrid>
                <a:gridCol w="1341720"/>
                <a:gridCol w="898560"/>
                <a:gridCol w="1446120"/>
                <a:gridCol w="898560"/>
                <a:gridCol w="896760"/>
                <a:gridCol w="1971720"/>
                <a:gridCol w="898560"/>
              </a:tblGrid>
              <a:tr h="38016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Low delay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Low delay LoCo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80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7980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1.4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1.3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1.4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1.3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16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1.0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3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36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80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3.3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3.8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3.2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2.6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4.7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3.3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7980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1.5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1.4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1.4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1.2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1.0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98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Decoding time on same platform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96720" y="1376280"/>
          <a:ext cx="8351640" cy="4284360"/>
        </p:xfrm>
        <a:graphic>
          <a:graphicData uri="http://schemas.openxmlformats.org/drawingml/2006/table">
            <a:tbl>
              <a:tblPr/>
              <a:tblGrid>
                <a:gridCol w="2617200"/>
                <a:gridCol w="1485000"/>
                <a:gridCol w="1485720"/>
                <a:gridCol w="2763720"/>
              </a:tblGrid>
              <a:tr h="75312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Configuration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Dec. time proposal [s]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Dec. time HM2.0 [s]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Dec. time proposal [%]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Random access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3560.64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3577.89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99.5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Low delay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1693.05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1682.46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100.6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All intra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2466.53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2507.11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98.4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Random access loco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1220.62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1209.93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100.9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Low delay loco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7198.41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7209.22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99.9 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All intra loco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2777.47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2765.52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100.4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바탕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99.9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Subjective performanc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5560" y="1402920"/>
            <a:ext cx="8351640" cy="4978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Informal subjective viewing by experts has been performed in Ericsson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Blind viewing of HM2.0 and the proposal repeatedly without knowing which is which (A and B)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After deciding if they are similar or one is better, identities were reveale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Outcome was that proposal is slightly better on average than anchor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5560" y="1359000"/>
            <a:ext cx="8351640" cy="513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odifications to HEVC deblocking are smal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Modifications for luma are about 38 lines of code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Modifications for chroma include 43 lines of code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eblocking tables, t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and β thresholds are the same as in the HM2.0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BD-rate = -1.0 % on averag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ecoding time = 99.9% of HM2.0 on averag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ubjective quality is slightly better that HEVC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Source code is attached from time of document submiss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Proposal is cross-verified by: MediaTek, SKKU, Samsung, Toshib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It is proposed to adopt the changes in the next version of H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Logo_ChapterSlide_Normal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3840" y="77400"/>
            <a:ext cx="7826400" cy="9752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Reasoning for improving HEVC deblocking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5560" y="1358640"/>
            <a:ext cx="8405640" cy="51130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lvl="1"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</a:rPr>
              <a:t>HEVC deblocking filter: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</a:rPr>
              <a:t>= ( 13(q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</a:rPr>
              <a:t>-p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</a:rPr>
              <a:t>) + 4(q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</a:rPr>
              <a:t>-p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</a:rPr>
              <a:t>) - 5(q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</a:rPr>
              <a:t>2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</a:rPr>
              <a:t>-p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</a:rPr>
              <a:t>2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</a:rPr>
              <a:t>) ) / 3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	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’ = 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+ </a:t>
            </a:r>
            <a:r>
              <a:rPr b="0" lang="fr-FR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	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’ = 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- </a:t>
            </a:r>
            <a:r>
              <a:rPr b="0" lang="fr-FR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	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’ = 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+ </a:t>
            </a:r>
            <a:r>
              <a:rPr b="0" lang="fr-FR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  <a:ea typeface="굴림"/>
              </a:rPr>
              <a:t>/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	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’ = 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- </a:t>
            </a:r>
            <a:r>
              <a:rPr b="0" lang="fr-FR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  <a:ea typeface="굴림"/>
              </a:rPr>
              <a:t>/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ngs that can be improved: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Usage of same </a:t>
            </a:r>
            <a:r>
              <a:rPr b="0" lang="en-GB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  <a:ea typeface="굴림"/>
              </a:rPr>
              <a:t> for both 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  <a:ea typeface="굴림"/>
              </a:rPr>
              <a:t> and 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  <a:ea typeface="굴림"/>
              </a:rPr>
              <a:t> even when structure on sides of block boundary is differen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Arial"/>
                <a:ea typeface="굴림"/>
              </a:rPr>
              <a:t>	</a:t>
            </a:r>
            <a:r>
              <a:rPr b="0" lang="en-GB" sz="2000" spc="-1" strike="noStrike">
                <a:solidFill>
                  <a:srgbClr val="58585a"/>
                </a:solidFill>
                <a:latin typeface="Arial"/>
                <a:ea typeface="굴림"/>
              </a:rPr>
              <a:t>Chroma is only filtered when at least one of adjacent blocks is intra. Therefore, almost no chroma filtering happens on low-delay configuratio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246640" y="1403280"/>
            <a:ext cx="3581280" cy="2633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094520" y="1303200"/>
            <a:ext cx="0" cy="274644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85720" y="211068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p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54000" y="16725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p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24080" y="12675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p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28800" y="335700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q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41640" y="311400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q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02000" y="288864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q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Proposed modification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5560" y="1359000"/>
            <a:ext cx="8351640" cy="49053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7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58585a"/>
                </a:solidFill>
                <a:latin typeface="Arial"/>
              </a:rPr>
              <a:t>Luma filter: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58585a"/>
                </a:solidFill>
                <a:latin typeface="Arial"/>
              </a:rPr>
              <a:t>Filter that has different </a:t>
            </a:r>
            <a:r>
              <a:rPr b="0" lang="en-GB" sz="24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>
                <a:solidFill>
                  <a:srgbClr val="58585a"/>
                </a:solidFill>
                <a:latin typeface="Arial"/>
                <a:ea typeface="굴림"/>
              </a:rPr>
              <a:t> </a:t>
            </a:r>
            <a:r>
              <a:rPr b="0" lang="sv-SE" sz="2400" spc="-1" strike="noStrike">
                <a:solidFill>
                  <a:srgbClr val="58585a"/>
                </a:solidFill>
                <a:latin typeface="Arial"/>
              </a:rPr>
              <a:t>values for </a:t>
            </a:r>
            <a:r>
              <a:rPr b="0" lang="fr-FR" sz="2400" spc="-1" strike="noStrike">
                <a:solidFill>
                  <a:srgbClr val="58585a"/>
                </a:solidFill>
                <a:latin typeface="Arial"/>
                <a:ea typeface="굴림"/>
              </a:rPr>
              <a:t>p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en-GB" sz="2400" spc="-1" strike="noStrike">
                <a:solidFill>
                  <a:srgbClr val="58585a"/>
                </a:solidFill>
                <a:latin typeface="Arial"/>
                <a:ea typeface="굴림"/>
              </a:rPr>
              <a:t> and </a:t>
            </a:r>
            <a:r>
              <a:rPr b="0" lang="fr-FR" sz="2400" spc="-1" strike="noStrike">
                <a:solidFill>
                  <a:srgbClr val="58585a"/>
                </a:solidFill>
                <a:latin typeface="Arial"/>
                <a:ea typeface="굴림"/>
              </a:rPr>
              <a:t>q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en-GB" sz="2400" spc="-1" strike="noStrike">
                <a:solidFill>
                  <a:srgbClr val="58585a"/>
                </a:solidFill>
                <a:latin typeface="Arial"/>
                <a:ea typeface="굴림"/>
              </a:rPr>
              <a:t> 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heck for natural edge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Decision whether to filter one or two pixel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7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a"/>
                </a:solidFill>
                <a:latin typeface="Arial"/>
              </a:rPr>
              <a:t>Chroma filter: 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Perform filtering of chroma boundary when there are coefficients in one of two adjacent block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Filter description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989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10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= ( 9(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  <a:ea typeface="굴림"/>
              </a:rPr>
              <a:t> 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- 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) - 3(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  <a:ea typeface="굴림"/>
              </a:rPr>
              <a:t> 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- 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) ) /16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’ = 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+ </a:t>
            </a:r>
            <a:r>
              <a:rPr b="0" lang="fr-FR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’ = 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- </a:t>
            </a:r>
            <a:r>
              <a:rPr b="0" lang="fr-FR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p1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  <a:ea typeface="굴림"/>
              </a:rPr>
              <a:t> = (p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  <a:ea typeface="굴림"/>
              </a:rPr>
              <a:t> - 2p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  <a:ea typeface="굴림"/>
              </a:rPr>
              <a:t>+ p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  <a:ea typeface="굴림"/>
              </a:rPr>
              <a:t> + 2</a:t>
            </a:r>
            <a:r>
              <a:rPr b="0" lang="en-US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  <a:ea typeface="굴림"/>
              </a:rPr>
              <a:t>)/4;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’ = p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+ </a:t>
            </a:r>
            <a:r>
              <a:rPr b="0" lang="fr-FR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  <a:ea typeface="굴림"/>
              </a:rPr>
              <a:t>p1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  <a:ea typeface="굴림"/>
              </a:rPr>
              <a:t>q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= (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- 2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  <a:ea typeface="굴림"/>
              </a:rPr>
              <a:t> 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+ 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2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- 2</a:t>
            </a:r>
            <a:r>
              <a:rPr b="0" lang="fr-FR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)/4;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q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’ = 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 + </a:t>
            </a:r>
            <a:r>
              <a:rPr b="0" lang="fr-FR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  <a:ea typeface="굴림"/>
              </a:rPr>
              <a:t>q1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2000" y="1223640"/>
            <a:ext cx="4100760" cy="2097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8585a"/>
                </a:solidFill>
                <a:latin typeface="Arial"/>
              </a:rPr>
              <a:t>Filter features: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ifferent </a:t>
            </a:r>
            <a:r>
              <a:rPr b="0" lang="en-US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values for 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  <a:ea typeface="굴림"/>
              </a:rPr>
              <a:t>p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and 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q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odifications of 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  <a:ea typeface="굴림"/>
              </a:rPr>
              <a:t>p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  <a:ea typeface="굴림"/>
              </a:rPr>
              <a:t>1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and 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q</a:t>
            </a:r>
            <a:r>
              <a:rPr b="0" lang="fr-FR" sz="1400" spc="-1" strike="noStrike">
                <a:solidFill>
                  <a:srgbClr val="58585a"/>
                </a:solidFill>
                <a:latin typeface="Arial"/>
                <a:ea typeface="굴림"/>
              </a:rPr>
              <a:t>1 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are adaptive to local structure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eltas are equal to zero if 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  <a:ea typeface="굴림"/>
              </a:rPr>
              <a:t>p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...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p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,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...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q</a:t>
            </a:r>
            <a:r>
              <a:rPr b="0" lang="fr-FR" sz="1200" spc="-1" strike="noStrike">
                <a:solidFill>
                  <a:srgbClr val="58585a"/>
                </a:solidFill>
                <a:latin typeface="Arial"/>
                <a:ea typeface="굴림"/>
              </a:rPr>
              <a:t>2  </a:t>
            </a:r>
            <a:r>
              <a:rPr b="0" lang="fr-FR" sz="2000" spc="-1" strike="noStrike">
                <a:solidFill>
                  <a:srgbClr val="58585a"/>
                </a:solidFill>
                <a:latin typeface="Arial"/>
                <a:ea typeface="굴림"/>
              </a:rPr>
              <a:t>lie on the same lin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797360" y="3564000"/>
            <a:ext cx="3781440" cy="2970000"/>
            <a:chOff x="4797360" y="3564000"/>
            <a:chExt cx="3781440" cy="29700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797360" y="3698640"/>
              <a:ext cx="3781440" cy="28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732720" y="3564000"/>
              <a:ext cx="0" cy="297000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23080" y="5115600"/>
              <a:ext cx="3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58585a"/>
                  </a:solidFill>
                  <a:latin typeface="Arial"/>
                </a:rPr>
                <a:t>p</a:t>
              </a:r>
              <a:r>
                <a:rPr b="0" lang="fr-FR" sz="1000" spc="-1" strike="noStrike">
                  <a:solidFill>
                    <a:srgbClr val="58585a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27000" y="4821840"/>
              <a:ext cx="3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58585a"/>
                  </a:solidFill>
                  <a:latin typeface="Arial"/>
                </a:rPr>
                <a:t>p</a:t>
              </a:r>
              <a:r>
                <a:rPr b="0" lang="fr-FR" sz="1000" spc="-1" strike="noStrike">
                  <a:solidFill>
                    <a:srgbClr val="58585a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67000" y="4867920"/>
              <a:ext cx="3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58585a"/>
                  </a:solidFill>
                  <a:latin typeface="Arial"/>
                </a:rPr>
                <a:t>q</a:t>
              </a:r>
              <a:r>
                <a:rPr b="0" lang="fr-FR" sz="1000" spc="-1" strike="noStrike">
                  <a:solidFill>
                    <a:srgbClr val="58585a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73440" y="4552200"/>
              <a:ext cx="3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58585a"/>
                  </a:solidFill>
                  <a:latin typeface="Arial"/>
                </a:rPr>
                <a:t>q</a:t>
              </a:r>
              <a:r>
                <a:rPr b="0" lang="fr-FR" sz="1000" spc="-1" strike="noStrike">
                  <a:solidFill>
                    <a:srgbClr val="58585a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78080" y="4237920"/>
              <a:ext cx="3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58585a"/>
                  </a:solidFill>
                  <a:latin typeface="Arial"/>
                </a:rPr>
                <a:t>q</a:t>
              </a:r>
              <a:r>
                <a:rPr b="0" lang="fr-FR" sz="1000" spc="-1" strike="noStrike">
                  <a:solidFill>
                    <a:srgbClr val="58585a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73080" y="5452200"/>
              <a:ext cx="3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58585a"/>
                  </a:solidFill>
                  <a:latin typeface="Arial"/>
                </a:rPr>
                <a:t>p</a:t>
              </a:r>
              <a:r>
                <a:rPr b="0" lang="fr-FR" sz="1000" spc="-1" strike="noStrike">
                  <a:solidFill>
                    <a:srgbClr val="58585a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58585a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heck for natural edg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10" name="Content_SM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4275000" cy="3200400"/>
          </a:xfrm>
          <a:prstGeom prst="rect">
            <a:avLst/>
          </a:prstGeom>
          <a:ln w="0">
            <a:noFill/>
          </a:ln>
        </p:spPr>
      </p:pic>
      <p:pic>
        <p:nvPicPr>
          <p:cNvPr id="111" name="Content_SM" descr=""/>
          <p:cNvPicPr/>
          <p:nvPr/>
        </p:nvPicPr>
        <p:blipFill>
          <a:blip r:embed="rId2"/>
          <a:stretch/>
        </p:blipFill>
        <p:spPr>
          <a:xfrm>
            <a:off x="4346640" y="3068640"/>
            <a:ext cx="4797360" cy="323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46280" y="1403280"/>
            <a:ext cx="80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lter a line across block boundary </a:t>
            </a:r>
            <a:r>
              <a:rPr b="1" lang="en-US" sz="2000" spc="-1" strike="noStrike">
                <a:solidFill>
                  <a:srgbClr val="58585a"/>
                </a:solidFill>
                <a:latin typeface="Arial"/>
              </a:rPr>
              <a:t>only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58585a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abs(</a:t>
            </a:r>
            <a:r>
              <a:rPr b="0" lang="en-US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) &lt; </a:t>
            </a:r>
            <a:r>
              <a:rPr b="0" i="1" lang="en-US" sz="2000" spc="-1" strike="noStrike">
                <a:solidFill>
                  <a:srgbClr val="58585a"/>
                </a:solidFill>
                <a:latin typeface="Arial"/>
              </a:rPr>
              <a:t>thr1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45560" y="450792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q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85560" y="419328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q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0560" y="392364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q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96280" y="49143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p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45560" y="522864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p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96280" y="549828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p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57360" y="3068640"/>
            <a:ext cx="0" cy="30607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21640" y="3068640"/>
            <a:ext cx="0" cy="306072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6280" y="396792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p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31640" y="342828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p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27000" y="293292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p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01640" y="549828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q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97000" y="518400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q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92360" y="49143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8585a"/>
                </a:solidFill>
                <a:latin typeface="Arial"/>
              </a:rPr>
              <a:t>q</a:t>
            </a:r>
            <a:r>
              <a:rPr b="0" lang="fr-FR" sz="1000" spc="-1" strike="noStrike">
                <a:solidFill>
                  <a:srgbClr val="58585a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7320" y="2394000"/>
            <a:ext cx="13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bs(</a:t>
            </a:r>
            <a:r>
              <a:rPr b="0" lang="en-US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12320" y="2394000"/>
            <a:ext cx="13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bs(</a:t>
            </a:r>
            <a:r>
              <a:rPr b="0" lang="en-US" sz="2000" spc="-1" strike="noStrike">
                <a:solidFill>
                  <a:srgbClr val="58585a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) &gt; 0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27360" y="63086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8585a"/>
                </a:solidFill>
                <a:latin typeface="Arial"/>
              </a:rPr>
              <a:t>thr1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58585a"/>
                </a:solidFill>
                <a:latin typeface="Arial"/>
              </a:rPr>
              <a:t>t</a:t>
            </a:r>
            <a:r>
              <a:rPr b="0" i="1" lang="en-US" sz="1800" spc="-1" strike="noStrike">
                <a:solidFill>
                  <a:srgbClr val="58585a"/>
                </a:solidFill>
                <a:latin typeface="Arial"/>
              </a:rPr>
              <a:t>c(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QP</a:t>
            </a:r>
            <a:r>
              <a:rPr b="0" i="1" lang="en-US" sz="1800" spc="-1" strike="noStrike">
                <a:solidFill>
                  <a:srgbClr val="58585a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*10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Number of pixels to be modified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906640" y="1673280"/>
            <a:ext cx="2925720" cy="3016080"/>
            <a:chOff x="2906640" y="1673280"/>
            <a:chExt cx="2925720" cy="3016080"/>
          </a:xfrm>
        </p:grpSpPr>
        <p:sp>
          <p:nvSpPr>
            <p:cNvPr id="132" name=""/>
            <p:cNvSpPr/>
            <p:nvPr/>
          </p:nvSpPr>
          <p:spPr>
            <a:xfrm>
              <a:off x="3311280" y="3473280"/>
              <a:ext cx="2160360" cy="314640"/>
            </a:xfrm>
            <a:prstGeom prst="rect">
              <a:avLst/>
            </a:prstGeom>
            <a:solidFill>
              <a:srgbClr val="b1b3b4"/>
            </a:solidFill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11280" y="2529000"/>
              <a:ext cx="2160360" cy="314280"/>
            </a:xfrm>
            <a:prstGeom prst="rect">
              <a:avLst/>
            </a:prstGeom>
            <a:solidFill>
              <a:srgbClr val="b1b3b4"/>
            </a:solidFill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06640" y="1898640"/>
              <a:ext cx="2925720" cy="2519280"/>
            </a:xfrm>
            <a:prstGeom prst="rect">
              <a:avLst/>
            </a:prstGeom>
            <a:noFill/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92360" y="1673280"/>
              <a:ext cx="0" cy="3016080"/>
            </a:xfrm>
            <a:prstGeom prst="line">
              <a:avLst/>
            </a:prstGeom>
            <a:ln w="255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71640" y="1898640"/>
              <a:ext cx="0" cy="251928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11280" y="1898640"/>
              <a:ext cx="0" cy="251928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32000" y="1898640"/>
              <a:ext cx="0" cy="251928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11640" y="1898640"/>
              <a:ext cx="0" cy="251928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72000" y="1898640"/>
              <a:ext cx="0" cy="251928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51280" y="1898640"/>
              <a:ext cx="0" cy="251928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06640" y="3159000"/>
              <a:ext cx="2925720" cy="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46800" bIns="-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06640" y="2529000"/>
              <a:ext cx="2925720" cy="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46800" bIns="-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06640" y="3789360"/>
              <a:ext cx="2925720" cy="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46800" bIns="-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06640" y="4103640"/>
              <a:ext cx="2925720" cy="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46800" bIns="-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06640" y="3473280"/>
              <a:ext cx="2925720" cy="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46800" bIns="-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6640" y="2843280"/>
              <a:ext cx="2925720" cy="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46800" bIns="-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06640" y="2212920"/>
              <a:ext cx="2925720" cy="0"/>
            </a:xfrm>
            <a:prstGeom prst="line">
              <a:avLst/>
            </a:prstGeom>
            <a:ln w="1260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46800" bIns="-46800" anchor="t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36640" y="2438280"/>
              <a:ext cx="1123560" cy="540000"/>
            </a:xfrm>
            <a:prstGeom prst="ellipse">
              <a:avLst/>
            </a:prstGeom>
            <a:noFill/>
            <a:ln w="31680">
              <a:solidFill>
                <a:srgbClr val="f0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22360" y="2438280"/>
              <a:ext cx="1122120" cy="540000"/>
            </a:xfrm>
            <a:prstGeom prst="ellipse">
              <a:avLst/>
            </a:prstGeom>
            <a:noFill/>
            <a:ln w="31680">
              <a:solidFill>
                <a:srgbClr val="f0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22360" y="3382920"/>
              <a:ext cx="1122120" cy="539640"/>
            </a:xfrm>
            <a:prstGeom prst="ellipse">
              <a:avLst/>
            </a:prstGeom>
            <a:noFill/>
            <a:ln w="31680">
              <a:solidFill>
                <a:srgbClr val="f0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36640" y="3382920"/>
              <a:ext cx="1122120" cy="539640"/>
            </a:xfrm>
            <a:prstGeom prst="ellipse">
              <a:avLst/>
            </a:prstGeom>
            <a:noFill/>
            <a:ln w="31680">
              <a:solidFill>
                <a:srgbClr val="f0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267000" y="1133640"/>
            <a:ext cx="10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Block 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81640" y="11350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Block Q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76640" y="1584360"/>
            <a:ext cx="2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37000" y="1584360"/>
            <a:ext cx="3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97360" y="1584360"/>
            <a:ext cx="2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16280" y="1584360"/>
            <a:ext cx="2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56640" y="1584360"/>
            <a:ext cx="2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56640" y="1584360"/>
            <a:ext cx="2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67000" y="3338640"/>
            <a:ext cx="855720" cy="269640"/>
          </a:xfrm>
          <a:prstGeom prst="line">
            <a:avLst/>
          </a:prstGeom>
          <a:ln w="1908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11280" y="2708280"/>
            <a:ext cx="809640" cy="179280"/>
          </a:xfrm>
          <a:prstGeom prst="line">
            <a:avLst/>
          </a:prstGeom>
          <a:ln w="1908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2797200"/>
            <a:ext cx="2206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8585a"/>
                </a:solidFill>
                <a:latin typeface="Arial"/>
              </a:rPr>
              <a:t>d</a:t>
            </a:r>
            <a:r>
              <a:rPr b="0" i="1" lang="en-US" sz="1400" spc="-1" strike="noStrike">
                <a:solidFill>
                  <a:srgbClr val="58585a"/>
                </a:solidFill>
                <a:latin typeface="Arial"/>
              </a:rPr>
              <a:t>p</a:t>
            </a:r>
            <a:r>
              <a:rPr b="0" i="1" lang="en-US" sz="1600" spc="-1" strike="noStrike">
                <a:solidFill>
                  <a:srgbClr val="58585a"/>
                </a:solidFill>
                <a:latin typeface="Arial"/>
              </a:rPr>
              <a:t> =</a:t>
            </a:r>
            <a:r>
              <a:rPr b="1" i="1" lang="en-US" sz="16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|p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2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 - 2*p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 + p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02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| + |p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5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 - 2*p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 + p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05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02360" y="2843280"/>
            <a:ext cx="2205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8585a"/>
                </a:solidFill>
                <a:latin typeface="Arial"/>
              </a:rPr>
              <a:t>d</a:t>
            </a:r>
            <a:r>
              <a:rPr b="0" i="1" lang="en-US" sz="1400" spc="-1" strike="noStrike">
                <a:solidFill>
                  <a:srgbClr val="58585a"/>
                </a:solidFill>
                <a:latin typeface="Arial"/>
              </a:rPr>
              <a:t>q</a:t>
            </a:r>
            <a:r>
              <a:rPr b="0" i="1" lang="en-US" sz="1600" spc="-1" strike="noStrike">
                <a:solidFill>
                  <a:srgbClr val="58585a"/>
                </a:solidFill>
                <a:latin typeface="Arial"/>
              </a:rPr>
              <a:t> =</a:t>
            </a:r>
            <a:r>
              <a:rPr b="1" i="1" lang="en-US" sz="16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|q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2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 - 2*q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 + q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02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| + |q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5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 - 2*q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 + q</a:t>
            </a: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05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562720" y="3384360"/>
            <a:ext cx="495360" cy="269640"/>
          </a:xfrm>
          <a:prstGeom prst="line">
            <a:avLst/>
          </a:prstGeom>
          <a:ln w="1908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2752560"/>
            <a:ext cx="495360" cy="225720"/>
          </a:xfrm>
          <a:prstGeom prst="line">
            <a:avLst/>
          </a:prstGeom>
          <a:ln w="1908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2680" y="482436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58585a"/>
                </a:solidFill>
                <a:latin typeface="Arial"/>
              </a:rPr>
              <a:t>d</a:t>
            </a:r>
            <a:r>
              <a:rPr b="0" i="1" lang="en-US" sz="1600" spc="-1" strike="noStrike">
                <a:solidFill>
                  <a:srgbClr val="58585a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&lt; </a:t>
            </a:r>
            <a:r>
              <a:rPr b="0" i="1" lang="en-US" sz="2000" spc="-1" strike="noStrike">
                <a:solidFill>
                  <a:srgbClr val="58585a"/>
                </a:solidFill>
                <a:latin typeface="Arial"/>
              </a:rPr>
              <a:t>thr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47120" y="53402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odify </a:t>
            </a:r>
            <a:r>
              <a:rPr b="0" i="1" lang="en-US" sz="2000" spc="-1" strike="noStrike">
                <a:solidFill>
                  <a:srgbClr val="58585a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98560" y="482436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58585a"/>
                </a:solidFill>
                <a:latin typeface="Arial"/>
              </a:rPr>
              <a:t>d</a:t>
            </a:r>
            <a:r>
              <a:rPr b="0" i="1" lang="en-US" sz="1600" spc="-1" strike="noStrike">
                <a:solidFill>
                  <a:srgbClr val="58585a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&lt; </a:t>
            </a:r>
            <a:r>
              <a:rPr b="0" i="1" lang="en-US" sz="2000" spc="-1" strike="noStrike">
                <a:solidFill>
                  <a:srgbClr val="58585a"/>
                </a:solidFill>
                <a:latin typeface="Arial"/>
              </a:rPr>
              <a:t>thr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38200" y="53402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odify </a:t>
            </a:r>
            <a:r>
              <a:rPr b="0" i="1" lang="en-US" sz="2000" spc="-1" strike="noStrike">
                <a:solidFill>
                  <a:srgbClr val="58585a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457360" y="4554000"/>
            <a:ext cx="1305000" cy="854280"/>
          </a:xfrm>
          <a:prstGeom prst="line">
            <a:avLst/>
          </a:prstGeom>
          <a:ln w="12600">
            <a:solidFill>
              <a:srgbClr val="58585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4976280" y="4599000"/>
            <a:ext cx="1845000" cy="944640"/>
          </a:xfrm>
          <a:prstGeom prst="line">
            <a:avLst/>
          </a:prstGeom>
          <a:ln w="12600">
            <a:solidFill>
              <a:srgbClr val="58585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72000" y="1584360"/>
            <a:ext cx="360360" cy="310500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51280" y="1584360"/>
            <a:ext cx="360360" cy="3105000"/>
          </a:xfrm>
          <a:prstGeom prst="ellipse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76640" y="1898640"/>
            <a:ext cx="630360" cy="2475000"/>
          </a:xfrm>
          <a:custGeom>
            <a:avLst/>
            <a:gdLst>
              <a:gd name="textAreaLeft" fmla="*/ 30600 w 630360"/>
              <a:gd name="textAreaRight" fmla="*/ 599760 w 630360"/>
              <a:gd name="textAreaTop" fmla="*/ 30600 h 2475000"/>
              <a:gd name="textAreaBottom" fmla="*/ 2444400 h 2475000"/>
            </a:gdLst>
            <a:ahLst/>
            <a:rect l="textAreaLeft" t="textAreaTop" r="textAreaRight" b="textAreaBottom"/>
            <a:pathLst>
              <a:path w="21600" h="84773">
                <a:moveTo>
                  <a:pt x="3600" y="0"/>
                </a:moveTo>
                <a:arcTo wR="3600" hR="3600" stAng="16200000" swAng="-5400000"/>
                <a:lnTo>
                  <a:pt x="0" y="81173"/>
                </a:lnTo>
                <a:arcTo wR="3600" hR="3600" stAng="10800000" swAng="-5400000"/>
                <a:lnTo>
                  <a:pt x="18000" y="847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4527360" y="4463640"/>
            <a:ext cx="44280" cy="809640"/>
          </a:xfrm>
          <a:prstGeom prst="line">
            <a:avLst/>
          </a:prstGeom>
          <a:ln w="12600">
            <a:solidFill>
              <a:srgbClr val="58585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76640" y="5408640"/>
            <a:ext cx="3195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odify p</a:t>
            </a: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and q</a:t>
            </a: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f the line is to be filtered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71960" y="6173640"/>
            <a:ext cx="16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8585a"/>
                </a:solidFill>
                <a:latin typeface="Arial"/>
              </a:rPr>
              <a:t>thr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2= β(QP)/6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hroma chang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urrent HEVC deblocking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lter chroma boundary only if one of the adjacent blocks is intr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Proposed modification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lter chroma boundary if one of the adjacent blocks is intra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8585a"/>
                </a:solidFill>
                <a:latin typeface="Arial"/>
              </a:rPr>
              <a:t>OR one of the adjacent chroma blocks has coefficients for the corresponding chroma componen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mproved chroma performance on low-delay configurations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ompression performance All-intra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85920" y="1376280"/>
          <a:ext cx="8362440" cy="4662360"/>
        </p:xfrm>
        <a:graphic>
          <a:graphicData uri="http://schemas.openxmlformats.org/drawingml/2006/table">
            <a:tbl>
              <a:tblPr/>
              <a:tblGrid>
                <a:gridCol w="1343880"/>
                <a:gridCol w="899280"/>
                <a:gridCol w="1447560"/>
                <a:gridCol w="898920"/>
                <a:gridCol w="899280"/>
                <a:gridCol w="1974240"/>
                <a:gridCol w="899280"/>
              </a:tblGrid>
              <a:tr h="414360">
                <a:tc rowSpan="2"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Intra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Intra LoCo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1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1.5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1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28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3840" y="77400"/>
            <a:ext cx="7826400" cy="9752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ompression performance Random acces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22360" y="1376280"/>
          <a:ext cx="8226360" cy="5389560"/>
        </p:xfrm>
        <a:graphic>
          <a:graphicData uri="http://schemas.openxmlformats.org/drawingml/2006/table">
            <a:tbl>
              <a:tblPr/>
              <a:tblGrid>
                <a:gridCol w="1322280"/>
                <a:gridCol w="884160"/>
                <a:gridCol w="1424160"/>
                <a:gridCol w="884160"/>
                <a:gridCol w="885960"/>
                <a:gridCol w="1941480"/>
                <a:gridCol w="884160"/>
              </a:tblGrid>
              <a:tr h="642600">
                <a:tc rowSpan="2"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Random access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Random access LoCo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1.1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1.4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8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1.1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1.0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3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>Andrey Norkin</dc:creator>
  <dc:description>Rev PA1</dc:description>
  <cp:keywords/>
  <dc:language>en-US</dc:language>
  <cp:lastModifiedBy>Andrey Norkin</cp:lastModifiedBy>
  <dcterms:modified xsi:type="dcterms:W3CDTF">2011-03-19T11:37:22Z</dcterms:modified>
  <cp:revision>4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0-10-07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© Ericsson AB 2010</vt:lpwstr>
  </property>
  <property fmtid="{D5CDD505-2E9C-101B-9397-08002B2CF9AE}" pid="13" name="MiddleFooterField">
    <vt:lpwstr>Public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>Andrey Norkin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0-10-07</vt:lpwstr>
  </property>
  <property fmtid="{D5CDD505-2E9C-101B-9397-08002B2CF9AE}" pid="22" name="SecurityClass">
    <vt:lpwstr>Public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0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1</vt:bool>
  </property>
  <property fmtid="{D5CDD505-2E9C-101B-9397-08002B2CF9AE}" pid="38" name="optFooterCVLCopyright">
    <vt:bool>1</vt:bool>
  </property>
  <property fmtid="{D5CDD505-2E9C-101B-9397-08002B2CF9AE}" pid="39" name="optFooterCVLDate">
    <vt:bool>1</vt:bool>
  </property>
  <property fmtid="{D5CDD505-2E9C-101B-9397-08002B2CF9AE}" pid="40" name="optFooterCVLDocNo">
    <vt:bool>0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Public</vt:lpwstr>
  </property>
  <property fmtid="{D5CDD505-2E9C-101B-9397-08002B2CF9AE}" pid="46" name="x">
    <vt:lpwstr>1</vt:lpwstr>
  </property>
</Properties>
</file>