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" name="Logo_SM" descr=""/>
          <p:cNvPicPr/>
          <p:nvPr/>
        </p:nvPicPr>
        <p:blipFill>
          <a:blip r:embed="rId2"/>
          <a:stretch/>
        </p:blipFill>
        <p:spPr>
          <a:xfrm>
            <a:off x="8456760" y="-17640"/>
            <a:ext cx="474480" cy="586080"/>
          </a:xfrm>
          <a:prstGeom prst="rect">
            <a:avLst/>
          </a:prstGeom>
          <a:ln w="0">
            <a:noFill/>
          </a:ln>
        </p:spPr>
      </p:pic>
      <p:sp>
        <p:nvSpPr>
          <p:cNvPr id="6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Ericsson  |  2010-10-04  |  Page </a:t>
            </a:r>
            <a:fld id="{F5117437-AE1E-4B87-8597-D476747E6FA8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720" y="2097000"/>
            <a:ext cx="8352000" cy="1463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Ericsson Capital TT"/>
              </a:rPr>
              <a:t>Click to edit the title text format</a:t>
            </a:r>
            <a:endParaRPr b="0" lang="en-US" sz="4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4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5" name="Logo_TM" descr=""/>
          <p:cNvPicPr/>
          <p:nvPr/>
        </p:nvPicPr>
        <p:blipFill>
          <a:blip r:embed="rId2"/>
          <a:stretch/>
        </p:blipFill>
        <p:spPr>
          <a:xfrm>
            <a:off x="4162320" y="-17640"/>
            <a:ext cx="803520" cy="990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Ericsson Capital TT"/>
              </a:rPr>
              <a:t>Click to edit the outline text format</a:t>
            </a: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3480" y="2249640"/>
            <a:ext cx="8351640" cy="12193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8585a"/>
                </a:solidFill>
                <a:latin typeface="Ericsson Capital TT"/>
              </a:rPr>
              <a:t>CE4 Subset1: Ericsson fine granularity slices</a:t>
            </a:r>
            <a:endParaRPr b="0" lang="en-US" sz="40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8354880" cy="20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8585a"/>
                </a:solidFill>
                <a:latin typeface="Ericsson Capital TT"/>
              </a:rPr>
              <a:t>JCTvc-E260</a:t>
            </a:r>
            <a:endParaRPr b="0" lang="en-US" sz="2200" spc="-1" strike="noStrike">
              <a:solidFill>
                <a:srgbClr val="58585a"/>
              </a:solidFill>
              <a:latin typeface="Ericsson Capital TT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8585a"/>
                </a:solidFill>
                <a:latin typeface="Ericsson Capital TT"/>
              </a:rPr>
              <a:t>Rickard Sjöberg, per wennersten</a:t>
            </a:r>
            <a:endParaRPr b="0" lang="en-US" sz="2200" spc="-1" strike="noStrike">
              <a:solidFill>
                <a:srgbClr val="58585a"/>
              </a:solidFill>
              <a:latin typeface="Ericsson Capital TT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8585a"/>
                </a:solidFill>
                <a:latin typeface="Ericsson Capital TT"/>
              </a:rPr>
              <a:t>ericsson AB</a:t>
            </a:r>
            <a:endParaRPr b="0" lang="en-US" sz="22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problem statement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6720" y="1447560"/>
            <a:ext cx="7910640" cy="4095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 fontScale="98000"/>
          </a:bodyPr>
          <a:p>
            <a:pPr marL="172440" indent="-1724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WD2 restricts slice boundaries to largest CU resolution (LCU)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22720" indent="-1742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Common conditions specifies LCU size of 64x64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22720" indent="-1742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This is 16 times larger than a 16x16 macroblock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22720" indent="-1742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Makes slice size control difficult, e.g. to create slices of max 1500 byte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22720" indent="-1742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For highly active and hard-to-compress areas, one single CU may be larger than the target number of slice byte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2440" indent="-1724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Reducing the LCU size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22720" indent="-1742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Cost between 1.7% (all Intra) to 3.2% (LD) to go from 64x64 LCU to 32x32 for 1500 byte slices (source: CE4 report JCTVC-E024)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22720" indent="-1742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No guarantee that every 32x32 LCU is smaller than MTU size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2440" indent="-1724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Fine granularity slice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22720" indent="-1742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Introduced in October 2010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22720" indent="-1742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Two cross-checked independent implementations presented at this meeting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22720" indent="-1742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Cost compared to HM-2.0-dev-slices for 1500 byte slices is in the 0.1% BDR range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proposal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We propose to define slices as a sequence of CU blocks instead of maximum CU blocks, i.e. removing the restriction to align slices on LCU boundarie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66640" y="2124000"/>
            <a:ext cx="3600720" cy="3508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6880" y="5545080"/>
            <a:ext cx="336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Times New Roman"/>
                <a:ea typeface="Times New Roman"/>
              </a:rPr>
              <a:t>Fig 1 - 64x64 block split down to 8x8 blocks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81640" y="2259000"/>
            <a:ext cx="4230720" cy="33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Slice address specified by min CU block number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Decoder starts by decoding the largest possible CU at that starting coordinate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proposal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5560" y="1359000"/>
            <a:ext cx="8584920" cy="3402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lice address signaling is currently using UVLC which may lead to very long VLC code words, close to 32 bit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Entropy of the address is not matched by the UVLC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We propose to replace UVLC coding of slice start by fixed length coding (FLC) with one-bit shortcut for the first block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920x1080 example:</a:t>
            </a:r>
            <a:br>
              <a:rPr sz="1600"/>
            </a:b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Each picture contains of 32,640 min CU:s of size 8x8</a:t>
            </a:r>
            <a:br>
              <a:rPr sz="1600"/>
            </a:b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01640" y="3579840"/>
          <a:ext cx="7291440" cy="2009880"/>
        </p:xfrm>
        <a:graphic>
          <a:graphicData uri="http://schemas.openxmlformats.org/drawingml/2006/table">
            <a:tbl>
              <a:tblPr/>
              <a:tblGrid>
                <a:gridCol w="1035000"/>
                <a:gridCol w="3960720"/>
                <a:gridCol w="2295720"/>
              </a:tblGrid>
              <a:tr h="3373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Block nr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1368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UVLC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1368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FLC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13680">
                      <a:solidFill>
                        <a:srgbClr val="58585a"/>
                      </a:solidFill>
                    </a:lnR>
                    <a:lnT w="1368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1368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10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000000000000000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1368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11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000000000000001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1368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...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1368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5760">
                      <a:solidFill>
                        <a:srgbClr val="58585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32639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1368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0000000000000111111110000000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576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13680">
                      <a:solidFill>
                        <a:srgbClr val="58585a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111111101111111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58585a"/>
                      </a:solidFill>
                    </a:lnL>
                    <a:lnR w="13680">
                      <a:solidFill>
                        <a:srgbClr val="58585a"/>
                      </a:solidFill>
                    </a:lnR>
                    <a:lnT w="5760">
                      <a:solidFill>
                        <a:srgbClr val="58585a"/>
                      </a:solidFill>
                    </a:lnT>
                    <a:lnB w="13680">
                      <a:solidFill>
                        <a:srgbClr val="58585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5688360" y="5611680"/>
            <a:ext cx="188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1 or 16 bits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(average = 16.00 bits)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21880" y="5611680"/>
            <a:ext cx="358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1-29 bits</a:t>
            </a:r>
            <a:br>
              <a:rPr sz="1400"/>
            </a:b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(average for all block numbers = 26.99 bits)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7400" y="6173640"/>
            <a:ext cx="846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Bitrate saving of 11 bits per additional slice in a picture = 0.1% for those slices assuming 1500 byte slices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experimental results 1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304992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Anchor: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HM-2.0</a:t>
            </a:r>
            <a:br>
              <a:rPr sz="1600"/>
            </a:b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No slices</a:t>
            </a:r>
            <a:br>
              <a:rPr sz="1600"/>
            </a:b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Test: 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Fine-granularity slices</a:t>
            </a:r>
            <a:br>
              <a:rPr sz="1600"/>
            </a:b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500 byte slices</a:t>
            </a:r>
            <a:br>
              <a:rPr sz="1600"/>
            </a:b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581280" y="1268280"/>
            <a:ext cx="556272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experimental results 2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6720" y="1375920"/>
            <a:ext cx="3049920" cy="1738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Anchor: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HM-2.0-dev-slices</a:t>
            </a:r>
            <a:br>
              <a:rPr sz="1600"/>
            </a:b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500 byte slices</a:t>
            </a:r>
            <a:br>
              <a:rPr sz="1600"/>
            </a:b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Test: 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Fine-granularity slices</a:t>
            </a:r>
            <a:br>
              <a:rPr sz="1600"/>
            </a:b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1500 byte slice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594240" y="1268280"/>
            <a:ext cx="5549760" cy="5237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30200" y="341964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Note that the anchor exceeds the byte limit when single LCUs exceed 1500 byte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summary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Removing the restriction of slices to be LCU aligned provides better slice size control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Overhead is in the 0.1 percent range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Well tested by two completely independent parties with cross-checker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We support the CE conclusion to adopt fine-granularity slices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Logo_ChapterSlide_Normal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3840" y="624960"/>
            <a:ext cx="7826400" cy="4273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85a"/>
                </a:solidFill>
                <a:latin typeface="Ericsson Capital TT"/>
              </a:rPr>
              <a:t>Syntax and semantics</a:t>
            </a:r>
            <a:endParaRPr b="0" lang="en-US" sz="2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3068640"/>
            <a:ext cx="786600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85a"/>
                </a:solidFill>
                <a:latin typeface="Times New Roman"/>
                <a:ea typeface="바탕"/>
              </a:rPr>
              <a:t>first_sctb_is_zero_flag</a:t>
            </a:r>
            <a:r>
              <a:rPr b="0" lang="en-US" sz="1600" spc="-1" strike="noStrike">
                <a:solidFill>
                  <a:srgbClr val="58585a"/>
                </a:solidFill>
                <a:latin typeface="Times New Roman"/>
                <a:ea typeface="바탕"/>
              </a:rPr>
              <a:t> indicates whether the slice address is 0 or not. If first_sctb_is_zero_flag is 1, the variable SliceAddress is set to 0 and the decoding starts with the first LCTB in the picture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85a"/>
                </a:solidFill>
                <a:latin typeface="Times New Roman"/>
                <a:ea typeface="바탕"/>
              </a:rPr>
              <a:t>first_sctb_in_slice_minus_1</a:t>
            </a:r>
            <a:r>
              <a:rPr b="0" lang="en-US" sz="1600" spc="-1" strike="noStrike">
                <a:solidFill>
                  <a:srgbClr val="58585a"/>
                </a:solidFill>
                <a:latin typeface="Times New Roman"/>
                <a:ea typeface="바탕"/>
              </a:rPr>
              <a:t> specifies the address of the first smallest coding tree block in the slice and shall be represented by </a:t>
            </a:r>
            <a:r>
              <a:rPr b="0" lang="en-US" sz="1600" spc="-1" strike="noStrike">
                <a:solidFill>
                  <a:srgbClr val="58585a"/>
                </a:solidFill>
                <a:latin typeface="Times New Roman"/>
                <a:ea typeface="MS Mincho"/>
              </a:rPr>
              <a:t>Ceil(Log2(NumSCTBsInPicture-1))</a:t>
            </a:r>
            <a:r>
              <a:rPr b="0" lang="en-US" sz="1600" spc="-1" strike="noStrike">
                <a:solidFill>
                  <a:srgbClr val="58585a"/>
                </a:solidFill>
                <a:latin typeface="Times New Roman"/>
                <a:ea typeface="바탕"/>
              </a:rPr>
              <a:t> bits in the bitstream where NumSCTBsInPicture is the number of SCTB:s in a picture. The slice decoding starts with the largest coding unit possible at the slice starting coordinate given by the address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Times New Roman"/>
                <a:ea typeface="바탕"/>
              </a:rPr>
              <a:t>The slice address is specified as follows: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8585a"/>
                </a:solidFill>
                <a:latin typeface="Times New Roman"/>
                <a:ea typeface="바탕"/>
              </a:rPr>
              <a:t>	</a:t>
            </a:r>
            <a:r>
              <a:rPr b="0" lang="en-GB" sz="1600" spc="-1" strike="noStrike">
                <a:solidFill>
                  <a:srgbClr val="58585a"/>
                </a:solidFill>
                <a:latin typeface="Times New Roman"/>
                <a:ea typeface="바탕"/>
              </a:rPr>
              <a:t>SliceAddress = first_sctb_in_slice_minus_1 + 1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11280" y="1268280"/>
          <a:ext cx="5221080" cy="1674720"/>
        </p:xfrm>
        <a:graphic>
          <a:graphicData uri="http://schemas.openxmlformats.org/drawingml/2006/table">
            <a:tbl>
              <a:tblPr/>
              <a:tblGrid>
                <a:gridCol w="3105000"/>
                <a:gridCol w="811440"/>
                <a:gridCol w="1304640"/>
              </a:tblGrid>
              <a:tr h="337320">
                <a:tc>
                  <a:txBody>
                    <a:bodyPr lIns="72000" rIns="72000" tIns="46800" bIns="46800" anchor="t">
                      <a:noAutofit/>
                    </a:bodyPr>
                    <a:p>
                      <a:pPr marL="176040" indent="-176040" algn="just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slice_header( ) {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marL="176040" indent="-176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marL="176040" indent="-1760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Descriptor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72000" rIns="72000" tIns="46800" bIns="46800" anchor="t">
                      <a:noAutofit/>
                    </a:bodyPr>
                    <a:p>
                      <a:pPr marL="176040" indent="-176040" algn="just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first_sctb_is_zero_flag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marL="176040" indent="-176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marL="176040" indent="-1760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u(1)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72000" rIns="72000" tIns="46800" bIns="46800" anchor="t">
                      <a:noAutofit/>
                    </a:bodyPr>
                    <a:p>
                      <a:pPr marL="176040" indent="-176040" algn="just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if(first_sctb_is_zero_flag == 0) {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72000" rIns="72000" tIns="46800" bIns="46800" anchor="t">
                      <a:noAutofit/>
                    </a:bodyPr>
                    <a:p>
                      <a:pPr marL="176040" indent="-176040" algn="just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first_sctb_in_slice_minus_1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marL="176040" indent="-1760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marL="176040" indent="-1760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u(v)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72000" rIns="72000" tIns="46800" bIns="46800" anchor="t">
                      <a:noAutofit/>
                    </a:bodyPr>
                    <a:p>
                      <a:pPr marL="176040" indent="-176040" algn="just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58585a"/>
                          </a:solidFill>
                          <a:latin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615960" y="5975280"/>
            <a:ext cx="53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ee input document for full syntax and semantics change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>EAB/TVV Rickard Sjöberg</dc:creator>
  <dc:description>Rev PA1</dc:description>
  <cp:keywords/>
  <dc:language>en-US</dc:language>
  <cp:lastModifiedBy>Rickard Sjöberg</cp:lastModifiedBy>
  <dcterms:modified xsi:type="dcterms:W3CDTF">2011-03-17T10:15:22Z</dcterms:modified>
  <cp:revision>161</cp:revision>
  <dc:subject/>
  <dc:title>Fine granularity slic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0-10-04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1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/>
  </property>
  <property fmtid="{D5CDD505-2E9C-101B-9397-08002B2CF9AE}" pid="13" name="MiddleFooterField">
    <vt:lpwstr>Ericsson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>EAB/TVV Rickard Sjöberg</vt:lpwstr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/>
  </property>
  <property fmtid="{D5CDD505-2E9C-101B-9397-08002B2CF9AE}" pid="21" name="RightFooterField2">
    <vt:lpwstr>2010-10-04</vt:lpwstr>
  </property>
  <property fmtid="{D5CDD505-2E9C-101B-9397-08002B2CF9AE}" pid="22" name="SecurityClass">
    <vt:lpwstr>Ericsson Internal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Ericsson Capital TT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1</vt:bool>
  </property>
  <property fmtid="{D5CDD505-2E9C-101B-9397-08002B2CF9AE}" pid="35" name="optEnterText3">
    <vt:bool>0</vt:bool>
  </property>
  <property fmtid="{D5CDD505-2E9C-101B-9397-08002B2CF9AE}" pid="36" name="optEnterText4">
    <vt:bool>0</vt:bool>
  </property>
  <property fmtid="{D5CDD505-2E9C-101B-9397-08002B2CF9AE}" pid="37" name="optFooterCVLConfLabel">
    <vt:bool>0</vt:bool>
  </property>
  <property fmtid="{D5CDD505-2E9C-101B-9397-08002B2CF9AE}" pid="38" name="optFooterCVLCopyright">
    <vt:bool>0</vt:bool>
  </property>
  <property fmtid="{D5CDD505-2E9C-101B-9397-08002B2CF9AE}" pid="39" name="optFooterCVLDate">
    <vt:bool>1</vt:bool>
  </property>
  <property fmtid="{D5CDD505-2E9C-101B-9397-08002B2CF9AE}" pid="40" name="optFooterCVLDocNo">
    <vt:bool>1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Ericsson Internal</vt:lpwstr>
  </property>
  <property fmtid="{D5CDD505-2E9C-101B-9397-08002B2CF9AE}" pid="46" name="x">
    <vt:lpwstr>1</vt:lpwstr>
  </property>
</Properties>
</file>