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884412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47240" y="3670560"/>
            <a:ext cx="884412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8920" y="68544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47240" y="367056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8920" y="367056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284760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37760" y="685440"/>
            <a:ext cx="284760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27920" y="685440"/>
            <a:ext cx="284760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47240" y="3670560"/>
            <a:ext cx="284760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37760" y="3670560"/>
            <a:ext cx="284760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27920" y="3670560"/>
            <a:ext cx="284760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47240" y="685440"/>
            <a:ext cx="884412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884412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431568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8920" y="685440"/>
            <a:ext cx="431568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47600" y="-1800"/>
            <a:ext cx="8385120" cy="221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8920" y="685440"/>
            <a:ext cx="431568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47240" y="367056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47240" y="685440"/>
            <a:ext cx="884412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431568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8920" y="68544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8920" y="367056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8920" y="68544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47240" y="3670560"/>
            <a:ext cx="884412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884412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47240" y="3670560"/>
            <a:ext cx="884412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8920" y="68544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47240" y="367056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8920" y="367056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284760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37760" y="685440"/>
            <a:ext cx="284760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127920" y="685440"/>
            <a:ext cx="284760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47240" y="3670560"/>
            <a:ext cx="284760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37760" y="3670560"/>
            <a:ext cx="284760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127920" y="3670560"/>
            <a:ext cx="284760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884412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431568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8920" y="685440"/>
            <a:ext cx="431568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47600" y="-1800"/>
            <a:ext cx="8385120" cy="221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8920" y="685440"/>
            <a:ext cx="431568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47240" y="367056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431568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8920" y="68544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8920" y="367056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8920" y="68544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47240" y="3670560"/>
            <a:ext cx="884412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549360"/>
          </a:xfrm>
          <a:prstGeom prst="rect">
            <a:avLst/>
          </a:prstGeom>
          <a:gradFill rotWithShape="0">
            <a:gsLst>
              <a:gs pos="0">
                <a:srgbClr val="171746"/>
              </a:gs>
              <a:gs pos="50000">
                <a:srgbClr val="333399"/>
              </a:gs>
              <a:gs pos="100000">
                <a:srgbClr val="17174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47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47240" y="685440"/>
            <a:ext cx="884412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4120" indent="-38412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7800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28840" indent="-28584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905120" indent="-28584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381400" indent="-285840">
              <a:spcBef>
                <a:spcPts val="15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381400" indent="-285840">
              <a:spcBef>
                <a:spcPts val="1500"/>
              </a:spcBef>
              <a:buClr>
                <a:srgbClr val="0000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381400" indent="-285840">
              <a:spcBef>
                <a:spcPts val="1500"/>
              </a:spcBef>
              <a:buClr>
                <a:srgbClr val="0000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7921800" y="6597720"/>
            <a:ext cx="10584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JCTVC-E258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8382960" y="115920"/>
            <a:ext cx="980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8639C-D7E9-4774-8222-655B9389A63A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147600" y="6597720"/>
            <a:ext cx="2552760" cy="166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50920" y="2069640"/>
            <a:ext cx="7470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549360"/>
          </a:xfrm>
          <a:prstGeom prst="rect">
            <a:avLst/>
          </a:prstGeom>
          <a:gradFill rotWithShape="0">
            <a:gsLst>
              <a:gs pos="0">
                <a:srgbClr val="171746"/>
              </a:gs>
              <a:gs pos="50000">
                <a:srgbClr val="333399"/>
              </a:gs>
              <a:gs pos="100000">
                <a:srgbClr val="17174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gradFill rotWithShape="0">
            <a:gsLst>
              <a:gs pos="0">
                <a:srgbClr val="171746"/>
              </a:gs>
              <a:gs pos="50000">
                <a:srgbClr val="333399"/>
              </a:gs>
              <a:gs pos="100000">
                <a:srgbClr val="17174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5578560" y="5954760"/>
            <a:ext cx="3241440" cy="210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51560" y="160200"/>
            <a:ext cx="1206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8f8f8"/>
                </a:solidFill>
                <a:latin typeface="Arial"/>
              </a:rPr>
              <a:t>JCTVC-E258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9044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1480" algn="ctr">
              <a:spcBef>
                <a:spcPts val="224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460520" algn="ctr">
              <a:spcBef>
                <a:spcPts val="201"/>
              </a:spcBef>
              <a:buClr>
                <a:srgbClr val="000000"/>
              </a:buClr>
              <a:buSzPct val="7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79560" algn="ctr">
              <a:spcBef>
                <a:spcPts val="176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1879560">
              <a:spcBef>
                <a:spcPts val="349"/>
              </a:spcBef>
              <a:buClr>
                <a:srgbClr val="0000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1879560">
              <a:spcBef>
                <a:spcPts val="349"/>
              </a:spcBef>
              <a:buClr>
                <a:srgbClr val="0000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58920" y="2069640"/>
            <a:ext cx="64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Improvement of inter mode coding and split flags coding for LCEC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258560" y="2997360"/>
            <a:ext cx="643572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0" tIns="46080" bIns="46080" anchor="b">
            <a:noAutofit/>
          </a:bodyPr>
          <a:p>
            <a:pPr indent="0" algn="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Virginie Drugeon, Thomas Wedi, Matthias Narroschk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anasonic Corpo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484160" y="6497640"/>
            <a:ext cx="4617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8f8f8"/>
                </a:solidFill>
                <a:latin typeface="Arial"/>
              </a:rPr>
              <a:t>5th JCT-VC meeting, Geneva 16.-23. March 201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47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ffffff"/>
                </a:solidFill>
                <a:latin typeface="Arial"/>
              </a:rPr>
              <a:t>Outlin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884412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4120" indent="-38412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Proposed inter mode co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Proposed split flags coding for I fra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xperiments and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47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600" spc="-1" strike="noStrike">
                <a:solidFill>
                  <a:srgbClr val="ffffff"/>
                </a:solidFill>
                <a:latin typeface="Arial"/>
              </a:rPr>
              <a:t>Inter mode coding in HM2.0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47600" y="685440"/>
            <a:ext cx="43452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4120" indent="-384120">
              <a:spcBef>
                <a:spcPts val="125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n current HM2.0 inter coding, partition and prediction information of one CU is coded with the symbol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Inter_Part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spcBef>
                <a:spcPts val="125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7 inter modes and 7 fixed codewords are defin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spcBef>
                <a:spcPts val="125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n adaptive mapping table assigns the codewords to the mod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78000"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U based adaptation by swapping two m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spcBef>
                <a:spcPts val="125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One table per depth is defined and adapt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78000"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he content of the CUs is not conside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4120"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45080" y="685440"/>
            <a:ext cx="434664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412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xample of mapping tabl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4120"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4120"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4120"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4120"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412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xample of partitioni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4883040" y="1212840"/>
          <a:ext cx="3073320" cy="1495440"/>
        </p:xfrm>
        <a:graphic>
          <a:graphicData uri="http://schemas.openxmlformats.org/drawingml/2006/table">
            <a:tbl>
              <a:tblPr/>
              <a:tblGrid>
                <a:gridCol w="965160"/>
                <a:gridCol w="1130400"/>
                <a:gridCol w="977760"/>
              </a:tblGrid>
              <a:tr h="36180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"/>
                          <a:ea typeface="MS Mincho"/>
                        </a:rPr>
                        <a:t>Mode number</a:t>
                      </a:r>
                      <a:endParaRPr b="0" lang="en-US" sz="1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"/>
                          <a:ea typeface="MS Mincho"/>
                        </a:rPr>
                        <a:t>Table </a:t>
                      </a: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"/>
                          <a:ea typeface="MS Mincho"/>
                        </a:rPr>
                        <a:t>(codeword index)</a:t>
                      </a:r>
                      <a:endParaRPr b="0" lang="en-US" sz="1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"/>
                          <a:ea typeface="MS Mincho"/>
                        </a:rPr>
                        <a:t>Frequency of </a:t>
                      </a: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"/>
                          <a:ea typeface="MS Mincho"/>
                        </a:rPr>
                        <a:t>occurrences</a:t>
                      </a:r>
                      <a:endParaRPr b="0" lang="en-US" sz="1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00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"/>
                          <a:ea typeface="MS Mincho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"/>
                          <a:ea typeface="MS Mincho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"/>
                          <a:ea typeface="MS Mincho"/>
                        </a:rPr>
                        <a:t>173</a:t>
                      </a:r>
                      <a:endParaRPr b="0" lang="en-US" sz="1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00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"/>
                          <a:ea typeface="MS Mincho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"/>
                          <a:ea typeface="MS Mincho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"/>
                          <a:ea typeface="MS Mincho"/>
                        </a:rPr>
                        <a:t>79</a:t>
                      </a:r>
                      <a:endParaRPr b="0" lang="en-US" sz="1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00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"/>
                          <a:ea typeface="MS Mincho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"/>
                          <a:ea typeface="MS Mincho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"/>
                          <a:ea typeface="MS Mincho"/>
                        </a:rPr>
                        <a:t>60</a:t>
                      </a:r>
                      <a:endParaRPr b="0" lang="en-US" sz="1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00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"/>
                          <a:ea typeface="MS Mincho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"/>
                          <a:ea typeface="MS Mincho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"/>
                          <a:ea typeface="MS Mincho"/>
                        </a:rPr>
                        <a:t>44</a:t>
                      </a:r>
                      <a:endParaRPr b="0" lang="en-US" sz="1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164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"/>
                          <a:ea typeface="MS Mincho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"/>
                          <a:ea typeface="MS Mincho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"/>
                          <a:ea typeface="MS Mincho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00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"/>
                          <a:ea typeface="MS Mincho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"/>
                          <a:ea typeface="MS Mincho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"/>
                          <a:ea typeface="MS Mincho"/>
                        </a:rPr>
                        <a:t>22</a:t>
                      </a:r>
                      <a:endParaRPr b="0" lang="en-US" sz="1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00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"/>
                          <a:ea typeface="MS Mincho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"/>
                          <a:ea typeface="MS Mincho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"/>
                          <a:ea typeface="MS Mincho"/>
                        </a:rPr>
                        <a:t>167</a:t>
                      </a:r>
                      <a:endParaRPr b="0" lang="en-US" sz="1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680000" y="3573360"/>
            <a:ext cx="4213080" cy="242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47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600" spc="-1" strike="noStrike">
                <a:solidFill>
                  <a:srgbClr val="ffffff"/>
                </a:solidFill>
                <a:latin typeface="Arial"/>
              </a:rPr>
              <a:t>Proposed inter mode coding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47240" y="595080"/>
            <a:ext cx="8844120" cy="6002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4120" indent="-38412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troduction of counters for each mapping table to count the number of occurences of the mo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78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daptation of the mapping table depends on the values of the coun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78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xample if mode 2 is code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efore adaptation:                                                 After adapta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4120"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412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dditional tables are introduced to exploit the partitioning and prediction information of CUs above and le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78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Contexts of split flags and skip flags as defined for CABAC are u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7800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or each context, an individual table is used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324000" y="2994120"/>
          <a:ext cx="3073320" cy="1371600"/>
        </p:xfrm>
        <a:graphic>
          <a:graphicData uri="http://schemas.openxmlformats.org/drawingml/2006/table">
            <a:tbl>
              <a:tblPr/>
              <a:tblGrid>
                <a:gridCol w="965160"/>
                <a:gridCol w="1130040"/>
                <a:gridCol w="978120"/>
              </a:tblGrid>
              <a:tr h="30492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Mode number</a:t>
                      </a:r>
                      <a:endParaRPr b="0" lang="en-US" sz="1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Table </a:t>
                      </a: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(codeword index)</a:t>
                      </a:r>
                      <a:endParaRPr b="0" lang="en-US" sz="1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Frequency of </a:t>
                      </a: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occurrences</a:t>
                      </a:r>
                      <a:endParaRPr b="0" lang="en-US" sz="1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173</a:t>
                      </a:r>
                      <a:endParaRPr b="0" lang="en-US" sz="1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79</a:t>
                      </a:r>
                      <a:endParaRPr b="0" lang="en-US" sz="1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60</a:t>
                      </a:r>
                      <a:endParaRPr b="0" lang="en-US" sz="1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15264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44</a:t>
                      </a:r>
                      <a:endParaRPr b="0" lang="en-US" sz="1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22</a:t>
                      </a:r>
                      <a:endParaRPr b="0" lang="en-US" sz="1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167</a:t>
                      </a:r>
                      <a:endParaRPr b="0" lang="en-US" sz="1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7" name=""/>
          <p:cNvGraphicFramePr/>
          <p:nvPr/>
        </p:nvGraphicFramePr>
        <p:xfrm>
          <a:off x="5819760" y="2994120"/>
          <a:ext cx="3073320" cy="1371600"/>
        </p:xfrm>
        <a:graphic>
          <a:graphicData uri="http://schemas.openxmlformats.org/drawingml/2006/table">
            <a:tbl>
              <a:tblPr/>
              <a:tblGrid>
                <a:gridCol w="965160"/>
                <a:gridCol w="1130400"/>
                <a:gridCol w="977760"/>
              </a:tblGrid>
              <a:tr h="30492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Mode number</a:t>
                      </a:r>
                      <a:endParaRPr b="0" lang="en-US" sz="1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Table </a:t>
                      </a: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(codeword index)</a:t>
                      </a:r>
                      <a:endParaRPr b="0" lang="en-US" sz="1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Frequency of </a:t>
                      </a: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occurrences</a:t>
                      </a:r>
                      <a:endParaRPr b="0" lang="en-US" sz="1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173</a:t>
                      </a:r>
                      <a:endParaRPr b="0" lang="en-US" sz="1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79</a:t>
                      </a:r>
                      <a:endParaRPr b="0" lang="en-US" sz="1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61</a:t>
                      </a:r>
                      <a:endParaRPr b="0" lang="en-US" sz="1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15264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44</a:t>
                      </a:r>
                      <a:endParaRPr b="0" lang="en-US" sz="1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22</a:t>
                      </a:r>
                      <a:endParaRPr b="0" lang="en-US" sz="1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167</a:t>
                      </a:r>
                      <a:endParaRPr b="0" lang="en-US" sz="1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8" name=""/>
          <p:cNvSpPr/>
          <p:nvPr/>
        </p:nvSpPr>
        <p:spPr>
          <a:xfrm>
            <a:off x="3614760" y="3979800"/>
            <a:ext cx="1942920" cy="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637080" y="3174840"/>
            <a:ext cx="192060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[2] = C[2] + 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o swapping 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cause C[2] &lt; C[1]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47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600" spc="-1" strike="noStrike">
                <a:solidFill>
                  <a:srgbClr val="ffffff"/>
                </a:solidFill>
                <a:latin typeface="Arial"/>
              </a:rPr>
              <a:t>Proposed joint coding of split flags in I frames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47600" y="620280"/>
            <a:ext cx="86724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4120" indent="-384120">
              <a:spcBef>
                <a:spcPts val="1188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In I frames, a split flag is coded for each CU:</a:t>
            </a:r>
            <a:br>
              <a:rPr sz="1900"/>
            </a:b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1 to signal further partitioning, 0 otherwis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spcBef>
                <a:spcPts val="825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Depending on the coding quality, the split flag sequences 1111 and 0000 can be very frequent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78000">
              <a:spcBef>
                <a:spcPts val="400"/>
              </a:spcBef>
              <a:buClr>
                <a:srgbClr val="000000"/>
              </a:buClr>
              <a:buSzPct val="7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ontexts of split flags as defined for CABAC are us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78000">
              <a:spcBef>
                <a:spcPts val="400"/>
              </a:spcBef>
              <a:buClr>
                <a:srgbClr val="000000"/>
              </a:buClr>
              <a:buSzPct val="7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oding of split flags performed differently for each contex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428840" indent="-285840">
              <a:spcBef>
                <a:spcPts val="176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ontext 0: sequence 0000 coded with bit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428840" indent="-285840">
              <a:spcBef>
                <a:spcPts val="176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ontext 1: HM coding appli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428840" indent="-285840">
              <a:spcBef>
                <a:spcPts val="176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ontext 2: sequence 1111 coded with bit 1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684360" y="3357720"/>
            <a:ext cx="7200720" cy="30002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6012000" y="2408400"/>
            <a:ext cx="2952720" cy="116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47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600" spc="-1" strike="noStrike">
                <a:solidFill>
                  <a:srgbClr val="ffffff"/>
                </a:solidFill>
                <a:latin typeface="Arial"/>
              </a:rPr>
              <a:t>Results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406404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4120" indent="-384120">
              <a:spcBef>
                <a:spcPts val="125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roposed inter mode coding with 3 tables per depth (corresponding to contexts of split flags), without modifications for I fra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4120"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spcBef>
                <a:spcPts val="125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roposed inter mode coding with 9 tables per depth (using contexts of split and skip flags), without modifications for I fra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4120"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spcBef>
                <a:spcPts val="125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roposed joint coding of split flags in I fra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356000" y="692280"/>
          <a:ext cx="4381560" cy="1828800"/>
        </p:xfrm>
        <a:graphic>
          <a:graphicData uri="http://schemas.openxmlformats.org/drawingml/2006/table">
            <a:tbl>
              <a:tblPr/>
              <a:tblGrid>
                <a:gridCol w="725400"/>
                <a:gridCol w="609840"/>
                <a:gridCol w="609480"/>
                <a:gridCol w="609480"/>
                <a:gridCol w="606600"/>
                <a:gridCol w="614160"/>
                <a:gridCol w="606600"/>
              </a:tblGrid>
              <a:tr h="457200">
                <a:tc row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Random access LoCo</a:t>
                      </a:r>
                      <a:endParaRPr b="0" lang="en-US" sz="1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Low delay LoCo</a:t>
                      </a:r>
                      <a:endParaRPr b="0" lang="en-US" sz="1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2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Y BD-rate</a:t>
                      </a:r>
                      <a:endParaRPr b="0" lang="en-US" sz="1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U BD-rate</a:t>
                      </a:r>
                      <a:endParaRPr b="0" lang="en-US" sz="1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V BD-rate</a:t>
                      </a:r>
                      <a:endParaRPr b="0" lang="en-US" sz="1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Y BD-rate</a:t>
                      </a:r>
                      <a:endParaRPr b="0" lang="en-US" sz="1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U BD-rate</a:t>
                      </a:r>
                      <a:endParaRPr b="0" lang="en-US" sz="1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V BD-rate</a:t>
                      </a:r>
                      <a:endParaRPr b="0" lang="en-US" sz="1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Class A</a:t>
                      </a:r>
                      <a:endParaRPr b="0" lang="en-US" sz="1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-0,3 </a:t>
                      </a:r>
                      <a:endParaRPr b="0" lang="en-US" sz="1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-0,2 </a:t>
                      </a:r>
                      <a:endParaRPr b="0" lang="en-US" sz="1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-0,3 </a:t>
                      </a:r>
                      <a:endParaRPr b="0" lang="en-US" sz="1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1526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Class B</a:t>
                      </a:r>
                      <a:endParaRPr b="0" lang="en-US" sz="1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-0,1 </a:t>
                      </a:r>
                      <a:endParaRPr b="0" lang="en-US" sz="1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-0,1 </a:t>
                      </a:r>
                      <a:endParaRPr b="0" lang="en-US" sz="1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0,0 </a:t>
                      </a:r>
                      <a:endParaRPr b="0" lang="en-US" sz="1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-0,4 </a:t>
                      </a:r>
                      <a:endParaRPr b="0" lang="en-US" sz="1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-0,1 </a:t>
                      </a:r>
                      <a:endParaRPr b="0" lang="en-US" sz="1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0,4 </a:t>
                      </a:r>
                      <a:endParaRPr b="0" lang="en-US" sz="1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26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Class C</a:t>
                      </a:r>
                      <a:endParaRPr b="0" lang="en-US" sz="1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-0,3 </a:t>
                      </a:r>
                      <a:endParaRPr b="0" lang="en-US" sz="1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-0,2 </a:t>
                      </a:r>
                      <a:endParaRPr b="0" lang="en-US" sz="1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-0,2 </a:t>
                      </a:r>
                      <a:endParaRPr b="0" lang="en-US" sz="1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-0,5 </a:t>
                      </a:r>
                      <a:endParaRPr b="0" lang="en-US" sz="1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-0,4 </a:t>
                      </a:r>
                      <a:endParaRPr b="0" lang="en-US" sz="1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-0,4 </a:t>
                      </a:r>
                      <a:endParaRPr b="0" lang="en-US" sz="1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26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Class D</a:t>
                      </a:r>
                      <a:endParaRPr b="0" lang="en-US" sz="1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-0,2 </a:t>
                      </a:r>
                      <a:endParaRPr b="0" lang="en-US" sz="1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-0,2 </a:t>
                      </a:r>
                      <a:endParaRPr b="0" lang="en-US" sz="1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-0,2 </a:t>
                      </a:r>
                      <a:endParaRPr b="0" lang="en-US" sz="1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-0,2 </a:t>
                      </a:r>
                      <a:endParaRPr b="0" lang="en-US" sz="1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-0,1 </a:t>
                      </a:r>
                      <a:endParaRPr b="0" lang="en-US" sz="1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0,2 </a:t>
                      </a:r>
                      <a:endParaRPr b="0" lang="en-US" sz="1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26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Class E</a:t>
                      </a:r>
                      <a:endParaRPr b="0" lang="en-US" sz="1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-0,4 </a:t>
                      </a:r>
                      <a:endParaRPr b="0" lang="en-US" sz="1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0,0 </a:t>
                      </a:r>
                      <a:endParaRPr b="0" lang="en-US" sz="1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0,1 </a:t>
                      </a:r>
                      <a:endParaRPr b="0" lang="en-US" sz="1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All</a:t>
                      </a:r>
                      <a:endParaRPr b="0" lang="en-US" sz="1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-0,2 </a:t>
                      </a:r>
                      <a:endParaRPr b="0" lang="en-US" sz="1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-0,2 </a:t>
                      </a:r>
                      <a:endParaRPr b="0" lang="en-US" sz="1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-0,2 </a:t>
                      </a:r>
                      <a:endParaRPr b="0" lang="en-US" sz="1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-0,4 </a:t>
                      </a:r>
                      <a:endParaRPr b="0" lang="en-US" sz="1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-0,2 </a:t>
                      </a:r>
                      <a:endParaRPr b="0" lang="en-US" sz="1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0,1 </a:t>
                      </a:r>
                      <a:endParaRPr b="0" lang="en-US" sz="1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Enc Time[%]</a:t>
                      </a:r>
                      <a:endParaRPr b="0" lang="en-US" sz="1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100%</a:t>
                      </a:r>
                      <a:endParaRPr b="0" lang="en-US" sz="1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26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Dec Time[%]</a:t>
                      </a:r>
                      <a:endParaRPr b="0" lang="en-US" sz="1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100%</a:t>
                      </a:r>
                      <a:endParaRPr b="0" lang="en-US" sz="1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101%</a:t>
                      </a:r>
                      <a:endParaRPr b="0" lang="en-US" sz="1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07" name=""/>
          <p:cNvGraphicFramePr/>
          <p:nvPr/>
        </p:nvGraphicFramePr>
        <p:xfrm>
          <a:off x="5364000" y="4869000"/>
          <a:ext cx="2552760" cy="1371600"/>
        </p:xfrm>
        <a:graphic>
          <a:graphicData uri="http://schemas.openxmlformats.org/drawingml/2006/table">
            <a:tbl>
              <a:tblPr/>
              <a:tblGrid>
                <a:gridCol w="725400"/>
                <a:gridCol w="606600"/>
                <a:gridCol w="614160"/>
                <a:gridCol w="606600"/>
              </a:tblGrid>
              <a:tr h="152640">
                <a:tc row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Intra LoCo</a:t>
                      </a:r>
                      <a:endParaRPr b="0" lang="en-US" sz="1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2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Y BD-rate</a:t>
                      </a:r>
                      <a:endParaRPr b="0" lang="en-US" sz="1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U BD-rate</a:t>
                      </a:r>
                      <a:endParaRPr b="0" lang="en-US" sz="1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V BD-rate</a:t>
                      </a:r>
                      <a:endParaRPr b="0" lang="en-US" sz="1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Class A</a:t>
                      </a:r>
                      <a:endParaRPr b="0" lang="en-US" sz="1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-0,2 </a:t>
                      </a:r>
                      <a:endParaRPr b="0" lang="en-US" sz="1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-0,1 </a:t>
                      </a:r>
                      <a:endParaRPr b="0" lang="en-US" sz="1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-0,1 </a:t>
                      </a:r>
                      <a:endParaRPr b="0" lang="en-US" sz="1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526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Class B</a:t>
                      </a:r>
                      <a:endParaRPr b="0" lang="en-US" sz="1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-0,2 </a:t>
                      </a:r>
                      <a:endParaRPr b="0" lang="en-US" sz="1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-0,2 </a:t>
                      </a:r>
                      <a:endParaRPr b="0" lang="en-US" sz="1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-0,2 </a:t>
                      </a:r>
                      <a:endParaRPr b="0" lang="en-US" sz="1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26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Class C</a:t>
                      </a:r>
                      <a:endParaRPr b="0" lang="en-US" sz="1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-0,1 </a:t>
                      </a:r>
                      <a:endParaRPr b="0" lang="en-US" sz="1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-0,1 </a:t>
                      </a:r>
                      <a:endParaRPr b="0" lang="en-US" sz="1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-0,2 </a:t>
                      </a:r>
                      <a:endParaRPr b="0" lang="en-US" sz="1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26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Class D</a:t>
                      </a:r>
                      <a:endParaRPr b="0" lang="en-US" sz="1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-0,1 </a:t>
                      </a:r>
                      <a:endParaRPr b="0" lang="en-US" sz="1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-0,1 </a:t>
                      </a:r>
                      <a:endParaRPr b="0" lang="en-US" sz="1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-0,1 </a:t>
                      </a:r>
                      <a:endParaRPr b="0" lang="en-US" sz="1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26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Class E</a:t>
                      </a:r>
                      <a:endParaRPr b="0" lang="en-US" sz="1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-0,1 </a:t>
                      </a:r>
                      <a:endParaRPr b="0" lang="en-US" sz="1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0,0 </a:t>
                      </a:r>
                      <a:endParaRPr b="0" lang="en-US" sz="1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0,0 </a:t>
                      </a:r>
                      <a:endParaRPr b="0" lang="en-US" sz="1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All</a:t>
                      </a:r>
                      <a:endParaRPr b="0" lang="en-US" sz="1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-0,2 </a:t>
                      </a:r>
                      <a:endParaRPr b="0" lang="en-US" sz="1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-0,1 </a:t>
                      </a:r>
                      <a:endParaRPr b="0" lang="en-US" sz="1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-0,1 </a:t>
                      </a:r>
                      <a:endParaRPr b="0" lang="en-US" sz="1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Dec Time[%]</a:t>
                      </a:r>
                      <a:endParaRPr b="0" lang="en-US" sz="1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100%</a:t>
                      </a:r>
                      <a:endParaRPr b="0" lang="en-US" sz="1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08" name=""/>
          <p:cNvGraphicFramePr/>
          <p:nvPr/>
        </p:nvGraphicFramePr>
        <p:xfrm>
          <a:off x="4356000" y="2708280"/>
          <a:ext cx="4381560" cy="1971720"/>
        </p:xfrm>
        <a:graphic>
          <a:graphicData uri="http://schemas.openxmlformats.org/drawingml/2006/table">
            <a:tbl>
              <a:tblPr/>
              <a:tblGrid>
                <a:gridCol w="725400"/>
                <a:gridCol w="609840"/>
                <a:gridCol w="609480"/>
                <a:gridCol w="609480"/>
                <a:gridCol w="606600"/>
                <a:gridCol w="614160"/>
                <a:gridCol w="606600"/>
              </a:tblGrid>
              <a:tr h="457200">
                <a:tc row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Random access LoCo</a:t>
                      </a:r>
                      <a:endParaRPr b="0" lang="en-US" sz="1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Low delay LoCo</a:t>
                      </a:r>
                      <a:endParaRPr b="0" lang="en-US" sz="1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1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Y BD-rate</a:t>
                      </a:r>
                      <a:endParaRPr b="0" lang="en-US" sz="1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U BD-rate</a:t>
                      </a:r>
                      <a:endParaRPr b="0" lang="en-US" sz="1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V BD-rate</a:t>
                      </a:r>
                      <a:endParaRPr b="0" lang="en-US" sz="1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Y BD-rate</a:t>
                      </a:r>
                      <a:endParaRPr b="0" lang="en-US" sz="1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U BD-rate</a:t>
                      </a:r>
                      <a:endParaRPr b="0" lang="en-US" sz="1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V BD-rate</a:t>
                      </a:r>
                      <a:endParaRPr b="0" lang="en-US" sz="1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0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Class A</a:t>
                      </a:r>
                      <a:endParaRPr b="0" lang="en-US" sz="1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-0,3 </a:t>
                      </a:r>
                      <a:endParaRPr b="0" lang="en-US" sz="1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-0,2 </a:t>
                      </a:r>
                      <a:endParaRPr b="0" lang="en-US" sz="1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-0,3 </a:t>
                      </a:r>
                      <a:endParaRPr b="0" lang="en-US" sz="1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1616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Class B</a:t>
                      </a:r>
                      <a:endParaRPr b="0" lang="en-US" sz="1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-0,2 </a:t>
                      </a:r>
                      <a:endParaRPr b="0" lang="en-US" sz="1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-0,1 </a:t>
                      </a:r>
                      <a:endParaRPr b="0" lang="en-US" sz="1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-0,1 </a:t>
                      </a:r>
                      <a:endParaRPr b="0" lang="en-US" sz="1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-0,5 </a:t>
                      </a:r>
                      <a:endParaRPr b="0" lang="en-US" sz="1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-0,3 </a:t>
                      </a:r>
                      <a:endParaRPr b="0" lang="en-US" sz="1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0,0 </a:t>
                      </a:r>
                      <a:endParaRPr b="0" lang="en-US" sz="1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20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Class C</a:t>
                      </a:r>
                      <a:endParaRPr b="0" lang="en-US" sz="1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-0,3 </a:t>
                      </a:r>
                      <a:endParaRPr b="0" lang="en-US" sz="1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-0,2 </a:t>
                      </a:r>
                      <a:endParaRPr b="0" lang="en-US" sz="1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-0,2 </a:t>
                      </a:r>
                      <a:endParaRPr b="0" lang="en-US" sz="1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-0,6 </a:t>
                      </a:r>
                      <a:endParaRPr b="0" lang="en-US" sz="1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-0,4 </a:t>
                      </a:r>
                      <a:endParaRPr b="0" lang="en-US" sz="1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-0,6 </a:t>
                      </a:r>
                      <a:endParaRPr b="0" lang="en-US" sz="1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20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Class D</a:t>
                      </a:r>
                      <a:endParaRPr b="0" lang="en-US" sz="1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-0,2 </a:t>
                      </a:r>
                      <a:endParaRPr b="0" lang="en-US" sz="1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-0,3 </a:t>
                      </a:r>
                      <a:endParaRPr b="0" lang="en-US" sz="1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-0,2 </a:t>
                      </a:r>
                      <a:endParaRPr b="0" lang="en-US" sz="1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-0,3 </a:t>
                      </a:r>
                      <a:endParaRPr b="0" lang="en-US" sz="1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0,2 </a:t>
                      </a:r>
                      <a:endParaRPr b="0" lang="en-US" sz="1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0,1 </a:t>
                      </a:r>
                      <a:endParaRPr b="0" lang="en-US" sz="1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13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Class E</a:t>
                      </a:r>
                      <a:endParaRPr b="0" lang="en-US" sz="1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-0,4 </a:t>
                      </a:r>
                      <a:endParaRPr b="0" lang="en-US" sz="1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0,1 </a:t>
                      </a:r>
                      <a:endParaRPr b="0" lang="en-US" sz="1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0,4 </a:t>
                      </a:r>
                      <a:endParaRPr b="0" lang="en-US" sz="1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13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All</a:t>
                      </a:r>
                      <a:endParaRPr b="0" lang="en-US" sz="1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-0,3 </a:t>
                      </a:r>
                      <a:endParaRPr b="0" lang="en-US" sz="1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-0,2 </a:t>
                      </a:r>
                      <a:endParaRPr b="0" lang="en-US" sz="1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-0,2 </a:t>
                      </a:r>
                      <a:endParaRPr b="0" lang="en-US" sz="1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-0,5 </a:t>
                      </a:r>
                      <a:endParaRPr b="0" lang="en-US" sz="1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-0,1 </a:t>
                      </a:r>
                      <a:endParaRPr b="0" lang="en-US" sz="1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-0,1 </a:t>
                      </a:r>
                      <a:endParaRPr b="0" lang="en-US" sz="1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17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Enc Time[%]</a:t>
                      </a:r>
                      <a:endParaRPr b="0" lang="en-US" sz="1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100%</a:t>
                      </a:r>
                      <a:endParaRPr b="0" lang="en-US" sz="1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100%</a:t>
                      </a:r>
                      <a:endParaRPr b="0" lang="en-US" sz="1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13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Dec Time[%]</a:t>
                      </a:r>
                      <a:endParaRPr b="0" lang="en-US" sz="1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101%</a:t>
                      </a:r>
                      <a:endParaRPr b="0" lang="en-US" sz="1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102%</a:t>
                      </a:r>
                      <a:endParaRPr b="0" lang="en-US" sz="1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47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884412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4120" indent="-38412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odifications of LCEC coding of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780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nter mo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780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plit flags for I fra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412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esults of experi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780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or inter mode codi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428840" indent="-285840">
              <a:spcBef>
                <a:spcPts val="224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With three tables per depth: 0.2% (RA) and 0.4% (LD) g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428840" indent="-285840">
              <a:spcBef>
                <a:spcPts val="224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With nine tables per depth: 0.3% (RA) and 0.5% (LD) g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780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or joint coding of split flags for I frames: 0.2% gain for int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780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No significant impact on runtime rat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412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Proposal: Study in a 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780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nvestigate the number of tables per dep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2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07T09:15:50Z</dcterms:created>
  <dc:creator>Virginie Drugeon</dc:creator>
  <dc:description/>
  <dc:language>en-US</dc:language>
  <cp:lastModifiedBy>Virginie Drugeon</cp:lastModifiedBy>
  <dcterms:modified xsi:type="dcterms:W3CDTF">2011-03-16T17:25:44Z</dcterms:modified>
  <cp:revision>1648</cp:revision>
  <dc:subject/>
  <dc:title>JCTVC-E258</dc:title>
</cp:coreProperties>
</file>