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1800" y="65977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E25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C01-2F15-4C71-A1CB-817E473091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1560" y="16020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E25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cisions for deblock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59280" y="2997360"/>
            <a:ext cx="463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4160" y="6497640"/>
            <a:ext cx="461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th JCT-VC meeting, Geneva 16.-23. March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ubjective qua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ces selected by CE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1989000"/>
            <a:ext cx="88441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HM2.0: Vidyo3, LD, H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95400" y="905040"/>
            <a:ext cx="53532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al: Vidyo3, LD, H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47960" y="909720"/>
            <a:ext cx="52480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isions compromising HM2.0 and H.264/MPEG-4 A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of experi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ared to HM2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D-bit rat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.2% in average of over all test sequences and configu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.7% in average for LD-LC, Class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encoder-/decoder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/ slightly increased subjectiv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ared to HM2.0 including H.264/MPEG-4 AVC-li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4% less addional operation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de into next version of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blocking decisions compromisi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M2.0 and H.264/MPEG-4 A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ference: HM2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filter on/off decision for all 8 lines/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ber of required operations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1763640" y="270792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85264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gment of 8 columns/lin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39960" y="131400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39960" y="195696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84680" y="1268280"/>
                <a:ext cx="4416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91160" y="1892160"/>
                <a:ext cx="4376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4365720"/>
                <a:ext cx="1297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.264/MPEG-4 AVC-lik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individual filter on/off decision for each of the 8 lines/colum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ber of required operations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939960" y="89280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39960" y="23961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92600" y="790560"/>
                <a:ext cx="4397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64160" y="2352600"/>
                <a:ext cx="443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229440" y="1197000"/>
            <a:ext cx="287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6600" y="4508640"/>
                <a:ext cx="2728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938160" y="1109160"/>
            <a:ext cx="273708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38160" y="1333080"/>
            <a:ext cx="273708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44640" y="154908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44640" y="17643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944640" y="198072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949320" y="219672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600" y="685800"/>
            <a:ext cx="8996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individual filter on/off decision for each of the 8 lines/colum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ber of required operations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939960" y="89280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39960" y="23961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4680" y="1271520"/>
                <a:ext cx="4416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64160" y="2352600"/>
                <a:ext cx="443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19440" y="3716280"/>
                <a:ext cx="27525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2,5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932040" y="133308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32040" y="197280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92600" y="836640"/>
                <a:ext cx="4397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691160" y="1892160"/>
                <a:ext cx="4376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35040" y="4172040"/>
                <a:ext cx="2524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   ;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528920" y="4603680"/>
                <a:ext cx="257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   ;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16120" y="5011560"/>
                <a:ext cx="3295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;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04960" y="5443560"/>
                <a:ext cx="3317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;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ed into HM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ulated with comm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s of the same configuration are used for a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 tim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D-bit rate re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537372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.264/MPEG-4 AVC-lik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45120" y="5373720"/>
            <a:ext cx="176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26000" y="620640"/>
            <a:ext cx="43718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3736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5881680"/>
            <a:ext cx="85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=&gt; Same coding efficiency improv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coder run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measured by 80 times decoding of the whole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373720"/>
            <a:ext cx="85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=&gt; Same decoder run time as HM2.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55720"/>
            <a:ext cx="8569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ding efficiency versus computational exp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258920" y="1413000"/>
            <a:ext cx="0" cy="4176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5589720"/>
            <a:ext cx="655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6170760"/>
            <a:ext cx="49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dditional operations for on/off-decision per edge seg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5520" y="765000"/>
            <a:ext cx="225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D bit rate reduction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ompared to HM2.0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veraged over all test c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9480" y="5481720"/>
            <a:ext cx="217440" cy="2156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9368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548172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580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9288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4440" y="3789360"/>
            <a:ext cx="21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39760" y="1989000"/>
            <a:ext cx="21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371628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560" y="188424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924200"/>
            <a:ext cx="217800" cy="215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292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91080" y="1925640"/>
            <a:ext cx="2174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6860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96040" y="58053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6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95720" y="2166840"/>
            <a:ext cx="86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216684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H.264/MPEG-4 AVC-lik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5284800"/>
            <a:ext cx="86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HM2.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524400" y="907920"/>
            <a:ext cx="2233440" cy="1008360"/>
            <a:chOff x="3524400" y="907920"/>
            <a:chExt cx="2233440" cy="1008360"/>
          </a:xfrm>
        </p:grpSpPr>
        <p:sp>
          <p:nvSpPr>
            <p:cNvPr id="174" name=""/>
            <p:cNvSpPr/>
            <p:nvPr/>
          </p:nvSpPr>
          <p:spPr>
            <a:xfrm>
              <a:off x="3668400" y="1197000"/>
              <a:ext cx="1800000" cy="719280"/>
            </a:xfrm>
            <a:custGeom>
              <a:avLst/>
              <a:gdLst/>
              <a:ahLst/>
              <a:rect l="l" t="t" r="r" b="b"/>
              <a:pathLst>
                <a:path w="1134" h="453">
                  <a:moveTo>
                    <a:pt x="1134" y="453"/>
                  </a:moveTo>
                  <a:cubicBezTo>
                    <a:pt x="956" y="226"/>
                    <a:pt x="779" y="0"/>
                    <a:pt x="590" y="0"/>
                  </a:cubicBezTo>
                  <a:cubicBezTo>
                    <a:pt x="401" y="0"/>
                    <a:pt x="200" y="226"/>
                    <a:pt x="0" y="45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24400" y="907920"/>
              <a:ext cx="223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Arial"/>
                </a:rPr>
                <a:t>44% less operation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3-17T09:59:54Z</dcterms:modified>
  <cp:revision>1589</cp:revision>
  <dc:subject/>
  <dc:title>JCTVC-E251</dc:title>
</cp:coreProperties>
</file>