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696600" y="739440"/>
            <a:ext cx="53449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145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2099-DCC3-41D0-9F01-D386BB99BBC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able 1 shows RD performance with motion vector compression off relative to HM2.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t s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bit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for random access cases on average 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bit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for low delay cases o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t means that BD rate loss of motion vector compression is ranging from 0.6% to 0.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e reason we use this approach is that we can search representative MV during encoding PU, and it is not necessary to research again after encoding 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n scaling method, we can solve inconsistency between MV and reference index of each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In random access cas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sav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bit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for high efficienc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low complexity on aver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On the other hand, in low delay cas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sav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bit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for high efficienc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0.7% bits for low complexity on aver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he difference in the encoding and decoding time is not obvio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7931-23D2-4DCB-A8DE-4ADCB04D6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553D-0BCE-4ED9-A9D9-46E0C0317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5E9D-9B5C-4CF6-82B1-ED301BB0B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0BD1-55D5-49C1-9ECA-A82AC4EEC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86B9-CC13-4F54-93FF-366399AD44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81D6-8658-4763-A5B8-4DED4DCDE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DF7F-71A5-4CB4-93C4-ADA554CCE6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E6AC-C9E4-43DF-B95D-B994CE67BE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AC96-BD8F-4F5F-9CB1-4642B138E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BC82-36C4-4C47-9192-5F32DA9539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FBC4-3995-4820-8BD8-37F66E59B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0520-9E4B-4E1F-B62A-1C4C8E033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9A4C-6FDF-4D1F-92BA-39FE3F9473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3068-7E94-4348-A00A-9399908DE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9D4B-3E96-4654-92DB-ACDFAF514E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3446-2790-4044-8CF5-E79991EF2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FA95-7C8A-4834-AF99-5B1150EB9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727F-0EF5-46E8-954A-51708AB03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E22C-98ED-4D47-A674-62CF65B40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C8EA-F68D-433C-9758-4D974A618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6DD1-A9B4-4F6F-B9B6-94E898783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1F7E-FB35-471A-AD82-2C02335D3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B5A6-F1B2-43B6-BF7E-30B603CDB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9C7F-0F81-4A93-8B39-7F1427721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792-1865-4E1E-AE43-5E8C7D065EC7}" type="slidenum"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76000" y="655308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CTVC-E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650-E20D-4E5B-A404-4B75B1097F40}" type="slidenum"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84880" y="602136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1699920"/>
            <a:ext cx="88902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TVC-E231: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ified motion vector compress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hiyasu Su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hiro N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as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920" y="692280"/>
            <a:ext cx="9182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vector compression method was adopted into HM2.0 in Daegu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losses in BD rate when MV compres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0.8% loss on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the process of MV com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Saving 0.6% bits for HE RA and LC RA on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Saving 0.6% bits for HE LD, 0.7% bits for LC LD on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FC0D-2F37-4322-B6E7-801163DA8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5040" y="692280"/>
            <a:ext cx="96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 compression reduces a buffer size for storing MV of co-located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observed that there are some losses in BD rate when MV compres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57440" y="1917720"/>
            <a:ext cx="6175440" cy="4340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95720" y="1557360"/>
            <a:ext cx="664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D performance of motion vector compression off (anchor: HM2.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85DE-806D-4A8E-BD34-6BE6C302C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71480" y="3156120"/>
            <a:ext cx="514440" cy="51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0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89160" y="3156120"/>
            <a:ext cx="51408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7120" y="3156120"/>
            <a:ext cx="5126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1=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5080" y="315612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1480" y="3668760"/>
            <a:ext cx="5144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2680" y="3668760"/>
            <a:ext cx="5144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93880" y="3668760"/>
            <a:ext cx="51120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3640" y="3668760"/>
            <a:ext cx="5126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1480" y="4186080"/>
            <a:ext cx="5144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2680" y="4186080"/>
            <a:ext cx="5144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3880" y="4186080"/>
            <a:ext cx="51120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3640" y="4186080"/>
            <a:ext cx="5126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960" y="469584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9160" y="4695840"/>
            <a:ext cx="51408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7120" y="4695840"/>
            <a:ext cx="5126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0=0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1=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05080" y="469584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1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76240" y="246348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080" y="2163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vL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13040" y="3045960"/>
            <a:ext cx="347400" cy="196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8360" y="2597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v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653840" y="3848040"/>
            <a:ext cx="258840" cy="4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46480" y="4539960"/>
            <a:ext cx="776160" cy="260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481040" y="3588840"/>
            <a:ext cx="432000" cy="17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95360" y="4281480"/>
            <a:ext cx="17316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171520" y="3503160"/>
            <a:ext cx="26172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346480" y="4281480"/>
            <a:ext cx="60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13040" y="4367160"/>
            <a:ext cx="8712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46480" y="2984400"/>
            <a:ext cx="258480" cy="262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3848040"/>
            <a:ext cx="514440" cy="51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0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65680" y="315576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99320" y="2770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ve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51600" y="317340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0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9280" y="3173400"/>
            <a:ext cx="51408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77240" y="3173400"/>
            <a:ext cx="5126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1=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85200" y="317340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1600" y="3686040"/>
            <a:ext cx="5144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0" y="3686040"/>
            <a:ext cx="5144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74000" y="3686040"/>
            <a:ext cx="51120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83760" y="3686040"/>
            <a:ext cx="5126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51600" y="420228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0" y="4202280"/>
            <a:ext cx="5144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74000" y="4202280"/>
            <a:ext cx="51120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83760" y="4202280"/>
            <a:ext cx="512640" cy="51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8080" y="4713120"/>
            <a:ext cx="5144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9280" y="4713120"/>
            <a:ext cx="5140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85200" y="4713120"/>
            <a:ext cx="5144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1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070760" y="246348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64360" y="2452320"/>
            <a:ext cx="8604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40680" y="289692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570880" y="289692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002440" y="3438360"/>
            <a:ext cx="8604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35880" y="402084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9760" y="3848040"/>
            <a:ext cx="690840" cy="433440"/>
          </a:xfrm>
          <a:prstGeom prst="rightArrow">
            <a:avLst>
              <a:gd name="adj1" fmla="val 50000"/>
              <a:gd name="adj2" fmla="val 398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77080" y="3848040"/>
            <a:ext cx="603000" cy="433440"/>
          </a:xfrm>
          <a:prstGeom prst="rightArrow">
            <a:avLst>
              <a:gd name="adj1" fmla="val 50000"/>
              <a:gd name="adj2" fmla="val 347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4480" y="467208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-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V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60880" y="2724120"/>
            <a:ext cx="1555560" cy="2594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560" y="534348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MV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6560" y="5343480"/>
            <a:ext cx="26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Referring as co-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1120" y="534348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MV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13040" y="4539960"/>
            <a:ext cx="258840" cy="260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77240" y="4713120"/>
            <a:ext cx="5126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0=0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fL1=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53560" y="3998520"/>
            <a:ext cx="8568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2680" y="692280"/>
            <a:ext cx="921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M2.0, the MV of left-top 4x4 block is selected as a representative M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presentative MV is used as a MV of each 4x4 block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ven though a reference index or prediction type of each 4x4 blocks is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t 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consistency between MV and referenc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0A41-F9BF-46E0-A649-18C962398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36840" y="3392640"/>
            <a:ext cx="9027000" cy="3277440"/>
            <a:chOff x="636840" y="3392640"/>
            <a:chExt cx="9027000" cy="3277440"/>
          </a:xfrm>
        </p:grpSpPr>
        <p:sp>
          <p:nvSpPr>
            <p:cNvPr id="164" name=""/>
            <p:cNvSpPr/>
            <p:nvPr/>
          </p:nvSpPr>
          <p:spPr>
            <a:xfrm>
              <a:off x="1081080" y="434808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0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5480" y="434808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3040" y="4348080"/>
              <a:ext cx="4608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60600" y="4348080"/>
              <a:ext cx="46296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1080" y="4809600"/>
              <a:ext cx="462600" cy="46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0080" y="4809600"/>
              <a:ext cx="462960" cy="46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99800" y="4809600"/>
              <a:ext cx="460800" cy="46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9160" y="4809600"/>
              <a:ext cx="460800" cy="46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1080" y="527436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0080" y="5274360"/>
              <a:ext cx="46296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99800" y="5274360"/>
              <a:ext cx="4608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59160" y="5274360"/>
              <a:ext cx="4608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6120" y="573408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45480" y="573408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03040" y="5734080"/>
              <a:ext cx="460800" cy="46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0=0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0600" y="5734080"/>
              <a:ext cx="46296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175040" y="3724920"/>
              <a:ext cx="77040" cy="77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1360" y="3471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v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6200" y="38574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v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1874160" y="4970520"/>
              <a:ext cx="232920" cy="39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496960" y="5593320"/>
              <a:ext cx="699120" cy="23472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1718640" y="4737240"/>
              <a:ext cx="388800" cy="15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641600" y="5360040"/>
              <a:ext cx="155880" cy="46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341080" y="4660200"/>
              <a:ext cx="23472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496960" y="5359680"/>
              <a:ext cx="54324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107800" y="5437080"/>
              <a:ext cx="78840" cy="390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107800" y="5593320"/>
              <a:ext cx="232920" cy="234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9920" y="4970520"/>
              <a:ext cx="462600" cy="46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0=0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06760" y="436320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22240" y="436320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2000" y="4824720"/>
              <a:ext cx="462600" cy="46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01360" y="4824720"/>
              <a:ext cx="462960" cy="46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0720" y="4824720"/>
              <a:ext cx="461160" cy="46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20440" y="4824720"/>
              <a:ext cx="460800" cy="46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2000" y="5289480"/>
              <a:ext cx="46260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01360" y="5289480"/>
              <a:ext cx="46296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720" y="5289480"/>
              <a:ext cx="46116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0440" y="5289480"/>
              <a:ext cx="46080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47040" y="5749200"/>
              <a:ext cx="46296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t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06760" y="5749200"/>
              <a:ext cx="46260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2240" y="5749200"/>
              <a:ext cx="46260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5280" y="4970520"/>
              <a:ext cx="620280" cy="389160"/>
            </a:xfrm>
            <a:prstGeom prst="rightArrow">
              <a:avLst>
                <a:gd name="adj1" fmla="val 50000"/>
                <a:gd name="adj2" fmla="val 3984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wr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64320" y="4970520"/>
              <a:ext cx="543240" cy="389160"/>
            </a:xfrm>
            <a:prstGeom prst="rightArrow">
              <a:avLst>
                <a:gd name="adj1" fmla="val 50000"/>
                <a:gd name="adj2" fmla="val 3489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32800" y="572724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-lo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V 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0280" y="3958920"/>
              <a:ext cx="1321560" cy="233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6840" y="6332760"/>
              <a:ext cx="274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efore MV com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13320" y="6332760"/>
              <a:ext cx="33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 Referring as co-lo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9560" y="633276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fter MV comp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673880" y="4659840"/>
              <a:ext cx="7884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673880" y="4814640"/>
              <a:ext cx="699120" cy="234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6640" y="4231440"/>
              <a:ext cx="225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resentative M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095680" y="4503960"/>
              <a:ext cx="7704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629480" y="5047560"/>
              <a:ext cx="61200" cy="31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162920" y="5360040"/>
              <a:ext cx="92520" cy="46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095680" y="5593320"/>
              <a:ext cx="622080" cy="234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107800" y="4248720"/>
              <a:ext cx="312120" cy="177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496960" y="4193640"/>
              <a:ext cx="232920" cy="234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47120" y="3392640"/>
              <a:ext cx="31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caled representative M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64320" y="5749200"/>
              <a:ext cx="460800" cy="46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0=0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42000" y="4363200"/>
              <a:ext cx="4626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0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4320" y="4363200"/>
              <a:ext cx="460800" cy="46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fL1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9480" y="4660200"/>
              <a:ext cx="4608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629480" y="5437080"/>
              <a:ext cx="7668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697080" y="3724920"/>
              <a:ext cx="1386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330920" y="4737600"/>
              <a:ext cx="388440" cy="155880"/>
              <a:chOff x="1330920" y="4737600"/>
              <a:chExt cx="388440" cy="155880"/>
            </a:xfrm>
          </p:grpSpPr>
          <p:sp>
            <p:nvSpPr>
              <p:cNvPr id="229" name=""/>
              <p:cNvSpPr/>
              <p:nvPr/>
            </p:nvSpPr>
            <p:spPr>
              <a:xfrm>
                <a:off x="1330920" y="4737600"/>
                <a:ext cx="3096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330920" y="4737600"/>
                <a:ext cx="309600" cy="155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30920" y="4893480"/>
                <a:ext cx="388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8095680" y="5126760"/>
              <a:ext cx="622080" cy="234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629480" y="5711400"/>
              <a:ext cx="309960" cy="116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095680" y="4312080"/>
              <a:ext cx="309960" cy="116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629480" y="4270680"/>
              <a:ext cx="309960" cy="116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4680" y="620640"/>
            <a:ext cx="9373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Selecting method for a representative MV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representative MV is searched among 4x4 blocks according to encod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From top left to bottom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f 4x4 block has mvLX (X=0 or 1), the representative mvLX is updated by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 searching, updated representative MV is stored into a MV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Referring method as a co-located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 representative MV is scaled by using reference index of each 4x4 block and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reference index correspond to the representative 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95E5-ADEF-4923-B6B8-AE44B4E409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040" y="642960"/>
            <a:ext cx="88362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modified method was implemented on HM2.0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t was tested for four inter coding configu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2080" y="112536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chor: HM2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4120" y="6477120"/>
            <a:ext cx="37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checked by Sharp(JCTVC-E3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96880" y="1413000"/>
            <a:ext cx="7223400" cy="508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8B65-D7D5-4040-B3F8-0A1B8E1B3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040" y="642960"/>
            <a:ext cx="92678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modif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 compress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is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po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 compress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sa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0.6% bits for HE RA and LC RA on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0.6% bits for HE LD, 0.7% bits for LC LD on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number of bits consistently for almost all tes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owever, MV compression is related to the position of temporal motion vector predi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e recommend to consider this aspect in CE or A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1D06-37E7-42C9-B681-647F1EF49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03-19T15:24:38Z</dcterms:modified>
  <cp:revision>1803</cp:revision>
  <dc:subject/>
  <dc:title>Title</dc:title>
</cp:coreProperties>
</file>