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1800" y="65977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E22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7CE-33B3-4BFD-8A9D-34FF5194EF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1560" y="16020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E22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ine memory reduction for ALF decod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80000" y="3692520"/>
            <a:ext cx="3914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4160" y="6497640"/>
            <a:ext cx="461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th JCT-VC meeting, Geneva 16.-23. March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78800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8800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84720" y="1700280"/>
            <a:ext cx="793800" cy="384660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0036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ption to reduce column memory in ad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0036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00360" y="4941720"/>
            <a:ext cx="4175280" cy="650880"/>
            <a:chOff x="2700360" y="4941720"/>
            <a:chExt cx="4175280" cy="650880"/>
          </a:xfrm>
        </p:grpSpPr>
        <p:sp>
          <p:nvSpPr>
            <p:cNvPr id="350" name=""/>
            <p:cNvSpPr/>
            <p:nvPr/>
          </p:nvSpPr>
          <p:spPr>
            <a:xfrm>
              <a:off x="270036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8800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771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71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71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87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87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87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180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4180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180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923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923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9236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67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67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67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19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19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19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056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056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056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59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75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75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75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290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290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290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8000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8000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8000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545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545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5456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728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728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728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578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578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578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0360" y="1700280"/>
            <a:ext cx="2340000" cy="2490840"/>
          </a:xfrm>
          <a:prstGeom prst="rect">
            <a:avLst/>
          </a:prstGeom>
          <a:solidFill>
            <a:srgbClr val="ccffcc">
              <a:alpha val="4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830760" y="3255840"/>
            <a:ext cx="2109600" cy="1571760"/>
            <a:chOff x="3830760" y="3255840"/>
            <a:chExt cx="2109600" cy="1571760"/>
          </a:xfrm>
        </p:grpSpPr>
        <p:sp>
          <p:nvSpPr>
            <p:cNvPr id="402" name=""/>
            <p:cNvSpPr/>
            <p:nvPr/>
          </p:nvSpPr>
          <p:spPr>
            <a:xfrm>
              <a:off x="511164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1164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4672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4672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4672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97640" y="426240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97640" y="400356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97640" y="375912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4028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4968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4968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4968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5604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5604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5604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3848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90840" y="4262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0840" y="4003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0840" y="3759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30760" y="400356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18120" y="35146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3200" y="351468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56160" y="35146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62520" y="35146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97320" y="35146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10200" y="325584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48240" y="325584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54600" y="325584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8120" y="45212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53200" y="452124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56160" y="45212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62520" y="45212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7320" y="45212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10200" y="47260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48240" y="47260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54600" y="47260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97080" y="4941720"/>
            <a:ext cx="358920" cy="6508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63640" y="1700280"/>
            <a:ext cx="1577880" cy="936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636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56360" y="419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872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872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8720" y="419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5964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59640" y="419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5636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5636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0872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872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5964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5964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5636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5636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5636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0872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0872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872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5964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5964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5964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5780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5780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5780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1016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1016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1016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6108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6108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6108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5780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5780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1016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1016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6108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6108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9720" y="5079960"/>
            <a:ext cx="179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Not yet deblocked pixe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that dela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94840" y="6093000"/>
            <a:ext cx="179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Not yet deblocked pixe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that dela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6298920" y="5515920"/>
            <a:ext cx="358920" cy="6508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3320" y="1201680"/>
            <a:ext cx="248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Region that can be proces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y both Deblocking filter and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78800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0036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800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700360" y="4941720"/>
            <a:ext cx="4175280" cy="650880"/>
            <a:chOff x="2700360" y="4941720"/>
            <a:chExt cx="4175280" cy="650880"/>
          </a:xfrm>
        </p:grpSpPr>
        <p:sp>
          <p:nvSpPr>
            <p:cNvPr id="490" name=""/>
            <p:cNvSpPr/>
            <p:nvPr/>
          </p:nvSpPr>
          <p:spPr>
            <a:xfrm>
              <a:off x="270036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8800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084720" y="1700280"/>
            <a:ext cx="793800" cy="384660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ption to reduce column memory in ad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0036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71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1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71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7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87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4180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4180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180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923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923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236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8000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8000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67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67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67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19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19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19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056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056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056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75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75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75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290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290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290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8000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8000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8000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545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545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54560" y="4983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0728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728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7280" y="498312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578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578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657840" y="4983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1700280"/>
            <a:ext cx="3095640" cy="3241440"/>
          </a:xfrm>
          <a:prstGeom prst="rect">
            <a:avLst/>
          </a:prstGeom>
          <a:solidFill>
            <a:srgbClr val="ccffcc">
              <a:alpha val="4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97080" y="4941720"/>
            <a:ext cx="358920" cy="6508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1680" y="5079960"/>
            <a:ext cx="179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Not yet deblocked pixe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re used b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63640" y="1700280"/>
            <a:ext cx="1577880" cy="936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5636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5636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56360" y="4221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0872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872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08720" y="4221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59640" y="472428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59640" y="4479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59640" y="4221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5636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5636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0872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872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59640" y="393372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59640" y="3687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5636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5636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872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872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0872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59640" y="34718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59640" y="32558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59640" y="30402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5780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780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5780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1016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1016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41016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61080" y="275112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1080" y="2506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61080" y="22176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5780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5780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1016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1016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61080" y="19605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61080" y="171468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572000" y="3976560"/>
            <a:ext cx="2187720" cy="1570320"/>
            <a:chOff x="4572000" y="3976560"/>
            <a:chExt cx="2187720" cy="1570320"/>
          </a:xfrm>
        </p:grpSpPr>
        <p:sp>
          <p:nvSpPr>
            <p:cNvPr id="587" name=""/>
            <p:cNvSpPr/>
            <p:nvPr/>
          </p:nvSpPr>
          <p:spPr>
            <a:xfrm>
              <a:off x="5869080" y="50133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6908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6908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56360" y="49831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5636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5636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07280" y="498312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07280" y="472428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7280" y="447984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5964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35560" y="50133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80000" y="50133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8792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8792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59280" y="50133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2436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2436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6720" y="50133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7672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76720" y="4479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75200" y="4235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62840" y="422100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42040" y="4235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94400" y="4235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83200" y="4235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67280" y="3976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34120" y="397656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86480" y="397656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75200" y="52419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62840" y="524196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42040" y="52419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94400" y="52419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83200" y="52419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67280" y="544500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34120" y="5445000"/>
              <a:ext cx="9972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86480" y="544500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93320" y="1201680"/>
            <a:ext cx="248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Region that can be proces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y both Deblocking filter and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94840" y="6093000"/>
            <a:ext cx="179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Not yet deblocked pixe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re used b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6298920" y="5515920"/>
            <a:ext cx="358920" cy="6508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ption to reduce column memory in ad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476360" y="685800"/>
            <a:ext cx="3176640" cy="57150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938840" y="3279600"/>
            <a:ext cx="39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=&gt; Same coding efficienc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memory reduction for  ALF by using the non-deblocked signal at the bottom of L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ificant reduction of decoder line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% for l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% for ch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coding efficiency as HM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ginally increased memory requirement in the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sible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tch to disable ALF at the bottom of L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me significant reduction of decoder lin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increase of memory in en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ightly decreased coding efficiency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-HE: 0.14%, RA-HE: 0.21%, LD-HE: 0.32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reduction of colum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me coding efficiency as HM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al: Include into next version of the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 memory reduction for ALF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817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 memory reduction for  ALF by using the pre-deblocked signal at the bottom of 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ificant reduction of decoder line memory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 33% for luma and 20% for chroma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me coding efficiency as HM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8800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ing in HM2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6292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3646440"/>
            <a:ext cx="208728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5640" y="1700280"/>
            <a:ext cx="208728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6292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170028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364644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700280"/>
            <a:ext cx="358560" cy="38923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01520 h 3892320"/>
              <a:gd name="textAreaBottom" fmla="*/ 3790800 h 389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6600" y="3357720"/>
            <a:ext cx="144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Example LCU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onsisting of fou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Us of 8x8 sampl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5734080"/>
            <a:ext cx="273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Deblocking needs to be delayed since the LCU below is not availab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1341360"/>
            <a:ext cx="208764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170028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341360"/>
            <a:ext cx="208764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3251160"/>
            <a:ext cx="208764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364644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251160"/>
            <a:ext cx="208764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170028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75640" y="1344600"/>
            <a:ext cx="208728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646440"/>
            <a:ext cx="863640" cy="194616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3251160"/>
            <a:ext cx="2087640" cy="78912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700360" y="5197320"/>
            <a:ext cx="4175280" cy="395280"/>
            <a:chOff x="2700360" y="5197320"/>
            <a:chExt cx="4175280" cy="395280"/>
          </a:xfrm>
        </p:grpSpPr>
        <p:sp>
          <p:nvSpPr>
            <p:cNvPr id="116" name=""/>
            <p:cNvSpPr/>
            <p:nvPr/>
          </p:nvSpPr>
          <p:spPr>
            <a:xfrm>
              <a:off x="4788000" y="5197320"/>
              <a:ext cx="2087640" cy="3952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0360" y="5197320"/>
              <a:ext cx="2087640" cy="3952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4184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420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ALF in HM2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4200" y="170028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840" y="364644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54200" y="4941720"/>
            <a:ext cx="4175280" cy="650880"/>
            <a:chOff x="2554200" y="4941720"/>
            <a:chExt cx="4175280" cy="650880"/>
          </a:xfrm>
        </p:grpSpPr>
        <p:sp>
          <p:nvSpPr>
            <p:cNvPr id="124" name=""/>
            <p:cNvSpPr/>
            <p:nvPr/>
          </p:nvSpPr>
          <p:spPr>
            <a:xfrm>
              <a:off x="255420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49417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62584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584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584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14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14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14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56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56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56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65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65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4656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112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112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112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34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34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34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2440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440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440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312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312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1312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2912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2912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2912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328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328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328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384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384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384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148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148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2148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0876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0876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0876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61120" y="544500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61120" y="5229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1120" y="501336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2040" y="544500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2040" y="5229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12040" y="501336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4200" y="1700280"/>
            <a:ext cx="4175280" cy="2428920"/>
          </a:xfrm>
          <a:prstGeom prst="rect">
            <a:avLst/>
          </a:prstGeom>
          <a:solidFill>
            <a:srgbClr val="ccffcc">
              <a:alpha val="4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130560" y="3213000"/>
            <a:ext cx="2116080" cy="1613160"/>
            <a:chOff x="3130560" y="3213000"/>
            <a:chExt cx="2116080" cy="1613160"/>
          </a:xfrm>
        </p:grpSpPr>
        <p:sp>
          <p:nvSpPr>
            <p:cNvPr id="176" name=""/>
            <p:cNvSpPr/>
            <p:nvPr/>
          </p:nvSpPr>
          <p:spPr>
            <a:xfrm>
              <a:off x="442728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2728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728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0000" y="421956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0000" y="396072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80000" y="371628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056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3056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3056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4656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9412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412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9412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4648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648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4648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8292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8292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8292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35280" y="4219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39607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5280" y="37162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396072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3760" y="3471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6120" y="3471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00240" y="347184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52960" y="347184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41760" y="347184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25840" y="321300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2320" y="321300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44680" y="321300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3760" y="4478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6120" y="4478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00240" y="4478400"/>
              <a:ext cx="10008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2960" y="447840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41760" y="4478400"/>
              <a:ext cx="99720" cy="101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2584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9232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4680" y="4724280"/>
              <a:ext cx="100080" cy="101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050920" y="4941720"/>
            <a:ext cx="358920" cy="6508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9720" y="5079960"/>
            <a:ext cx="179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Not yet deblocked pixe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that dela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08760" y="1201680"/>
            <a:ext cx="938160" cy="1003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00200" y="836640"/>
            <a:ext cx="248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Region that can be proces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y both Deblocking filter and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63800" y="2637000"/>
            <a:ext cx="2209680" cy="1353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24200" y="238284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entral filter ta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729480" y="3429000"/>
            <a:ext cx="2415960" cy="2160720"/>
            <a:chOff x="6729480" y="3429000"/>
            <a:chExt cx="2415960" cy="2160720"/>
          </a:xfrm>
        </p:grpSpPr>
        <p:sp>
          <p:nvSpPr>
            <p:cNvPr id="222" name=""/>
            <p:cNvSpPr/>
            <p:nvPr/>
          </p:nvSpPr>
          <p:spPr>
            <a:xfrm flipH="1">
              <a:off x="6945480" y="3460680"/>
              <a:ext cx="1440" cy="2117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3080" y="4149720"/>
              <a:ext cx="2052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Required line memory:</a:t>
              </a:r>
              <a:br>
                <a:rPr sz="1400"/>
              </a:b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9 lin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9480" y="3429000"/>
              <a:ext cx="506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32720" y="5589720"/>
              <a:ext cx="506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76760" y="220032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9120" y="4146480"/>
            <a:ext cx="208764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line memory re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sic concep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F uses non-deblocked pixels at the bottom of 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89120" y="2200320"/>
            <a:ext cx="208764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6760" y="4146480"/>
            <a:ext cx="208764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589120" y="5442120"/>
            <a:ext cx="4175280" cy="650880"/>
            <a:chOff x="2589120" y="5442120"/>
            <a:chExt cx="4175280" cy="650880"/>
          </a:xfrm>
        </p:grpSpPr>
        <p:sp>
          <p:nvSpPr>
            <p:cNvPr id="233" name=""/>
            <p:cNvSpPr/>
            <p:nvPr/>
          </p:nvSpPr>
          <p:spPr>
            <a:xfrm>
              <a:off x="2589120" y="54421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76760" y="5442120"/>
              <a:ext cx="2087640" cy="6508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6076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076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076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7640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7640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056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3056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3056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8148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8148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8148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6876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6876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604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604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604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0840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0840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5932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932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5932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4804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4804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4804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6404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6404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404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820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1820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1820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6876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6876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6876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6400" y="5945040"/>
            <a:ext cx="997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6400" y="572940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56400" y="5513400"/>
            <a:ext cx="997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4368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4368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4368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9604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9604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9604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6960" y="5945040"/>
            <a:ext cx="10008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6960" y="5729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46960" y="551340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89120" y="2200320"/>
            <a:ext cx="4175280" cy="3241800"/>
          </a:xfrm>
          <a:prstGeom prst="rect">
            <a:avLst/>
          </a:prstGeom>
          <a:solidFill>
            <a:srgbClr val="ccffcc">
              <a:alpha val="4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57480" y="5442120"/>
            <a:ext cx="358560" cy="6508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6920 h 650880"/>
              <a:gd name="textAreaBottom" fmla="*/ 633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0560" y="5580000"/>
            <a:ext cx="183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3 lines of non-deblocked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pixels are used by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43320" y="2200320"/>
            <a:ext cx="1297080" cy="504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47840" y="4516560"/>
            <a:ext cx="2116080" cy="1518840"/>
            <a:chOff x="3147840" y="4516560"/>
            <a:chExt cx="2116080" cy="1518840"/>
          </a:xfrm>
        </p:grpSpPr>
        <p:sp>
          <p:nvSpPr>
            <p:cNvPr id="288" name=""/>
            <p:cNvSpPr/>
            <p:nvPr/>
          </p:nvSpPr>
          <p:spPr>
            <a:xfrm>
              <a:off x="444456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4456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692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9692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784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4784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384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1400" y="5263920"/>
              <a:ext cx="9972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11400" y="5019480"/>
              <a:ext cx="9972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376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6376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0020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0020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52560" y="526392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2560" y="50194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47840" y="5263920"/>
              <a:ext cx="9972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1040" y="47750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3400" y="47750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17520" y="47750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69880" y="47750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8680" y="47750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43120" y="4516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09600" y="4516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61960" y="451656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84360" y="5502240"/>
              <a:ext cx="9972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1640" y="5718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7164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8920" y="59338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58920" y="5718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5892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11280" y="59338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1280" y="5718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1128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62200" y="5933880"/>
              <a:ext cx="100080" cy="101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62200" y="5718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6220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50920" y="5718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5092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66920" y="5502240"/>
              <a:ext cx="100080" cy="101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998720" y="3943440"/>
            <a:ext cx="2209680" cy="1353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59120" y="37465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entral filter ta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00200" y="1763640"/>
            <a:ext cx="248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Region that can be proces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y both Deblocking filter and ALF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762600" y="4721400"/>
            <a:ext cx="2382840" cy="1368360"/>
            <a:chOff x="6762600" y="4721400"/>
            <a:chExt cx="2382840" cy="1368360"/>
          </a:xfrm>
        </p:grpSpPr>
        <p:sp>
          <p:nvSpPr>
            <p:cNvPr id="331" name=""/>
            <p:cNvSpPr/>
            <p:nvPr/>
          </p:nvSpPr>
          <p:spPr>
            <a:xfrm flipH="1">
              <a:off x="6980400" y="4721400"/>
              <a:ext cx="1440" cy="13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93080" y="5232240"/>
              <a:ext cx="2052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Required line memory:</a:t>
              </a:r>
              <a:br>
                <a:rPr sz="1400"/>
              </a:b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6 lin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65840" y="4721400"/>
              <a:ext cx="506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2600" y="6089760"/>
              <a:ext cx="506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ults of experiments using common condi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476360" y="689040"/>
            <a:ext cx="3174840" cy="5711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938840" y="3279600"/>
            <a:ext cx="39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=&gt; Same coding efficienc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mplexity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er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ificant reduction of line mem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3% for l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% for chr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coder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ginal increase of required memory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orage of 3 lines of each LCU of the non-deblocked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tion to avoid the additional memory in encoder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53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the bottom of LCUs t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coder decides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plying ALF usi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n-deblocke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plying no 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ision is signaled to t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er either in the picture or sequence parameter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286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 esenlik</cp:lastModifiedBy>
  <dcterms:modified xsi:type="dcterms:W3CDTF">2011-03-17T11:15:05Z</dcterms:modified>
  <cp:revision>1647</cp:revision>
  <dc:subject/>
  <dc:title>Template</dc:title>
</cp:coreProperties>
</file>