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3776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920" y="68544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724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3776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7920" y="3670560"/>
            <a:ext cx="284760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" y="-1800"/>
            <a:ext cx="8385120" cy="22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920" y="367056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920" y="685440"/>
            <a:ext cx="431568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7240" y="3670560"/>
            <a:ext cx="8844120" cy="27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8584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381400" indent="-285840">
              <a:spcBef>
                <a:spcPts val="15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381400" indent="-285840">
              <a:spcBef>
                <a:spcPts val="15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21800" y="659772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CTVC-E22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382960" y="115920"/>
            <a:ext cx="98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D40E-D9C7-42C1-8746-DDA285B6149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7600" y="6597720"/>
            <a:ext cx="2552760" cy="1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069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171746"/>
              </a:gs>
              <a:gs pos="50000">
                <a:srgbClr val="333399"/>
              </a:gs>
              <a:gs pos="100000">
                <a:srgbClr val="1717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578560" y="5954760"/>
            <a:ext cx="3241440" cy="210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1560" y="160200"/>
            <a:ext cx="120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8f8f8"/>
                </a:solidFill>
                <a:latin typeface="Arial"/>
              </a:rPr>
              <a:t>JCTVC-E22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1480" algn="ctr"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60520" algn="ctr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79560" algn="ctr">
              <a:spcBef>
                <a:spcPts val="176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79560">
              <a:spcBef>
                <a:spcPts val="349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2069640"/>
            <a:ext cx="64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12.2: Results for parallel deblocking filter decisions 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59280" y="2997360"/>
            <a:ext cx="46353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0" tIns="46080" bIns="46080" anchor="b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Matthias Narroschke, Thomas W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anasonic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84160" y="6497640"/>
            <a:ext cx="461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</a:rPr>
              <a:t>5th JCT-VC meeting, Geneva 16.-23. March 201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611280" y="692280"/>
            <a:ext cx="1125360" cy="1127160"/>
            <a:chOff x="611280" y="692280"/>
            <a:chExt cx="1125360" cy="1127160"/>
          </a:xfrm>
        </p:grpSpPr>
        <p:sp>
          <p:nvSpPr>
            <p:cNvPr id="1766" name=""/>
            <p:cNvSpPr/>
            <p:nvPr/>
          </p:nvSpPr>
          <p:spPr>
            <a:xfrm>
              <a:off x="611280" y="69228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7284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0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94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7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21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7284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0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94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07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21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67284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0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94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07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21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284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0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94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7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21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284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0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94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7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1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7284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0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4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07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21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34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48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61640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34748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48176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61640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34748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48176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61640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34748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148176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161640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34748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48176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1640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34748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48176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61640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7284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0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94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07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21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7284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0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94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07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21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34748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48176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1640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34748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8176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61640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611280" y="1824120"/>
            <a:ext cx="1125360" cy="1127160"/>
            <a:chOff x="611280" y="1824120"/>
            <a:chExt cx="1125360" cy="1127160"/>
          </a:xfrm>
        </p:grpSpPr>
        <p:sp>
          <p:nvSpPr>
            <p:cNvPr id="1832" name=""/>
            <p:cNvSpPr/>
            <p:nvPr/>
          </p:nvSpPr>
          <p:spPr>
            <a:xfrm>
              <a:off x="611280" y="182412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284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94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07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1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7284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80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4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07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21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7284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0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94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07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21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7284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0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4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07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21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7284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94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07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21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7284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0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94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07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1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4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8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61640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34748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8176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61640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34748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48176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61640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34748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8176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61640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34748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8176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61640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4748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48176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61640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7284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0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94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07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21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84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0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94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07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1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34748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8176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640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34748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8176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640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1744560" y="696960"/>
            <a:ext cx="1125720" cy="1127160"/>
            <a:chOff x="1744560" y="696960"/>
            <a:chExt cx="1125720" cy="1127160"/>
          </a:xfrm>
        </p:grpSpPr>
        <p:sp>
          <p:nvSpPr>
            <p:cNvPr id="1898" name=""/>
            <p:cNvSpPr/>
            <p:nvPr/>
          </p:nvSpPr>
          <p:spPr>
            <a:xfrm>
              <a:off x="1744560" y="69696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806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4076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07504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21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4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806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94076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07504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211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34540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806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4076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07504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11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34540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806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4076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07504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211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34540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06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94076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07504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211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34540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806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4076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07504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211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34540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48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61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74968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48112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1540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74968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48112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61540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74968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248112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61540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74968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48112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61540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74968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48112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61540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74968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06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4076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7504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211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34540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806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4076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07504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211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34540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48112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61540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74968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8112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61540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74968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312920" y="252396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182680" y="1892160"/>
            <a:ext cx="2318040" cy="230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12920" y="2116080"/>
            <a:ext cx="866880" cy="1285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4500720" y="1687680"/>
                <a:ext cx="398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2" name=""/>
          <p:cNvSpPr/>
          <p:nvPr/>
        </p:nvSpPr>
        <p:spPr>
          <a:xfrm flipV="1">
            <a:off x="2182680" y="2322360"/>
            <a:ext cx="2318040" cy="2304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4500720" y="2108160"/>
                <a:ext cx="4428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4" name=""/>
          <p:cNvSpPr/>
          <p:nvPr/>
        </p:nvSpPr>
        <p:spPr>
          <a:xfrm rot="16200000">
            <a:off x="2085120" y="1754280"/>
            <a:ext cx="86652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 flipV="1">
            <a:off x="2568600" y="117756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859280" y="9525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7" name=""/>
          <p:cNvSpPr/>
          <p:nvPr/>
        </p:nvSpPr>
        <p:spPr>
          <a:xfrm rot="16200000">
            <a:off x="1674000" y="1757520"/>
            <a:ext cx="86652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2147760" y="812520"/>
            <a:ext cx="2640240" cy="5763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4871880" y="6922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611280" y="692280"/>
            <a:ext cx="1125360" cy="1127160"/>
            <a:chOff x="611280" y="692280"/>
            <a:chExt cx="1125360" cy="1127160"/>
          </a:xfrm>
        </p:grpSpPr>
        <p:sp>
          <p:nvSpPr>
            <p:cNvPr id="2043" name=""/>
            <p:cNvSpPr/>
            <p:nvPr/>
          </p:nvSpPr>
          <p:spPr>
            <a:xfrm>
              <a:off x="611280" y="69228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7284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80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94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07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21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284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0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94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07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21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7284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0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94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07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21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7284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80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94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07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21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7284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80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4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07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1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7284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80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94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07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21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34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48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61640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34748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48176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61640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34748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48176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61640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34748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48176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61640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34748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48176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61640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34748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48176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61640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284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80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94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07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1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7284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0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4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7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121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34748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48176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61640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34748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48176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61640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08" name=""/>
          <p:cNvGrpSpPr/>
          <p:nvPr/>
        </p:nvGrpSpPr>
        <p:grpSpPr>
          <a:xfrm>
            <a:off x="611280" y="1824120"/>
            <a:ext cx="1125360" cy="1127160"/>
            <a:chOff x="611280" y="1824120"/>
            <a:chExt cx="1125360" cy="1127160"/>
          </a:xfrm>
        </p:grpSpPr>
        <p:sp>
          <p:nvSpPr>
            <p:cNvPr id="2109" name=""/>
            <p:cNvSpPr/>
            <p:nvPr/>
          </p:nvSpPr>
          <p:spPr>
            <a:xfrm>
              <a:off x="611280" y="182412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284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0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4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07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21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7284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0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4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07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21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284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0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4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07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1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7284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0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4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07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21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7284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94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07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1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284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0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94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07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21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34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48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61640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34748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48176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61640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34748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48176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61640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34748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48176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61640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34748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48176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61640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34748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48176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61640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7284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0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94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07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21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7284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0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94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07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21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34748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48176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61640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34748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48176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61640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4" name=""/>
          <p:cNvGrpSpPr/>
          <p:nvPr/>
        </p:nvGrpSpPr>
        <p:grpSpPr>
          <a:xfrm>
            <a:off x="1744560" y="696960"/>
            <a:ext cx="1125720" cy="1127160"/>
            <a:chOff x="1744560" y="696960"/>
            <a:chExt cx="1125720" cy="1127160"/>
          </a:xfrm>
        </p:grpSpPr>
        <p:sp>
          <p:nvSpPr>
            <p:cNvPr id="2175" name=""/>
            <p:cNvSpPr/>
            <p:nvPr/>
          </p:nvSpPr>
          <p:spPr>
            <a:xfrm>
              <a:off x="1744560" y="69696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806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94076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07504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21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34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806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94076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07504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211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34540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806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94076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07504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211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34540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806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4076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207504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211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34540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806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94076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07504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211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4540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806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94076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07504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211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34540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48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1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4968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8112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61540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4968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48112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61540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4968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48112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61540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74968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48112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61540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4968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48112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61540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74968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806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94076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07504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11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34540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806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94076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07504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211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34540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48112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61540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4968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48112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61540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4968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0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1773360" y="1268280"/>
            <a:ext cx="1084320" cy="1130040"/>
            <a:chOff x="1773360" y="1268280"/>
            <a:chExt cx="1084320" cy="1130040"/>
          </a:xfrm>
        </p:grpSpPr>
        <p:sp>
          <p:nvSpPr>
            <p:cNvPr id="2306" name=""/>
            <p:cNvSpPr/>
            <p:nvPr/>
          </p:nvSpPr>
          <p:spPr>
            <a:xfrm rot="5400000">
              <a:off x="1279440" y="17632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5400000">
              <a:off x="14130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rot="5400000">
              <a:off x="1549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rot="5400000">
              <a:off x="1684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5400000">
              <a:off x="181980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5400000">
              <a:off x="195768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5400000">
              <a:off x="2092680" y="1769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5400000">
              <a:off x="2229120" y="1761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1167120" y="1847880"/>
            <a:ext cx="1130040" cy="1084320"/>
            <a:chOff x="1167120" y="1847880"/>
            <a:chExt cx="1130040" cy="1084320"/>
          </a:xfrm>
        </p:grpSpPr>
        <p:sp>
          <p:nvSpPr>
            <p:cNvPr id="2315" name=""/>
            <p:cNvSpPr/>
            <p:nvPr/>
          </p:nvSpPr>
          <p:spPr>
            <a:xfrm rot="10800000">
              <a:off x="1173240" y="18478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0800000">
              <a:off x="1167120" y="19814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0800000">
              <a:off x="1167120" y="211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0800000">
              <a:off x="1167120" y="2252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0800000">
              <a:off x="1167120" y="238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0800000">
              <a:off x="1167120" y="2525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0800000">
              <a:off x="1167120" y="2660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0800000">
              <a:off x="1175040" y="279720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23" name=""/>
          <p:cNvSpPr/>
          <p:nvPr/>
        </p:nvSpPr>
        <p:spPr>
          <a:xfrm flipV="1">
            <a:off x="2297160" y="234900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2313000" y="817560"/>
            <a:ext cx="247824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4822920" y="606600"/>
                <a:ext cx="1128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4622760" y="2149560"/>
                <a:ext cx="1106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611280" y="692280"/>
            <a:ext cx="1125360" cy="1127160"/>
            <a:chOff x="611280" y="692280"/>
            <a:chExt cx="1125360" cy="1127160"/>
          </a:xfrm>
        </p:grpSpPr>
        <p:sp>
          <p:nvSpPr>
            <p:cNvPr id="2330" name=""/>
            <p:cNvSpPr/>
            <p:nvPr/>
          </p:nvSpPr>
          <p:spPr>
            <a:xfrm>
              <a:off x="611280" y="69228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7284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0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94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07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21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7284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80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94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07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1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7284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0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4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07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21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7284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0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94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07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21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7284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80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4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07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21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7284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0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4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07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21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34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48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61640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34748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48176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61640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34748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48176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1640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134748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48176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1640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34748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48176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161640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34748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8176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61640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7284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80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94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07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121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7284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80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4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107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21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34748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48176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61640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34748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148176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61640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95" name=""/>
          <p:cNvGrpSpPr/>
          <p:nvPr/>
        </p:nvGrpSpPr>
        <p:grpSpPr>
          <a:xfrm>
            <a:off x="611280" y="1824120"/>
            <a:ext cx="1125360" cy="1127160"/>
            <a:chOff x="611280" y="1824120"/>
            <a:chExt cx="1125360" cy="1127160"/>
          </a:xfrm>
        </p:grpSpPr>
        <p:sp>
          <p:nvSpPr>
            <p:cNvPr id="2396" name=""/>
            <p:cNvSpPr/>
            <p:nvPr/>
          </p:nvSpPr>
          <p:spPr>
            <a:xfrm>
              <a:off x="611280" y="182412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7284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0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4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07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21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7284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0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94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07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21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67284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0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94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07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21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7284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0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94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07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21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7284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94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07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21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67284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80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94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07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21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34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8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61640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34748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48176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61640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34748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48176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61640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34748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48176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61640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34748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48176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61640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34748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48176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61640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7284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80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94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7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21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7284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80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94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107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21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34748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48176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61640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34748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48176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61640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1744560" y="696960"/>
            <a:ext cx="1125720" cy="1127160"/>
            <a:chOff x="1744560" y="696960"/>
            <a:chExt cx="1125720" cy="1127160"/>
          </a:xfrm>
        </p:grpSpPr>
        <p:sp>
          <p:nvSpPr>
            <p:cNvPr id="2462" name=""/>
            <p:cNvSpPr/>
            <p:nvPr/>
          </p:nvSpPr>
          <p:spPr>
            <a:xfrm>
              <a:off x="1744560" y="69696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806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94076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07504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21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4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806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94076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07504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211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34540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806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94076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07504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211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34540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806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94076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207504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2211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34540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806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94076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07504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211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34540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806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94076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07504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211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34540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48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61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74968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48112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61540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74968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112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61540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74968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48112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261540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274968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48112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61540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74968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48112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61540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74968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06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94076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07504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211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34540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806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94076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07504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211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34540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48112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261540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274968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48112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61540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74968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27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 rot="5400000">
            <a:off x="1818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1957320" y="17701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 rot="5400000">
            <a:off x="209160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 rot="5400000">
            <a:off x="2228400" y="1761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6" name=""/>
          <p:cNvGrpSpPr/>
          <p:nvPr/>
        </p:nvGrpSpPr>
        <p:grpSpPr>
          <a:xfrm>
            <a:off x="1167120" y="1847880"/>
            <a:ext cx="1130040" cy="1084320"/>
            <a:chOff x="1167120" y="1847880"/>
            <a:chExt cx="1130040" cy="1084320"/>
          </a:xfrm>
        </p:grpSpPr>
        <p:sp>
          <p:nvSpPr>
            <p:cNvPr id="2597" name=""/>
            <p:cNvSpPr/>
            <p:nvPr/>
          </p:nvSpPr>
          <p:spPr>
            <a:xfrm rot="10800000">
              <a:off x="1173240" y="184788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rot="10800000">
              <a:off x="1167120" y="19814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rot="10800000">
              <a:off x="1167120" y="211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10800000">
              <a:off x="1167120" y="2252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800000">
              <a:off x="1167120" y="238788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rot="10800000">
              <a:off x="1167120" y="2525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rot="10800000">
              <a:off x="1167120" y="266076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rot="10800000">
              <a:off x="1175040" y="279720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5" name=""/>
          <p:cNvSpPr/>
          <p:nvPr/>
        </p:nvSpPr>
        <p:spPr>
          <a:xfrm flipV="1">
            <a:off x="2297160" y="2349000"/>
            <a:ext cx="2219400" cy="2430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 flipV="1">
            <a:off x="2684520" y="817560"/>
            <a:ext cx="210672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4856040" y="606600"/>
                <a:ext cx="1062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4667400" y="2149560"/>
                <a:ext cx="1017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Proposed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611280" y="692280"/>
            <a:ext cx="1125360" cy="1127160"/>
            <a:chOff x="611280" y="692280"/>
            <a:chExt cx="1125360" cy="1127160"/>
          </a:xfrm>
        </p:grpSpPr>
        <p:sp>
          <p:nvSpPr>
            <p:cNvPr id="2612" name=""/>
            <p:cNvSpPr/>
            <p:nvPr/>
          </p:nvSpPr>
          <p:spPr>
            <a:xfrm>
              <a:off x="611280" y="69228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7284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80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94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07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21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7284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80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94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07748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211760" y="880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7284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80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94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07748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211760" y="101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284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80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94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07748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211760" y="115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7284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80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94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07748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211760" y="128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7284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80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94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7748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211760" y="14205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34748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48176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616400" y="745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34748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48176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616400" y="881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34748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48176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616400" y="1017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34748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48176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616400" y="115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34748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48176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616400" y="1287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34748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48176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616400" y="14216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7284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80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4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07748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211760" y="1555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7284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80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94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07748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11760" y="1689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34748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48176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616400" y="1556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34748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48176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6400" y="16909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77" name=""/>
          <p:cNvGrpSpPr/>
          <p:nvPr/>
        </p:nvGrpSpPr>
        <p:grpSpPr>
          <a:xfrm>
            <a:off x="611280" y="1824120"/>
            <a:ext cx="1125360" cy="1127160"/>
            <a:chOff x="611280" y="1824120"/>
            <a:chExt cx="1125360" cy="1127160"/>
          </a:xfrm>
        </p:grpSpPr>
        <p:sp>
          <p:nvSpPr>
            <p:cNvPr id="2678" name=""/>
            <p:cNvSpPr/>
            <p:nvPr/>
          </p:nvSpPr>
          <p:spPr>
            <a:xfrm>
              <a:off x="611280" y="182412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7284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80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94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07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21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284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80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94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7748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211760" y="201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7284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80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94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07748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211760" y="214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7284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80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94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07748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211760" y="228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7284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80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94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07748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211760" y="241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7284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80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94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07748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211760" y="2552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34748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48176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616400" y="1877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34748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48176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616400" y="2013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4748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48176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616400" y="21488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34748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48176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616400" y="228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34748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48176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616400" y="24192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34748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48176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616400" y="2553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284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80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94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07748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211760" y="2687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7284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80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94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07748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211760" y="2821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34748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48176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616400" y="2688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4748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48176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616400" y="2822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43" name=""/>
          <p:cNvGrpSpPr/>
          <p:nvPr/>
        </p:nvGrpSpPr>
        <p:grpSpPr>
          <a:xfrm>
            <a:off x="1744560" y="696960"/>
            <a:ext cx="1125720" cy="1127160"/>
            <a:chOff x="1744560" y="696960"/>
            <a:chExt cx="1125720" cy="1127160"/>
          </a:xfrm>
        </p:grpSpPr>
        <p:sp>
          <p:nvSpPr>
            <p:cNvPr id="2744" name=""/>
            <p:cNvSpPr/>
            <p:nvPr/>
          </p:nvSpPr>
          <p:spPr>
            <a:xfrm>
              <a:off x="1744560" y="69696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806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94076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207504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21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234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06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94076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07504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21112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345400" y="884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06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94076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07504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21112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345400" y="102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806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94076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07504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21112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345400" y="115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806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94076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07504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21112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345400" y="129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806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94076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07504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21112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45400" y="1425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48112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61540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49680" y="750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48112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61540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49680" y="885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48112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61540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49680" y="1021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48112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61540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49680" y="115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248112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61540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749680" y="1292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48112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61540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749680" y="1426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806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94076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07504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21112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345400" y="1559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806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94076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07504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221112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345400" y="1694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48112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61540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2749680" y="1560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48112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61540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2749680" y="1695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09" name=""/>
          <p:cNvSpPr/>
          <p:nvPr/>
        </p:nvSpPr>
        <p:spPr>
          <a:xfrm>
            <a:off x="1738440" y="182412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8082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94328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207648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22129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34648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8082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943280" y="201312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207648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2212920" y="201312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346480" y="201312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8082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943280" y="214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07648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212920" y="214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346480" y="214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082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943280" y="2282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07648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12920" y="2282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346480" y="2282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8082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943280" y="24177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207648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212920" y="24177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46480" y="24177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8082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943280" y="2552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207648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2212920" y="2552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2346480" y="2552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2482920" y="187812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2617920" y="187812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2751120" y="187812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2482920" y="201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617920" y="201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751120" y="201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482920" y="21495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2617920" y="21495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751120" y="21495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2482920" y="22845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617920" y="22845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2751120" y="22845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2482920" y="24192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2617920" y="24192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2751120" y="24192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2482920" y="255420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617920" y="255420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751120" y="255420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8082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943280" y="268776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07648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212920" y="268776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46480" y="268776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8082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943280" y="282096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07648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212920" y="282096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346480" y="282096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482920" y="268776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2617920" y="268776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2751120" y="268776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482920" y="282240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617920" y="282240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2751120" y="282240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rot="5400000">
            <a:off x="1279440" y="1763640"/>
            <a:ext cx="112212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 rot="5400000">
            <a:off x="141228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rot="5400000">
            <a:off x="1548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 rot="5400000">
            <a:off x="1683720" y="17697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 flipV="1">
            <a:off x="2313000" y="817560"/>
            <a:ext cx="2478240" cy="45072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867200" y="606600"/>
                <a:ext cx="10400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equential operations in the critical pat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M2.0: 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"/>
          <p:cNvSpPr/>
          <p:nvPr/>
        </p:nvSpPr>
        <p:spPr>
          <a:xfrm>
            <a:off x="3564000" y="2976480"/>
            <a:ext cx="33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=&gt; Reduction by 30%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700360" y="2349360"/>
            <a:ext cx="647640" cy="1584360"/>
          </a:xfrm>
          <a:custGeom>
            <a:avLst/>
            <a:gdLst>
              <a:gd name="textAreaLeft" fmla="*/ 0 w 647640"/>
              <a:gd name="textAreaRight" fmla="*/ 234000 w 647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Additional memory required for sequential implementation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6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978520" cy="4073400"/>
          </a:xfrm>
          <a:prstGeom prst="rect">
            <a:avLst/>
          </a:prstGeom>
          <a:ln w="0">
            <a:noFill/>
          </a:ln>
        </p:spPr>
      </p:pic>
      <p:sp>
        <p:nvSpPr>
          <p:cNvPr id="2887" name=""/>
          <p:cNvSpPr/>
          <p:nvPr/>
        </p:nvSpPr>
        <p:spPr>
          <a:xfrm>
            <a:off x="3262320" y="5584680"/>
            <a:ext cx="237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Arial"/>
              </a:rPr>
              <a:t>=&gt; Negligab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147600" y="685440"/>
            <a:ext cx="89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mplemented into HM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mulated with common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uters of the same configuration are used for all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un time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Bit rate reductions and run time rati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147240" y="549360"/>
            <a:ext cx="884412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BD-bit rat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run time change since the implementation does not exploit the benefit of increased parallel processing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2" name="" descr=""/>
          <p:cNvPicPr/>
          <p:nvPr/>
        </p:nvPicPr>
        <p:blipFill>
          <a:blip r:embed="rId1"/>
          <a:stretch/>
        </p:blipFill>
        <p:spPr>
          <a:xfrm>
            <a:off x="2160720" y="692280"/>
            <a:ext cx="41209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Decoder run tim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measured by 80 times decoding of the whole tes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7600" y="1628640"/>
            <a:ext cx="884412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Subjective quality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7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s selected by CE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subjective evaluation at last meeting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fference notic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8" name="" descr=""/>
          <p:cNvPicPr/>
          <p:nvPr/>
        </p:nvPicPr>
        <p:blipFill>
          <a:blip r:embed="rId1"/>
          <a:stretch/>
        </p:blipFill>
        <p:spPr>
          <a:xfrm>
            <a:off x="147600" y="1413000"/>
            <a:ext cx="8844120" cy="37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lel deblocking filter decis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ments an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HM2.0: Vidyo3, LD, H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0" name="" descr=""/>
          <p:cNvPicPr/>
          <p:nvPr/>
        </p:nvPicPr>
        <p:blipFill>
          <a:blip r:embed="rId1"/>
          <a:stretch/>
        </p:blipFill>
        <p:spPr>
          <a:xfrm>
            <a:off x="1914480" y="900000"/>
            <a:ext cx="53150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</a:rPr>
              <a:t>Proposal: Vidyo3, LD, H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1905120" y="900000"/>
            <a:ext cx="5333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rease of parallel processing capabilities of the deblocking filter by decisions performed based on the unfiltered signal of the CU to be deblo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sults compared to HM2.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duction of sequential operations require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the critical path by 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D bit rate: 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ubjective quality is same / slightly incr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posal: Inclusion into the 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0280" y="3205080"/>
            <a:ext cx="1441440" cy="100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11640" y="3141720"/>
            <a:ext cx="194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Current CU to be deblocke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63800" y="907920"/>
            <a:ext cx="1347840" cy="29376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35280" y="765000"/>
            <a:ext cx="271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Previous C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96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162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228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12920" y="2908440"/>
            <a:ext cx="866880" cy="12852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182680" y="2276280"/>
            <a:ext cx="231804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12920" y="250020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7451640" y="2071800"/>
                <a:ext cx="3985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 flipV="1">
            <a:off x="2182680" y="2706480"/>
            <a:ext cx="231804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451640" y="2492280"/>
                <a:ext cx="443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 rot="16200000">
            <a:off x="2085120" y="213912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2583000" y="1777680"/>
            <a:ext cx="2587320" cy="2826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8161200" y="1584360"/>
                <a:ext cx="4431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4356000" y="215100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76720" y="1655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00720" y="18921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374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440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506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2301840" y="2012760"/>
            <a:ext cx="231768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301840" y="2706480"/>
            <a:ext cx="2198880" cy="50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50072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181160" y="31701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30369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187280" y="29005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2765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187280" y="2630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187280" y="2492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187280" y="2357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179360" y="2220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7589880" y="1839960"/>
                <a:ext cx="4428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6013440" y="21891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7588080" y="2503440"/>
                <a:ext cx="46548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00720" y="18921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654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720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786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301840" y="2012760"/>
            <a:ext cx="2317680" cy="23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2301840" y="2706480"/>
            <a:ext cx="2198880" cy="5000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00720" y="256536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81160" y="31701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187280" y="303696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187280" y="2900520"/>
            <a:ext cx="1122480" cy="13464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187280" y="2765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1187280" y="263052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187280" y="2492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187280" y="235728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179360" y="2220840"/>
            <a:ext cx="1122480" cy="13500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6013440" y="21891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7591320" y="1841400"/>
                <a:ext cx="4208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7591320" y="24940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933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999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1065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rot="16200000">
            <a:off x="1674000" y="2139120"/>
            <a:ext cx="866880" cy="128880"/>
          </a:xfrm>
          <a:prstGeom prst="rect">
            <a:avLst/>
          </a:prstGeom>
          <a:noFill/>
          <a:ln w="2844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V="1">
            <a:off x="2171880" y="1804680"/>
            <a:ext cx="2863800" cy="26820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091120" y="16844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8183520" y="161136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19600" y="320508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02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1203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1269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1335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854360" y="2760840"/>
            <a:ext cx="1914480" cy="514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817720" y="2760840"/>
            <a:ext cx="951120" cy="1634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813120" y="2798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decis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773360" y="1638360"/>
            <a:ext cx="1084320" cy="1130040"/>
            <a:chOff x="1773360" y="1638360"/>
            <a:chExt cx="1084320" cy="1130040"/>
          </a:xfrm>
        </p:grpSpPr>
        <p:sp>
          <p:nvSpPr>
            <p:cNvPr id="1469" name=""/>
            <p:cNvSpPr/>
            <p:nvPr/>
          </p:nvSpPr>
          <p:spPr>
            <a:xfrm rot="5400000">
              <a:off x="1279440" y="213336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5400000">
              <a:off x="14130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5400000">
              <a:off x="154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5400000">
              <a:off x="1684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5400000">
              <a:off x="181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5400000">
              <a:off x="1957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5400000">
              <a:off x="2092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5400000">
              <a:off x="2229120" y="213192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6907320" y="3152880"/>
                <a:ext cx="4651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5346720" y="29559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6907320" y="2727360"/>
                <a:ext cx="4870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HM 2.0 Deblocking steps for a CU of size 8x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47240" y="63792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819600" y="320508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611280" y="1076400"/>
            <a:ext cx="1125360" cy="1127160"/>
            <a:chOff x="611280" y="1076400"/>
            <a:chExt cx="1125360" cy="1127160"/>
          </a:xfrm>
        </p:grpSpPr>
        <p:sp>
          <p:nvSpPr>
            <p:cNvPr id="1484" name=""/>
            <p:cNvSpPr/>
            <p:nvPr/>
          </p:nvSpPr>
          <p:spPr>
            <a:xfrm>
              <a:off x="611280" y="107640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7284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80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94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07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21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7284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80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94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07748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211760" y="1264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7284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80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94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07748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211760" y="140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7284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0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4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07748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211760" y="153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7284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0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4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7748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211760" y="167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284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94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7748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211760" y="18046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34748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48176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616400" y="1130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34748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48176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616400" y="1265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748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48176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616400" y="14011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34748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48176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16400" y="153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34748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48176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16400" y="16714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34748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48176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616400" y="18057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7284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80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4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7748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211760" y="1939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7284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0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94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7748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211760" y="2073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34748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48176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616400" y="19404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34748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48176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616400" y="20750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611280" y="2208240"/>
            <a:ext cx="1125360" cy="1127160"/>
            <a:chOff x="611280" y="2208240"/>
            <a:chExt cx="1125360" cy="1127160"/>
          </a:xfrm>
        </p:grpSpPr>
        <p:sp>
          <p:nvSpPr>
            <p:cNvPr id="1550" name=""/>
            <p:cNvSpPr/>
            <p:nvPr/>
          </p:nvSpPr>
          <p:spPr>
            <a:xfrm>
              <a:off x="611280" y="2208240"/>
              <a:ext cx="112536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284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0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94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7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21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284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0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94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7748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211760" y="239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284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80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94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7748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11760" y="253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284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80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94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07748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211760" y="266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7284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80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4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07748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211760" y="280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7284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4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07748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211760" y="29365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34748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8176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616400" y="2261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34748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48176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16400" y="2397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34748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8176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616400" y="25329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4748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48176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16400" y="266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4748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48176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616400" y="28033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34748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48176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616400" y="29376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284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80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94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07748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211760" y="3071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7284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0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94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07748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211760" y="3205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34748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8176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6400" y="30722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4748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8176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16400" y="32068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15" name=""/>
          <p:cNvGrpSpPr/>
          <p:nvPr/>
        </p:nvGrpSpPr>
        <p:grpSpPr>
          <a:xfrm>
            <a:off x="1744560" y="1081080"/>
            <a:ext cx="1125720" cy="1127160"/>
            <a:chOff x="1744560" y="1081080"/>
            <a:chExt cx="1125720" cy="1127160"/>
          </a:xfrm>
        </p:grpSpPr>
        <p:sp>
          <p:nvSpPr>
            <p:cNvPr id="1616" name=""/>
            <p:cNvSpPr/>
            <p:nvPr/>
          </p:nvSpPr>
          <p:spPr>
            <a:xfrm>
              <a:off x="1744560" y="1081080"/>
              <a:ext cx="1125720" cy="112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806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94076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07504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34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06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94076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07504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1112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45400" y="1269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806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94076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07504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1112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345400" y="140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06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94076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07504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21112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45400" y="153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806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94076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07504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1112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345400" y="167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806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94076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07504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21112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345400" y="18093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48112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61540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749680" y="1134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48112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61540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49680" y="1270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48112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61540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749680" y="14058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48112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61540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749680" y="154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48112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61540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49680" y="167616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48112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61540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749680" y="181044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806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94076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07504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1112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345400" y="194400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806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94076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07504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1112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345400" y="20782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48112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61540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49680" y="194508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8112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61540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49680" y="2079720"/>
              <a:ext cx="67680" cy="67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1738440" y="2208240"/>
            <a:ext cx="1125360" cy="1127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18082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94328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07648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2129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34648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082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943280" y="239724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07648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212920" y="239724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346480" y="239724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8082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943280" y="253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648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212920" y="253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2346480" y="253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8082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943280" y="266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7648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212920" y="266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346480" y="266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18082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943280" y="2801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07648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212920" y="2801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346480" y="2801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8082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943280" y="29368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07648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2212920" y="29368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346480" y="29368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2482920" y="226224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2617920" y="226224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751120" y="226224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2482920" y="239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617920" y="239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2751120" y="239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2920" y="25336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617920" y="25336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751120" y="25336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482920" y="26686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617920" y="26686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751120" y="26686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482920" y="28036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617920" y="28036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751120" y="28036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482920" y="2938320"/>
            <a:ext cx="6804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617920" y="2938320"/>
            <a:ext cx="666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751120" y="2938320"/>
            <a:ext cx="68400" cy="66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8082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1943280" y="3071880"/>
            <a:ext cx="666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07648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12920" y="3071880"/>
            <a:ext cx="6840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2346480" y="3071880"/>
            <a:ext cx="68040" cy="66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8082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943280" y="3205080"/>
            <a:ext cx="666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07648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2212920" y="3205080"/>
            <a:ext cx="6840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346480" y="3205080"/>
            <a:ext cx="6804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2482920" y="3071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2617920" y="3071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751120" y="3071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2482920" y="3206880"/>
            <a:ext cx="6804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2617920" y="3206880"/>
            <a:ext cx="666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2751120" y="3206880"/>
            <a:ext cx="68400" cy="68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854360" y="2760840"/>
            <a:ext cx="1914480" cy="51408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17720" y="2760840"/>
            <a:ext cx="951120" cy="16344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813120" y="2798640"/>
            <a:ext cx="32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Arial"/>
              </a:rPr>
              <a:t>Samples used for the filtering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49" name=""/>
          <p:cNvGrpSpPr/>
          <p:nvPr/>
        </p:nvGrpSpPr>
        <p:grpSpPr>
          <a:xfrm>
            <a:off x="1773360" y="1638360"/>
            <a:ext cx="1084320" cy="1130040"/>
            <a:chOff x="1773360" y="1638360"/>
            <a:chExt cx="1084320" cy="1130040"/>
          </a:xfrm>
        </p:grpSpPr>
        <p:sp>
          <p:nvSpPr>
            <p:cNvPr id="1750" name=""/>
            <p:cNvSpPr/>
            <p:nvPr/>
          </p:nvSpPr>
          <p:spPr>
            <a:xfrm rot="5400000">
              <a:off x="1279440" y="2133360"/>
              <a:ext cx="112248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5400000">
              <a:off x="14130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5400000">
              <a:off x="154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rot="5400000">
              <a:off x="1684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5400000">
              <a:off x="181980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5400000">
              <a:off x="1957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5400000">
              <a:off x="2092680" y="213984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5400000">
              <a:off x="2229120" y="2131920"/>
              <a:ext cx="1122120" cy="13500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929280" y="3152880"/>
                <a:ext cx="4208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5346720" y="2955960"/>
                <a:ext cx="1332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⋮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927840" y="2727360"/>
                <a:ext cx="4446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47600" y="-1800"/>
            <a:ext cx="8385120" cy="47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ffffff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47240" y="685440"/>
            <a:ext cx="88441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eblocking filter of HM 2.0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decision and filtering steps for vertical and horizontal edges are performed dependent on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dependencies limit the capabilities for parallel processing and thus lead to a large amount of operations in the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pproach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rease of parallel processing capabilities to reduce the number of sequential operations in the critical path by performing decisions based on the unfiltered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9:15:50Z</dcterms:created>
  <dc:creator>Matthias Narroschke</dc:creator>
  <dc:description/>
  <dc:language>en-US</dc:language>
  <cp:lastModifiedBy>Matthias.Narroschke</cp:lastModifiedBy>
  <dcterms:modified xsi:type="dcterms:W3CDTF">2011-03-17T09:55:14Z</dcterms:modified>
  <cp:revision>1599</cp:revision>
  <dc:subject/>
  <dc:title>JCTVC-E224</dc:title>
</cp:coreProperties>
</file>