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3625-2B95-48DA-82EA-6439A1000A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nsider that extension of the QP prediction method in AVC may be a simple and straightforward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F7C7-58A7-4BFA-BE7E-F9593BC07E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this specification of the left CU, 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ft predic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be applied to the current H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neighboring CUs may have different siz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2740-F3AC-41AB-8903-B12ABF4CE8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xt of the sequences are reg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8B45-8FED-48A9-ACBA-23EA1B0889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QP of left CU as the QP predictor, on average, the number of non-zero dQP values is reduced by 42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6DA1-2B59-4CB0-A800-A4C566A3E6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462-88FE-4F6B-B0AB-30BB6F11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ECA-B992-4321-8AB3-C4A245BD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7D0-2FB9-4C8E-B8A7-2474DC27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920-1035-4F2D-AE2D-974E8467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932D-4760-4304-9C25-0FF4D12C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28B7-8C2C-43C4-921F-5EC99D73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C6A1-5B8A-4203-A78A-06DD4F8A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D435-854D-41DE-A48A-FA65E2CD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3534-2376-4DD7-A5CB-D599664F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E0C8-1522-4634-9390-BD00BAB0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0A9B-3A15-4298-92E5-B0725A7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E4B-3A5F-4C47-9BDB-CBF9942D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F941-2912-4893-9DA3-22A8408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638A-6460-46C8-8F1E-3BA82C52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9D0E-EA63-498B-A1C6-ADC0B972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1FCC-8F74-41FA-B7A3-403C3FB9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F8B0-EE3B-45C8-A896-F090036A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724-FCCE-4684-887C-81074DF5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165-E4F9-47A2-96F3-FF737100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F9A-5EE5-458F-892A-E8DAF05B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C02-B13B-4756-8D7F-4C993CC7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0CD-E150-4CB9-A1CE-52883EAD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AB3-26EF-4EA3-9B06-01BE4C1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888-483F-4265-9DF3-C1A3F873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8682-56B2-4EC1-90DB-07D2EA843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F28D-E0D0-416F-8981-E2932CB11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CTVC-E217: Improved dQP Calculation Method proposed by HK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jan Pro"/>
                <a:ea typeface="Arial Unicode MS"/>
              </a:rPr>
              <a:t>PANG, Chao  Oscar C. 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jan Pro"/>
                <a:ea typeface="Arial Unicode MS"/>
              </a:rPr>
              <a:t>Hong Kong Univ of Science &amp;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0CEC-E8F2-4A9A-9767-A99AE44F5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ta-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dQP signa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two dQP signal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3FEC-BA98-4B83-A778-19F092F34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osed Two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proposal, the QP prediction method in AVC is extended (with certain modification) to the HM in two different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1: Use the QP value of the previous CU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ding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2: Use the QP value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09FD-7768-40B8-97FE-2420F5CEA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osed Meth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779640" y="1628640"/>
            <a:ext cx="511308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ethod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ition of the upper-left pixel in current CU is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U is the CU that contains the pixel at the position of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1,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this specification of the left CU,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eft predic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applied to the current 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that the prediction ca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o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ighbor LC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02E0-F9D0-4633-9AE7-777DD3E26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0" y="1397160"/>
          <a:ext cx="3927600" cy="21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97160"/>
                    <a:ext cx="392760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3"/>
          <p:cNvGraphicFramePr/>
          <p:nvPr/>
        </p:nvGraphicFramePr>
        <p:xfrm>
          <a:off x="0" y="4060800"/>
          <a:ext cx="3995640" cy="22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060800"/>
                    <a:ext cx="3995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Box 7"/>
          <p:cNvSpPr/>
          <p:nvPr/>
        </p:nvSpPr>
        <p:spPr>
          <a:xfrm>
            <a:off x="324000" y="3492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Method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95280" y="6300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Method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mental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1413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s are conducted based on the numbers of non-zero dQP values using these two QP prediction metho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internal test sequences ar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-level subjective quality rate control method is employ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tailed results are shown in Table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E305-FC61-43A4-BC66-72FDD6C01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mental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B208-9340-4236-A3F8-0C8039C7E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413000"/>
          <a:ext cx="8280360" cy="4968720"/>
        </p:xfrm>
        <a:graphic>
          <a:graphicData uri="http://schemas.openxmlformats.org/drawingml/2006/table">
            <a:tbl>
              <a:tblPr/>
              <a:tblGrid>
                <a:gridCol w="1990800"/>
                <a:gridCol w="1963800"/>
                <a:gridCol w="1963440"/>
                <a:gridCol w="2362320"/>
              </a:tblGrid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on-zero dQP values using Method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on-zero dQP values using Method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ction of number of non-zero dQP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8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8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3.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.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8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7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5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3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8200" y="148428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proposal, the QP prediction method in AVC is extended to 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erimental results show that the prediction with the left CU can achieve potentially high efficient dQP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 adopt into the next version of HM or adopt in new CE for further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0034-65FB-409B-B35F-AB8CAB2DE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矩形 3" descr=""/>
          <p:cNvPicPr/>
          <p:nvPr/>
        </p:nvPicPr>
        <p:blipFill>
          <a:blip r:embed="rId1"/>
          <a:stretch/>
        </p:blipFill>
        <p:spPr>
          <a:xfrm>
            <a:off x="1755720" y="1731960"/>
            <a:ext cx="5516640" cy="2438280"/>
          </a:xfrm>
          <a:prstGeom prst="rect">
            <a:avLst/>
          </a:prstGeom>
          <a:ln w="0">
            <a:noFill/>
          </a:ln>
        </p:spPr>
      </p:pic>
      <p:sp>
        <p:nvSpPr>
          <p:cNvPr id="127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5DCD-A3DC-400B-90D6-58F697B5E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xxx</cp:lastModifiedBy>
  <dcterms:modified xsi:type="dcterms:W3CDTF">2011-03-15T23:45:22Z</dcterms:modified>
  <cp:revision>1110</cp:revision>
  <dc:subject/>
  <dc:title>A Novel Multiple Description Video Coding Based on H.264/AVC Video Coding Standard</dc:title>
</cp:coreProperties>
</file>