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7240" y="-1800"/>
            <a:ext cx="883116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240" y="-1800"/>
            <a:ext cx="883116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 Box 97"/>
          <p:cNvSpPr/>
          <p:nvPr/>
        </p:nvSpPr>
        <p:spPr>
          <a:xfrm>
            <a:off x="8003160" y="6524640"/>
            <a:ext cx="96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JCTVC-E203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4BB9-127C-4E57-B910-12EEF522E71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5" name="Picture 100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" name="Rectangle 10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44" name="Picture 109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7640" y="1484280"/>
            <a:ext cx="7470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nstrained Intra Prediction for Flexible-Siz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rediction Units in HEVC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446720" y="3332160"/>
            <a:ext cx="39146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Viktor Wahadania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Chong Soon Li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Sue Mon Thet Na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58040" y="160200"/>
            <a:ext cx="96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Calibri"/>
              </a:rPr>
              <a:t>JCTVC-E203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514760" y="6453360"/>
            <a:ext cx="441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8f8f8"/>
                </a:solidFill>
                <a:latin typeface="Calibri"/>
              </a:rPr>
              <a:t>5</a:t>
            </a:r>
            <a:r>
              <a:rPr b="1" i="1" lang="en-US" sz="1800" spc="-1" strike="noStrike" baseline="30000">
                <a:solidFill>
                  <a:srgbClr val="f8f8f8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f8f8f8"/>
                </a:solidFill>
                <a:latin typeface="Calibri"/>
              </a:rPr>
              <a:t> JCT-VC meeting, Geneva, 16-23 March 2011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7240" y="620640"/>
            <a:ext cx="8844120" cy="591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VC-style constrained intra prediction (JCTVC-D086) was adopted into HM 2.0 in Daegu meet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84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contribution presents HM-2.0-based experimental results for HEVC-adapted constrained intra prediction scheme initially proposed in JCTVC-D09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84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ic concep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52560" indent="-37800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70c0"/>
                </a:solidFill>
                <a:latin typeface="Calibri"/>
              </a:rPr>
              <a:t>Due to flexible-sized prediction units in HEVC, intra-prediction reference samples are partially available in some cases. Such available samples can be used for deriving non-available reference sample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52560" indent="-37800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70c0"/>
                </a:solidFill>
                <a:latin typeface="Calibri"/>
              </a:rPr>
              <a:t>Currently not done in AVC-style constrained intra prediction of HM 2.0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84120" indent="-384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uma BD-rate gains of HEVC-adapted constrained intra prediction scheme are 0.2% (Random access), 0.3% (Random access LoCo), 0.1% (Low delay), and 0.1% (Low delay LoCo), without increase in encoder/decoding runtime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e thank NEC for cross-checking this propos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4120" indent="-384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mmenda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52560" indent="-37800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70c0"/>
                </a:solidFill>
                <a:latin typeface="Calibri"/>
              </a:rPr>
              <a:t>Include the proposed “design bugfix” into HM 3.0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52560" indent="-37800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70c0"/>
                </a:solidFill>
                <a:latin typeface="Calibri"/>
              </a:rPr>
              <a:t>Investigate constrained intra prediction design for other intra prediction schemes besides directional intra prediction schem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240" y="41040"/>
            <a:ext cx="883116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AVC-Style Constrained Intra Prediction Scheme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184280" y="2923920"/>
            <a:ext cx="470844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is example, some neighboring PUs are intra-predicted (blocks C, G, J, and K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84120" indent="-38412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ing AVC-style constrained intra predic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2560" indent="-3780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ly DC intra prediction mode can be us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52560" indent="-3780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C-mode prediction value is set to 128 (neighboring intra-predicted samples are ignored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74520" y="765000"/>
            <a:ext cx="5564160" cy="5421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"/>
          <p:cNvPicPr/>
          <p:nvPr/>
        </p:nvPicPr>
        <p:blipFill>
          <a:blip r:embed="rId2"/>
          <a:stretch/>
        </p:blipFill>
        <p:spPr>
          <a:xfrm>
            <a:off x="6400800" y="903240"/>
            <a:ext cx="255420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roposed Scheme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16" descr=""/>
          <p:cNvPicPr/>
          <p:nvPr/>
        </p:nvPicPr>
        <p:blipFill>
          <a:blip r:embed="rId1"/>
          <a:stretch/>
        </p:blipFill>
        <p:spPr>
          <a:xfrm>
            <a:off x="76320" y="766800"/>
            <a:ext cx="5421240" cy="5421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4"/>
          <p:cNvSpPr/>
          <p:nvPr/>
        </p:nvSpPr>
        <p:spPr>
          <a:xfrm>
            <a:off x="2195640" y="692280"/>
            <a:ext cx="3951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33cc"/>
                </a:solidFill>
                <a:latin typeface="Calibri"/>
              </a:rPr>
              <a:t>p</a:t>
            </a:r>
            <a:r>
              <a:rPr b="1" sz="1600" spc="-1" strike="noStrike" baseline="-25000">
                <a:solidFill>
                  <a:srgbClr val="0033cc"/>
                </a:solidFill>
                <a:latin typeface="Calibri"/>
              </a:rPr>
              <a:t>T</a:t>
            </a:r>
            <a:r>
              <a:rPr b="0" sz="16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0" sz="16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0" sz="1600" spc="-1" strike="noStrike">
                <a:solidFill>
                  <a:srgbClr val="0033cc"/>
                </a:solidFill>
                <a:latin typeface="Calibri"/>
              </a:rPr>
              <a:t>=  target inter-predicted sample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33cc"/>
                </a:solidFill>
                <a:latin typeface="Calibri"/>
              </a:rPr>
              <a:t>p</a:t>
            </a:r>
            <a:r>
              <a:rPr b="1" sz="1600" spc="-1" strike="noStrike" baseline="-25000">
                <a:solidFill>
                  <a:srgbClr val="0033cc"/>
                </a:solidFill>
                <a:latin typeface="Calibri"/>
              </a:rPr>
              <a:t>LB</a:t>
            </a:r>
            <a:r>
              <a:rPr b="0" sz="16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0" sz="16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0" sz="1600" spc="-1" strike="noStrike">
                <a:solidFill>
                  <a:srgbClr val="0033cc"/>
                </a:solidFill>
                <a:latin typeface="Calibri"/>
              </a:rPr>
              <a:t>=  left or below intra-predicted sample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33cc"/>
                </a:solidFill>
                <a:latin typeface="Calibri"/>
              </a:rPr>
              <a:t>p</a:t>
            </a:r>
            <a:r>
              <a:rPr b="1" sz="1600" spc="-1" strike="noStrike" baseline="-25000">
                <a:solidFill>
                  <a:srgbClr val="0033cc"/>
                </a:solidFill>
                <a:latin typeface="Calibri"/>
              </a:rPr>
              <a:t>RA</a:t>
            </a:r>
            <a:r>
              <a:rPr b="0" sz="16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0" sz="16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0" sz="1600" spc="-1" strike="noStrike">
                <a:solidFill>
                  <a:srgbClr val="0033cc"/>
                </a:solidFill>
                <a:latin typeface="Calibri"/>
              </a:rPr>
              <a:t>=  right or above intra-predicted sample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" name="Rounded Rectangle 25"/>
          <p:cNvSpPr/>
          <p:nvPr/>
        </p:nvSpPr>
        <p:spPr>
          <a:xfrm>
            <a:off x="1677960" y="3452760"/>
            <a:ext cx="304920" cy="1819440"/>
          </a:xfrm>
          <a:custGeom>
            <a:avLst/>
            <a:gdLst>
              <a:gd name="textAreaLeft" fmla="*/ 41760 w 304920"/>
              <a:gd name="textAreaRight" fmla="*/ 263160 w 304920"/>
              <a:gd name="textAreaTop" fmla="*/ 41760 h 1819440"/>
              <a:gd name="textAreaBottom" fmla="*/ 1777680 h 1819440"/>
            </a:gdLst>
            <a:ahLst/>
            <a:rect l="textAreaLeft" t="textAreaTop" r="textAreaRight" b="textAreaBottom"/>
            <a:pathLst>
              <a:path w="21600" h="128759">
                <a:moveTo>
                  <a:pt x="10109" y="0"/>
                </a:moveTo>
                <a:arcTo wR="10109" hR="10109" stAng="16200000" swAng="-5400000"/>
                <a:lnTo>
                  <a:pt x="0" y="118650"/>
                </a:lnTo>
                <a:arcTo wR="10109" hR="10109" stAng="10800000" swAng="-5400000"/>
                <a:lnTo>
                  <a:pt x="11491" y="128759"/>
                </a:lnTo>
                <a:arcTo wR="10109" hR="10109" stAng="5400000" swAng="-5400000"/>
                <a:lnTo>
                  <a:pt x="21600" y="10109"/>
                </a:lnTo>
                <a:arcTo wR="10109" hR="10109" stAng="0" swAng="-5400000"/>
                <a:close/>
              </a:path>
            </a:pathLst>
          </a:custGeom>
          <a:solidFill>
            <a:srgbClr val="4f81bd">
              <a:alpha val="30000"/>
            </a:srgbClr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" name="Rounded Rectangle 26"/>
          <p:cNvSpPr/>
          <p:nvPr/>
        </p:nvSpPr>
        <p:spPr>
          <a:xfrm>
            <a:off x="1754280" y="2367000"/>
            <a:ext cx="1495440" cy="304920"/>
          </a:xfrm>
          <a:prstGeom prst="roundRect">
            <a:avLst>
              <a:gd name="adj" fmla="val 46801"/>
            </a:avLst>
          </a:prstGeom>
          <a:solidFill>
            <a:srgbClr val="4f81bd">
              <a:alpha val="30000"/>
            </a:srgbClr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" name="Rounded Rectangle 27"/>
          <p:cNvSpPr/>
          <p:nvPr/>
        </p:nvSpPr>
        <p:spPr>
          <a:xfrm>
            <a:off x="3649680" y="2367000"/>
            <a:ext cx="1828800" cy="304920"/>
          </a:xfrm>
          <a:prstGeom prst="roundRect">
            <a:avLst>
              <a:gd name="adj" fmla="val 46801"/>
            </a:avLst>
          </a:prstGeom>
          <a:solidFill>
            <a:srgbClr val="4f81bd">
              <a:alpha val="30000"/>
            </a:srgbClr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" name="Straight Connector 28"/>
          <p:cNvSpPr/>
          <p:nvPr/>
        </p:nvSpPr>
        <p:spPr>
          <a:xfrm flipH="1" flipV="1">
            <a:off x="2502000" y="2671560"/>
            <a:ext cx="318960" cy="685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" name="Straight Connector 29"/>
          <p:cNvSpPr/>
          <p:nvPr/>
        </p:nvSpPr>
        <p:spPr>
          <a:xfrm flipV="1">
            <a:off x="3287160" y="2671560"/>
            <a:ext cx="533160" cy="685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" name="Straight Connector 30"/>
          <p:cNvSpPr/>
          <p:nvPr/>
        </p:nvSpPr>
        <p:spPr>
          <a:xfrm flipH="1">
            <a:off x="1982520" y="3985560"/>
            <a:ext cx="533160" cy="376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" name="Rectangle 31"/>
          <p:cNvSpPr/>
          <p:nvPr/>
        </p:nvSpPr>
        <p:spPr>
          <a:xfrm>
            <a:off x="2133720" y="3357720"/>
            <a:ext cx="1600200" cy="609480"/>
          </a:xfrm>
          <a:prstGeom prst="rect">
            <a:avLst/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mples to be re-calculated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103" name="Picture 15" descr=""/>
          <p:cNvPicPr/>
          <p:nvPr/>
        </p:nvPicPr>
        <p:blipFill>
          <a:blip r:embed="rId2"/>
          <a:stretch/>
        </p:blipFill>
        <p:spPr>
          <a:xfrm>
            <a:off x="6400800" y="905040"/>
            <a:ext cx="2554200" cy="1461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924360" y="2905200"/>
            <a:ext cx="5138640" cy="361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72240" indent="-3722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Inter-predicted reference samples (blocks A, B, D, E, F, H, and I) are re-calculated using intra-predicted sampl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23760" indent="-3664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When samples on both sides are availabl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23760" indent="-3664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sz="2200" spc="-1" strike="noStrike">
                <a:solidFill>
                  <a:srgbClr val="0033cc"/>
                </a:solidFill>
                <a:latin typeface="Calibri"/>
              </a:rPr>
              <a:t>p</a:t>
            </a:r>
            <a:r>
              <a:rPr b="1" sz="2200" spc="-1" strike="noStrike" baseline="-25000">
                <a:solidFill>
                  <a:srgbClr val="0033cc"/>
                </a:solidFill>
                <a:latin typeface="Calibri"/>
              </a:rPr>
              <a:t>T</a:t>
            </a:r>
            <a:r>
              <a:rPr b="1" sz="2200" spc="-1" strike="noStrike">
                <a:solidFill>
                  <a:srgbClr val="0033cc"/>
                </a:solidFill>
                <a:latin typeface="Calibri"/>
              </a:rPr>
              <a:t> = (p</a:t>
            </a:r>
            <a:r>
              <a:rPr b="1" sz="2200" spc="-1" strike="noStrike" baseline="-25000">
                <a:solidFill>
                  <a:srgbClr val="0033cc"/>
                </a:solidFill>
                <a:latin typeface="Calibri"/>
              </a:rPr>
              <a:t>LB</a:t>
            </a:r>
            <a:r>
              <a:rPr b="1" sz="2200" spc="-1" strike="noStrike">
                <a:solidFill>
                  <a:srgbClr val="0033cc"/>
                </a:solidFill>
                <a:latin typeface="Calibri"/>
              </a:rPr>
              <a:t> + p</a:t>
            </a:r>
            <a:r>
              <a:rPr b="1" sz="2200" spc="-1" strike="noStrike" baseline="-25000">
                <a:solidFill>
                  <a:srgbClr val="0033cc"/>
                </a:solidFill>
                <a:latin typeface="Calibri"/>
              </a:rPr>
              <a:t>RA</a:t>
            </a:r>
            <a:r>
              <a:rPr b="1" sz="2200" spc="-1" strike="noStrike">
                <a:solidFill>
                  <a:srgbClr val="0033cc"/>
                </a:solidFill>
                <a:latin typeface="Calibri"/>
              </a:rPr>
              <a:t> + 1) &gt;&gt; 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23760" indent="-3664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When only one side is availabl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23760" indent="-3664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sz="2200" spc="-1" strike="noStrike">
                <a:solidFill>
                  <a:srgbClr val="0033cc"/>
                </a:solidFill>
                <a:latin typeface="Calibri"/>
              </a:rPr>
              <a:t>p</a:t>
            </a:r>
            <a:r>
              <a:rPr b="1" sz="2200" spc="-1" strike="noStrike" baseline="-25000">
                <a:solidFill>
                  <a:srgbClr val="0033cc"/>
                </a:solidFill>
                <a:latin typeface="Calibri"/>
              </a:rPr>
              <a:t>T</a:t>
            </a:r>
            <a:r>
              <a:rPr b="1" sz="2200" spc="-1" strike="noStrike">
                <a:solidFill>
                  <a:srgbClr val="0033cc"/>
                </a:solidFill>
                <a:latin typeface="Calibri"/>
              </a:rPr>
              <a:t> = p</a:t>
            </a:r>
            <a:r>
              <a:rPr b="1" sz="2200" spc="-1" strike="noStrike" baseline="-25000">
                <a:solidFill>
                  <a:srgbClr val="0033cc"/>
                </a:solidFill>
                <a:latin typeface="Calibri"/>
              </a:rPr>
              <a:t>LB</a:t>
            </a:r>
            <a:r>
              <a:rPr b="1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-OR-</a:t>
            </a:r>
            <a:r>
              <a:rPr b="1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sz="2200" spc="-1" strike="noStrike">
                <a:solidFill>
                  <a:srgbClr val="0033cc"/>
                </a:solidFill>
                <a:latin typeface="Calibri"/>
              </a:rPr>
              <a:t>p</a:t>
            </a:r>
            <a:r>
              <a:rPr b="1" sz="2200" spc="-1" strike="noStrike" baseline="-25000">
                <a:solidFill>
                  <a:srgbClr val="0033cc"/>
                </a:solidFill>
                <a:latin typeface="Calibri"/>
              </a:rPr>
              <a:t>T</a:t>
            </a:r>
            <a:r>
              <a:rPr b="1" sz="2200" spc="-1" strike="noStrike">
                <a:solidFill>
                  <a:srgbClr val="0033cc"/>
                </a:solidFill>
                <a:latin typeface="Calibri"/>
              </a:rPr>
              <a:t> = p</a:t>
            </a:r>
            <a:r>
              <a:rPr b="1" sz="2200" spc="-1" strike="noStrike" baseline="-25000">
                <a:solidFill>
                  <a:srgbClr val="0033cc"/>
                </a:solidFill>
                <a:latin typeface="Calibri"/>
              </a:rPr>
              <a:t>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2240" indent="-3722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All directional intra prediction modes remain available to be us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240" y="41040"/>
            <a:ext cx="883116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Experimental Results on HM-2.0-dev-nec (rev 597)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7240" y="620640"/>
            <a:ext cx="884412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ble below shows BD-rates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posed sche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reference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VC-style constrained intra prediction sche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negative value indicates coding gain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4120" indent="-3841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coding and decoding runtime is very close (100% for all 4 test setting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4120" indent="-3841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90720" y="1773360"/>
          <a:ext cx="7162560" cy="4574880"/>
        </p:xfrm>
        <a:graphic>
          <a:graphicData uri="http://schemas.openxmlformats.org/drawingml/2006/table">
            <a:tbl>
              <a:tblPr/>
              <a:tblGrid>
                <a:gridCol w="1249200"/>
                <a:gridCol w="986040"/>
                <a:gridCol w="985680"/>
                <a:gridCol w="985680"/>
                <a:gridCol w="984240"/>
                <a:gridCol w="986040"/>
                <a:gridCol w="985680"/>
              </a:tblGrid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Random access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Random access LoCo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Y BD-rate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U BD-rate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V BD-rate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Y BD-rate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U BD-rate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V BD-rate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</a:tr>
              <a:tr h="222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Class A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4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4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1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0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8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6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Class B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5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7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2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2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0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5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Class C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9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9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8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8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4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9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Class D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5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8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4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7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9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6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Class E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2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All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8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9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9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2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0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3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Enc Time[%]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100%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100%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Dec Time[%]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66"/>
                      </a:solidFill>
                    </a:lnB>
                    <a:solidFill>
                      <a:srgbClr val="daefc3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100%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100%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>
                      <a:noFill/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Low delay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Low delay LoCo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Y BD-rate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U BD-rate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V BD-rate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Y BD-rate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U BD-rate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V BD-rate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Class A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22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Class B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6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1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5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1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0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5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Class C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7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3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9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7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4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3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Class D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3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2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2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9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6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Class E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3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8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2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1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7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All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7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4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5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2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0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4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Enc Time[%]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100%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100%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Dec Time[%]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66"/>
                      </a:solidFill>
                    </a:lnB>
                    <a:solidFill>
                      <a:srgbClr val="daefc3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100%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Calibri"/>
                          <a:ea typeface="Times New Roman"/>
                        </a:rPr>
                        <a:t>100%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>
                      <a:noFill/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240" y="-1800"/>
            <a:ext cx="883116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7240" y="62028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rained intra prediction is necessary for controlling spatial error propagation. AVC-style constrained intra prediction (JCTVC-D086) has been adopted in HM 2.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4120" indent="-38412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C-style constrained intra prediction scheme of HM 2.0 does not consider flexible-sized PUs of HEV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4120" indent="-38412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adapting constrained intra prediction design to HEVC characteristics, coding efficiency is improved. BD-rate gains of 0.1% to 0.3% are observed without changes in encoding/decoding run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4120" indent="-38412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a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Include the proposed “design bugfix” into HM 3.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Investigate constrained intra prediction design for other intra prediction schemes besides directional intra prediction sche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22143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ank you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Thomas Wedi</dc:creator>
  <dc:description/>
  <dc:language>en-US</dc:language>
  <cp:lastModifiedBy>Viktor Wahadaniah</cp:lastModifiedBy>
  <dcterms:modified xsi:type="dcterms:W3CDTF">2011-03-16T19:18:33Z</dcterms:modified>
  <cp:revision>1611</cp:revision>
  <dc:subject/>
  <dc:title>Template</dc:title>
</cp:coreProperties>
</file>