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wmf" ContentType="image/x-wm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5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6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7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42A2-9BA2-4A88-B112-E9B92BE861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DED5-E4E9-499F-A0A2-7C06CD1AD8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灯片编号占位符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0F4C-22D0-4184-8727-318F8A89C2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0EAE-1CF8-4AE1-9A3D-EDE192F22B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94D4-591D-46E3-B3E7-1694DDD3CE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B62FC-F4B7-408E-B2B3-AFC649D00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111D8-F929-40DD-944B-F585BEAD7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D397C-0C0E-4AEC-91C4-92A549064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FAA5C-1A18-47C5-8F6C-A846A27E82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38465-9EB3-42FE-AC6C-5DE5E0D8E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737B2-9B52-4AC4-8E51-4891661CB4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8CBDE-81CA-4152-80CC-6A6C07E6C9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A1CC0-ADD1-45CB-8851-6CE8331B59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28FC6-67B0-4EE7-AEDA-B77B89A6AF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14F31-B232-4054-961A-11FD7DDCA5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8DBF4-4646-41FE-A4A8-40D8E61064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72A85-D43E-4151-A533-43DF1A10BB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E1817-3C58-4BBC-9B95-D4B452A313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1EDE7-496C-4034-BB01-5931D5A87F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672B3-775D-46FA-A473-07B5C15357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95C2A-EF52-4884-841B-D6F98F2521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7BA15-9A2B-42B5-A1CA-BDD2934093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54EFB-9EF2-425F-8DE8-6286F5786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02221-1C38-4799-BB81-BBA252FC5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C7015-652B-41DC-A84E-BA6CF325E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ACC0C-CF14-43E6-90C2-05DCC50B0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053E7-7E96-4D24-A91F-DF053D308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BB250-381B-4C7A-B4D5-4BD09E03E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6224F-160B-4B9A-840A-B58356778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ED8B-96E0-4E3A-8683-69712940B7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E2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C1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E2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3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E425-7711-488A-9A32-6C367E8230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9" descr="gray_bot"/>
          <p:cNvPicPr/>
          <p:nvPr/>
        </p:nvPicPr>
        <p:blipFill>
          <a:blip r:embed="rId1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over_back_8"/>
          <p:cNvPicPr/>
          <p:nvPr/>
        </p:nvPicPr>
        <p:blipFill>
          <a:blip r:embed="rId2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xt Dependent Intra Mode Cod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新細明體"/>
              </a:rPr>
              <a:t>JCTVC-E2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3"/>
          <p:cNvSpPr/>
          <p:nvPr/>
        </p:nvSpPr>
        <p:spPr>
          <a:xfrm>
            <a:off x="5724360" y="5621400"/>
            <a:ext cx="31100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Presented by Xun Gu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 JCT-VC Meeting in Gene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16-23 March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09600" y="3789360"/>
            <a:ext cx="8524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i Guo, Xun Guo, and Shawmin 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Tek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3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4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5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6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7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B3A7-7D10-4E97-9CCC-298CCE30B88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dependent intra mode coding (CDIM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high efficiency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concept with that already in HM2.0 for LC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d some codeword tables for intra mode bina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tables based on the intra modes of the two neighboring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-AI – BD-rate reduction of 0.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or encoding time increase (&lt;=4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ecoding time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2B79-0C01-40B1-856A-91136DC2FC9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d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de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word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classes (ModeA = ModeB, ModeA != Mod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9 for 4x4, 9 for 8x8~32x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p()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_aucAngModeMapping[3][]  in HM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gorithm Description (1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116C-E1D9-4F0A-A43E-1F537F84D12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1"/>
          <p:cNvGraphicFramePr/>
          <p:nvPr/>
        </p:nvGraphicFramePr>
        <p:xfrm>
          <a:off x="7037280" y="1123920"/>
          <a:ext cx="164304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7280" y="1123920"/>
                    <a:ext cx="164304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214280" y="3571920"/>
          <a:ext cx="6572520" cy="2743200"/>
        </p:xfrm>
        <a:graphic>
          <a:graphicData uri="http://schemas.openxmlformats.org/drawingml/2006/table">
            <a:tbl>
              <a:tblPr/>
              <a:tblGrid>
                <a:gridCol w="1214640"/>
                <a:gridCol w="1601640"/>
                <a:gridCol w="1613160"/>
                <a:gridCol w="2143080"/>
              </a:tblGrid>
              <a:tr h="274680"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p(Mode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p(Mode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odingTable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rowSpan="3"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ode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=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ode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rowSpan="6"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ode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!=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ode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 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 (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 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 (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 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 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wor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x4, 17 entries for each table (1 for MPM, 16 for remain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x16~32x32, 34 entries for each table (1 for MPM, 33 for remain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ode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mode ordering for each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 ordering table corresponds to codeword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me number of tables with codeword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of RDO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first mode in the mode ordering table in the final RDO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gorithm Description (2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ABEA-A9A9-493A-A5F1-39C4E1D0D77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hor – HM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conditions – JCTVC-D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 Qualcomm for cross verifying our results (E44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6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14D1-EBE5-4D99-A189-2C2C30235EF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1"/>
          <a:stretch/>
        </p:blipFill>
        <p:spPr>
          <a:xfrm>
            <a:off x="2166840" y="3435480"/>
            <a:ext cx="4343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a context dependent intra mode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d an average bit-rate reduction of 0.4% (HE-A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minor increase for encoding time (&lt;=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 with that in LC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adopting this method into HM or 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1DA5-40C2-492B-8196-F1E513EB80E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矩形 3" descr=""/>
          <p:cNvPicPr/>
          <p:nvPr/>
        </p:nvPicPr>
        <p:blipFill>
          <a:blip r:embed="rId1"/>
          <a:stretch/>
        </p:blipFill>
        <p:spPr>
          <a:xfrm>
            <a:off x="2279520" y="2766960"/>
            <a:ext cx="4578480" cy="115272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49B2-AFEA-49D1-B461-2DD9A855D53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5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40:59Z</dcterms:created>
  <dc:creator>Chia-Yang Tsai (MediaTek)</dc:creator>
  <dc:description>Confidential A</dc:description>
  <cp:keywords>Confidential A</cp:keywords>
  <dc:language>en-US</dc:language>
  <cp:lastModifiedBy>xun guo</cp:lastModifiedBy>
  <dcterms:modified xsi:type="dcterms:W3CDTF">2011-03-22T14:54:52Z</dcterms:modified>
  <cp:revision>1506</cp:revision>
  <dc:subject/>
  <dc:title>Title: Arial Bold 32pt</dc:title>
</cp:coreProperties>
</file>