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9355-65C3-4B45-A93B-BF6F4387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9CF-DFAD-4DAE-8F02-0C861066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BC7-CECF-46DF-86F3-03F511DD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AAD-1AF9-4B22-8835-5C151EDE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6AE-4D26-4373-9F0C-46D63D89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875-290E-4B91-B5D8-4A3F8BEA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14A-CBD2-4913-8A2F-5573DB72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5E3-1F8B-40C6-8C94-25B9CA47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558-CC29-4F66-91E1-DC685868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6FC-3474-459E-AD00-A56F1BCB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A01-A7CC-4278-B6C2-882B19F9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E2E-15E5-468F-9C3A-135B1A15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8802-FB80-4C4B-B99E-D62F60D62A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motion information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versity of Science and Technology of China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bling TMVP in merge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ress the mode and reference frame index together as a bug f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MV in the last block instead of the MV in the first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ghtly change the center position of TMV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MV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mv in block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42753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only compress the MV, but also compress the mode and reference frame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 to decide using temporal MV or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ence frame index used to 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not misma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mv in block 15 (last bloc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n in 15, 11, 7, and 3 to find the first available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ightly change the center position of TM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from A 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451640" y="115920"/>
            <a:ext cx="1463760" cy="151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7451640" y="5195880"/>
            <a:ext cx="14684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 and ref idx compression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s like a bug f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00000" y="2205000"/>
          <a:ext cx="7993080" cy="4392720"/>
        </p:xfrm>
        <a:graphic>
          <a:graphicData uri="http://schemas.openxmlformats.org/drawingml/2006/table">
            <a:tbl>
              <a:tblPr/>
              <a:tblGrid>
                <a:gridCol w="1598760"/>
                <a:gridCol w="1598400"/>
                <a:gridCol w="1598760"/>
                <a:gridCol w="1598760"/>
                <a:gridCol w="159840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1) + using the MV in block 1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gain significantly without impact on complex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2637000"/>
          <a:ext cx="8424720" cy="3887640"/>
        </p:xfrm>
        <a:graphic>
          <a:graphicData uri="http://schemas.openxmlformats.org/drawingml/2006/table">
            <a:tbl>
              <a:tblPr/>
              <a:tblGrid>
                <a:gridCol w="1684440"/>
                <a:gridCol w="1685880"/>
                <a:gridCol w="1684080"/>
                <a:gridCol w="1684440"/>
                <a:gridCol w="1685880"/>
              </a:tblGrid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3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1) + scan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result to (2), a little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2276640"/>
          <a:ext cx="8353440" cy="432108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47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abling TMVP in merge mod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2205000"/>
          <a:ext cx="8135640" cy="4248360"/>
        </p:xfrm>
        <a:graphic>
          <a:graphicData uri="http://schemas.openxmlformats.org/drawingml/2006/table">
            <a:tbl>
              <a:tblPr/>
              <a:tblGrid>
                <a:gridCol w="1627200"/>
                <a:gridCol w="1627200"/>
                <a:gridCol w="1626840"/>
                <a:gridCol w="1627200"/>
                <a:gridCol w="1627200"/>
              </a:tblGrid>
              <a:tr h="471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2)+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two methods do not conflict with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sult roughly equals to the result in (2)and the result in (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3860640"/>
          <a:ext cx="8353440" cy="2808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0040"/>
                <a:gridCol w="1671840"/>
              </a:tblGrid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2) + slightly change the center position of TMVP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11280" y="2205000"/>
          <a:ext cx="7993080" cy="40323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1:57:52Z</dcterms:created>
  <dc:creator>Bin Li (MSR Student-Person Consulting)</dc:creator>
  <dc:description/>
  <dc:language>en-US</dc:language>
  <cp:lastModifiedBy>Bin Li (MSR Student-Person Consulting)</cp:lastModifiedBy>
  <dcterms:modified xsi:type="dcterms:W3CDTF">2011-03-18T09:22:20Z</dcterms:modified>
  <cp:revision>6</cp:revision>
  <dc:subject/>
  <dc:title>On motion information compression</dc:title>
</cp:coreProperties>
</file>