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0F14-0C05-46DA-AAB4-D3B8BDC38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036B-10A6-4241-8F5C-52A5928F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7C25-FFE0-43DC-A3C6-67E8AA193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5733-ABD6-47CB-9EEB-995300C9E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B0C3-403F-4BEE-A9D4-F468424C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B462-2D54-453F-BFA0-DDAC87AC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6246-3722-45AF-ACAE-C818450A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3EEC-6B12-421C-8BC4-B6B518BD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4B3A-D27E-4FC7-AC30-1E8DBC79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A885-C3D4-44CD-B654-E2065FF3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5BFB-5714-49F7-97B1-D2A6B860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2641-A6A9-4BA7-9DF9-DE7545CD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8161-A25F-49C3-A6BD-B68F3E71095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merge candidat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898989"/>
                </a:solidFill>
                <a:latin typeface="Calibri"/>
              </a:rPr>
              <a:t>Bin Li, Jizheng Xu, Feng Wu and Houqiang L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University of Science &amp; Technology of China</a:t>
            </a:r>
            <a:br>
              <a:rPr sz="2700"/>
            </a:b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Microsof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zero merge candidate when the set of merge candidate is emp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the parsing of merge flag independent with the merge candi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ose that these two modifications to be adopted by H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rge mo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al mer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clear when the first part is inferred as merge mode but the number of candidates is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one all 0 candidate, when the set of merge candidate is emp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 0 predi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ference frame index = 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v_x = mv_y = 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sult of adding zero merge candid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not have impact on RD performance and complex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11280" y="1268280"/>
          <a:ext cx="8137440" cy="3600720"/>
        </p:xfrm>
        <a:graphic>
          <a:graphicData uri="http://schemas.openxmlformats.org/drawingml/2006/table">
            <a:tbl>
              <a:tblPr/>
              <a:tblGrid>
                <a:gridCol w="1627200"/>
                <a:gridCol w="1627200"/>
                <a:gridCol w="1627200"/>
                <a:gridCol w="1627200"/>
                <a:gridCol w="1628640"/>
              </a:tblGrid>
              <a:tr h="400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_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_L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D_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D_L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9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9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9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0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9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9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9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nc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0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c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rge candidate independent merge flag decod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oding process of merge flag in the current H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Object 5"/>
          <p:cNvGraphicFramePr/>
          <p:nvPr/>
        </p:nvGraphicFramePr>
        <p:xfrm>
          <a:off x="250920" y="2708280"/>
          <a:ext cx="8651880" cy="223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708280"/>
                    <a:ext cx="8651880" cy="22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posed decoding of merge fla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erge candidates only needs to be constructed when it is merge m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Object 4"/>
          <p:cNvGraphicFramePr/>
          <p:nvPr/>
        </p:nvGraphicFramePr>
        <p:xfrm>
          <a:off x="250920" y="2924280"/>
          <a:ext cx="874080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924280"/>
                    <a:ext cx="874080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ension of the s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zero motion to the candidate 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ndle the cases when there is no candi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d to always coding of merge fla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ways code merge fla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e merge flag coding independent of the number of different candid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need to construct MVP candidates when merge is not u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uce complex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not have much impact on RD performance and complex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755640" y="1197000"/>
          <a:ext cx="7993080" cy="3600360"/>
        </p:xfrm>
        <a:graphic>
          <a:graphicData uri="http://schemas.openxmlformats.org/drawingml/2006/table">
            <a:tbl>
              <a:tblPr/>
              <a:tblGrid>
                <a:gridCol w="1598760"/>
                <a:gridCol w="1598400"/>
                <a:gridCol w="1598760"/>
                <a:gridCol w="1598400"/>
                <a:gridCol w="1598760"/>
              </a:tblGrid>
              <a:tr h="399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_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_L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D_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D_L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9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0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9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9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9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0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9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nc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9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c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ilar s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JCTVC-E118, similar algorithm, similar resul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ce is when it is inter B slice, the added merge candidate is bi-direction predi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4360" y="3284640"/>
          <a:ext cx="7920000" cy="3240000"/>
        </p:xfrm>
        <a:graphic>
          <a:graphicData uri="http://schemas.openxmlformats.org/drawingml/2006/table">
            <a:tbl>
              <a:tblPr/>
              <a:tblGrid>
                <a:gridCol w="1584000"/>
                <a:gridCol w="1582920"/>
                <a:gridCol w="1584360"/>
                <a:gridCol w="1584360"/>
                <a:gridCol w="1584360"/>
              </a:tblGrid>
              <a:tr h="360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_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_L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D_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D_L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03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85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89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nc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c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11:43:29Z</dcterms:created>
  <dc:creator>Bin Li (MSR Student-Person Consulting)</dc:creator>
  <dc:description/>
  <dc:language>en-US</dc:language>
  <cp:lastModifiedBy>Ji-Zheng Xu</cp:lastModifiedBy>
  <dcterms:modified xsi:type="dcterms:W3CDTF">2011-03-15T23:13:26Z</dcterms:modified>
  <cp:revision>5</cp:revision>
  <dc:subject/>
  <dc:title>On merge candidate construction</dc:title>
</cp:coreProperties>
</file>