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C279-AB41-4C3D-B682-F5E2B933E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6F61-94A1-49C9-A9E7-2468322B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4B50-FF8D-42F1-9E27-72C5C6A03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EFEB-65D8-48DA-B14B-76B7AFEAB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A89B-CDE1-45BC-AD9C-4B3ABBD45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A378-952E-4134-98E4-199925EE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124A-E24C-4665-8769-F7883473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B1DC-B2D2-4C35-8610-F35C68DB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C7A6-F69D-42BB-AB68-AA6AC616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FF37E-BBB0-4FA1-AE0A-A03CB4C2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BD4A-D300-478A-A0D5-A778E42F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172C-5F73-4237-A1A0-06D47FE5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06009-FB04-4859-86BB-9D5BE100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AE17-E138-4A6F-BD40-261CA41A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2C1A-513B-4B0E-9182-34B5CC91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EF7F-1866-4EE0-B892-93A41DC8F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4730-FC14-44F0-8690-B7A53F408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6C760-8F26-47FC-B0E6-19EEC4385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B04E8-582D-45E1-843C-26BA2988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B069C-62F2-47B0-A96A-34811BBB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D9A8F-0153-4303-8904-3B25E59B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274A4-5532-4160-918E-BD8BB56F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F69F-C57B-405D-AB05-D1385A58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F14F1-95A3-44E9-B156-A293B54C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737A0-1BA3-4FF3-AB9A-7FB3E72F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B66F0-4B66-4D66-BBBB-F7A8AB9F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1FDD4-5A64-44B0-ACC9-8071B12C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E74BB-450A-4313-957C-65FA3232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898E5-AA30-4B54-8C52-8B7308E52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CFBEF-05D0-4667-8A24-530457C8A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7DA48-8FC0-4AF7-A21B-7DEC6DAAA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095F7-F2B4-4AE2-BBA9-877164EB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84504-0E7C-4818-89C9-6B29DA34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4B4F-27A5-4DCD-B416-563E6090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4CE83-E197-49A7-AC76-DB84E9B2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A1529-169B-4F64-8D60-36FC2940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5E63A-6966-4979-BA1F-44AB2DD2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9BB4F-796F-440F-B50A-ACE058BB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87960-4718-4CFB-8F06-DD11D579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92F9E-EF6D-41FB-876D-59101EDA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38E90-CAF4-4B2B-80B0-0E9F3B88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3964B-523D-4DB3-8386-9874F78A7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D76E3-C287-4C11-AC7A-58E04CFBA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5EE71-B2A7-4E62-B0DD-6EFFD31A0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61C7-5AFD-4F88-84E1-516E40BE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9B65A-E282-4BFD-BD09-1D9C9DCE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540E4-2D42-4128-B944-7115E139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8DB00-45B2-49E9-90F4-ABBE4BAE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32A09-CEF7-4475-8B2A-3B2962B0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4171C-D919-40A4-84ED-4E584E61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A557C-FF16-48BC-BAA5-6A89CDBC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C8BBF-F5D7-49D5-A82A-95AF2A4C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EA45A-5D46-4920-822A-97D5F97B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3B85F-22C0-4E14-8B67-548C267B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00ED8-C3F8-4068-9C3B-2F0A62229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F969-5339-4483-9657-C04A3270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E8621-7FF1-4C81-BF39-663C2C886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531C-0258-4559-813C-456CC445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DA81-8DAE-4052-A268-11AC6584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9743-54E5-47EC-A7EF-64913347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3e87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4584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d7f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5bd07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5bd078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4C8B-5869-4F4B-BCCA-9D8224F8AA3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圆角矩形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矩形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add7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矩形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f5c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3e87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4584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d7f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5bd07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5bd078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AC6F-C9A5-41E7-A647-D40AC689850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圆角矩形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圆角矩形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矩形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add7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f5c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3e87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4584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d7f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5bd07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5bd078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C2D6-AB55-44E9-BF20-4ED12D1680E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圆角矩形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3e87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4584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d7f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5bd07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5bd078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E1C4-5346-490A-887C-020FBDC325A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矩形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矩形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add7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矩形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f5c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3e87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4584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d7f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5bd07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5bd078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66F3-713E-4B68-9C47-3BD06D3A1D9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73e87"/>
                </a:solidFill>
                <a:latin typeface="Perpetua"/>
              </a:rPr>
              <a:t>Zhongbo Shi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73e87"/>
                </a:solidFill>
                <a:latin typeface="Perpetua"/>
              </a:rPr>
              <a:t>Xiaoyan Su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73e87"/>
                </a:solidFill>
                <a:latin typeface="Perpetua"/>
              </a:rPr>
              <a:t>Jizheng Xu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e87"/>
                </a:solidFill>
                <a:latin typeface="Perpetua"/>
              </a:rPr>
              <a:t>Microsof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826920" y="1341000"/>
            <a:ext cx="7632720" cy="189396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CE12, Subset 1: Report of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Deblocking for Large-size Blocks</a:t>
            </a: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3e87"/>
                </a:solidFill>
                <a:latin typeface="Franklin Gothic Book"/>
              </a:rPr>
              <a:t>Visual comparison </a:t>
            </a: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144360" indent="-14436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amples extracted from Kimono( All Intra, HE, QP37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144360" indent="-1443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144360" indent="-14436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144360" indent="-14436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144360" indent="-14436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144360" indent="-14436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144360" indent="-14436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144360" indent="-1443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       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144360" indent="-1443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144360" indent="-1443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144360" indent="-1443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Ancho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144360" indent="-1443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144360" indent="-1443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144360" indent="-1443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144360" indent="-1443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144360" indent="-1443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144360" indent="-1443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144360" indent="-1443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         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2771640" y="2041560"/>
            <a:ext cx="363708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3e87"/>
                </a:solidFill>
                <a:latin typeface="Franklin Gothic Book"/>
              </a:rPr>
              <a:t>Visual comparison</a:t>
            </a: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2771640" y="2023920"/>
            <a:ext cx="3611520" cy="3997440"/>
          </a:xfrm>
          <a:prstGeom prst="rect">
            <a:avLst/>
          </a:prstGeom>
          <a:ln w="0">
            <a:noFill/>
          </a:ln>
        </p:spPr>
      </p:pic>
      <p:sp>
        <p:nvSpPr>
          <p:cNvPr id="256" name="内容占位符 2"/>
          <p:cNvSpPr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amples extracted from Kimono( All Intra, HE, QP37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       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Proposa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         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3e87"/>
                </a:solidFill>
                <a:latin typeface="Franklin Gothic Book"/>
              </a:rPr>
              <a:t>Conclusion</a:t>
            </a: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 stronger deblocking applied to large smooth reg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ittle impact on the objective quality and complexit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tter visual quality by further reducing blocking artifac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n be more useful for even higher resolution video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opose to consider a stronger deblocking for large blocks in the desig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矩形 3" descr=""/>
          <p:cNvPicPr/>
          <p:nvPr/>
        </p:nvPicPr>
        <p:blipFill>
          <a:blip r:embed="rId1"/>
          <a:stretch/>
        </p:blipFill>
        <p:spPr>
          <a:xfrm>
            <a:off x="3090960" y="2803680"/>
            <a:ext cx="296208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3e87"/>
                </a:solidFill>
                <a:latin typeface="Franklin Gothic Book"/>
              </a:rPr>
              <a:t>Outline</a:t>
            </a: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00000" y="2133720"/>
            <a:ext cx="740736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blocking for large-size blocks revisi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4584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ich has been presented in JCTVC-C273 and JCTVC-D137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4584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General idea: a stronger deblocking for large blocks (smooth region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E resul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3e87"/>
                </a:solidFill>
                <a:latin typeface="Franklin Gothic Book"/>
              </a:rPr>
              <a:t>Deblocking for Large-size Blocks</a:t>
            </a: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826920" y="1915920"/>
            <a:ext cx="78487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Perform a strong and long filter to some TU boundarie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4584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Perpetua"/>
              </a:rPr>
              <a:t>Apply to smooth region to further reduce blocking artifacts</a:t>
            </a:r>
            <a:endParaRPr b="0" lang="en-US" sz="17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4584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eblocking is changed to TUs, which satisfy the following condition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4584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Perpetua"/>
              </a:rPr>
              <a:t>The two adjacent TU’s related to the TU boundary are both in intra-coded CU’s</a:t>
            </a:r>
            <a:endParaRPr b="0" lang="en-US" sz="17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4584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Perpetua"/>
              </a:rPr>
              <a:t>The smaller transform size between the two TU's is larger than a certain value(set to 8 in the proposed scheme)</a:t>
            </a:r>
            <a:endParaRPr b="0" lang="en-US" sz="17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4584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Perpetua"/>
              </a:rPr>
              <a:t>The larger transform size between the two TU's is larger than a certain value(set to 16 in the proposed scheme)</a:t>
            </a:r>
            <a:endParaRPr b="0" lang="en-US" sz="17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4584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Perpetua"/>
              </a:rPr>
              <a:t>The sum of absolute difference between the luminance values inside two TUs and average values of tow TU’s boundary pixels is smaller than a certain threshold(set to 512 in the proposed scheme)</a:t>
            </a:r>
            <a:endParaRPr b="0" lang="en-US" sz="17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4584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Perpetua"/>
              </a:rPr>
              <a:t>For luminance, an additional condition should be satisfied:</a:t>
            </a:r>
            <a:endParaRPr b="0" lang="en-US" sz="17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Perpetua"/>
              </a:rPr>
              <a:t>All the pixels at the TU boundaries should be processed as strong filtering in default                    filtering mode </a:t>
            </a:r>
            <a:endParaRPr b="0" lang="en-US" sz="17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3e87"/>
                </a:solidFill>
                <a:latin typeface="Franklin Gothic Book"/>
              </a:rPr>
              <a:t>The proposed deblokcing filter</a:t>
            </a: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6" name="图片 37" descr=""/>
          <p:cNvPicPr/>
          <p:nvPr/>
        </p:nvPicPr>
        <p:blipFill>
          <a:blip r:embed="rId1"/>
          <a:stretch/>
        </p:blipFill>
        <p:spPr>
          <a:xfrm>
            <a:off x="2484360" y="1557360"/>
            <a:ext cx="3355920" cy="1836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3" descr=""/>
          <p:cNvPicPr/>
          <p:nvPr/>
        </p:nvPicPr>
        <p:blipFill>
          <a:blip r:embed="rId2"/>
          <a:stretch/>
        </p:blipFill>
        <p:spPr>
          <a:xfrm>
            <a:off x="2765520" y="3716280"/>
            <a:ext cx="2814480" cy="6224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4" descr=""/>
          <p:cNvPicPr/>
          <p:nvPr/>
        </p:nvPicPr>
        <p:blipFill>
          <a:blip r:embed="rId3"/>
          <a:stretch/>
        </p:blipFill>
        <p:spPr>
          <a:xfrm>
            <a:off x="2787480" y="4581360"/>
            <a:ext cx="2864160" cy="6321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5" descr=""/>
          <p:cNvPicPr/>
          <p:nvPr/>
        </p:nvPicPr>
        <p:blipFill>
          <a:blip r:embed="rId4"/>
          <a:stretch/>
        </p:blipFill>
        <p:spPr>
          <a:xfrm>
            <a:off x="4146480" y="5630760"/>
            <a:ext cx="851040" cy="327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6" descr=""/>
          <p:cNvPicPr/>
          <p:nvPr/>
        </p:nvPicPr>
        <p:blipFill>
          <a:blip r:embed="rId5"/>
          <a:stretch/>
        </p:blipFill>
        <p:spPr>
          <a:xfrm>
            <a:off x="5148360" y="5522760"/>
            <a:ext cx="28303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3e87"/>
                </a:solidFill>
                <a:latin typeface="Franklin Gothic Book"/>
              </a:rPr>
              <a:t>Experiments</a:t>
            </a: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M2.0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mpared with the anchors for all test sequenc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3e87"/>
                </a:solidFill>
                <a:latin typeface="Franklin Gothic Book"/>
              </a:rPr>
              <a:t>Experimental results – All Intra</a:t>
            </a: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116000" y="1844640"/>
          <a:ext cx="6908760" cy="3695760"/>
        </p:xfrm>
        <a:graphic>
          <a:graphicData uri="http://schemas.openxmlformats.org/drawingml/2006/table">
            <a:tbl>
              <a:tblPr/>
              <a:tblGrid>
                <a:gridCol w="1147680"/>
                <a:gridCol w="965160"/>
                <a:gridCol w="963720"/>
                <a:gridCol w="600120"/>
                <a:gridCol w="1316160"/>
                <a:gridCol w="1317600"/>
                <a:gridCol w="598320"/>
              </a:tblGrid>
              <a:tr h="230400">
                <a:tc rowSpan="2"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 gridSpan="3"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Int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Intra Lo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23004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23184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23004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23184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23004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23184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6922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 gridSpan="3"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372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 gridSpan="3"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3e87"/>
                </a:solidFill>
                <a:latin typeface="Franklin Gothic Book"/>
              </a:rPr>
              <a:t>Experimental results – random access</a:t>
            </a:r>
            <a:endParaRPr b="0" lang="en-US" sz="3600" spc="-1" strike="noStrike">
              <a:solidFill>
                <a:srgbClr val="073e87"/>
              </a:solidFill>
              <a:latin typeface="Franklin Gothic Book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403280" y="1916280"/>
          <a:ext cx="6348600" cy="3681360"/>
        </p:xfrm>
        <a:graphic>
          <a:graphicData uri="http://schemas.openxmlformats.org/drawingml/2006/table">
            <a:tbl>
              <a:tblPr/>
              <a:tblGrid>
                <a:gridCol w="1147680"/>
                <a:gridCol w="871560"/>
                <a:gridCol w="870120"/>
                <a:gridCol w="541440"/>
                <a:gridCol w="1188720"/>
                <a:gridCol w="1187640"/>
                <a:gridCol w="541440"/>
              </a:tblGrid>
              <a:tr h="639720">
                <a:tc rowSpan="2"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Random ac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Random access Lo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45792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 gridSpan="3"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9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 gridSpan="3"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3e87"/>
                </a:solidFill>
                <a:latin typeface="Franklin Gothic Book"/>
              </a:rPr>
              <a:t>Experimental results – low delay</a:t>
            </a: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403280" y="1989000"/>
          <a:ext cx="6405480" cy="3384720"/>
        </p:xfrm>
        <a:graphic>
          <a:graphicData uri="http://schemas.openxmlformats.org/drawingml/2006/table">
            <a:tbl>
              <a:tblPr/>
              <a:tblGrid>
                <a:gridCol w="1147680"/>
                <a:gridCol w="673200"/>
                <a:gridCol w="1084320"/>
                <a:gridCol w="673200"/>
                <a:gridCol w="674640"/>
                <a:gridCol w="1479600"/>
                <a:gridCol w="672840"/>
              </a:tblGrid>
              <a:tr h="260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Low de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Low delay Lo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260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260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260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260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260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260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5209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3e87"/>
                </a:solidFill>
                <a:latin typeface="Franklin Gothic Book"/>
              </a:rPr>
              <a:t>Visual quality evaluation</a:t>
            </a:r>
            <a:endParaRPr b="0" lang="en-US" sz="40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Visual improvements (Less blocking artifacts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r Kimono(sky and face area) and Parkscene( trunk area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ll Intra, Low-delay and RA at low bit-rates (QP37 or 32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31b6f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5:32:31Z</dcterms:created>
  <dc:creator>Ji-Zheng Xu</dc:creator>
  <dc:description/>
  <dc:language>en-US</dc:language>
  <cp:lastModifiedBy>Ji-Zheng Xu</cp:lastModifiedBy>
  <dcterms:modified xsi:type="dcterms:W3CDTF">2011-03-18T13:22:49Z</dcterms:modified>
  <cp:revision>29</cp:revision>
  <dc:subject/>
  <dc:title>PowerPoint 演示文稿</dc:title>
</cp:coreProperties>
</file>