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DCC-583E-4A20-A659-D651A275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380-740A-4B88-9F92-EFCA3DF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356-9FDD-4FA3-81F0-A17F5562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52B-88E6-411D-A201-A422B80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AB8-9D98-44F4-AFFF-4620FAF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040-41B3-4615-8518-34FFFBDB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771-8C38-4BB7-9C09-FED25D7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200-2817-4063-BE90-07188A65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A73-41B5-431C-AF8B-E31E7832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408-4A85-422C-B41E-6EC81DF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D8B-A138-45B1-95DD-13E15D7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DE3-E62D-4D98-8E50-7217FD6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5825-EFCD-4EC2-B95E-D3E5A32965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5: Counter based adaption for LC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98989"/>
                </a:solidFill>
                <a:latin typeface="Calibri"/>
              </a:rPr>
              <a:t>Liwei Guo, Bin Li, Xianglin Wang, Marta Karczewicz and Jizheng Xu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alcomm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iversity of Science &amp;Technology of China</a:t>
            </a: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C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up table is widely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swap when one code word 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 based adap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BF tables (the first four codew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tables for inter mode (the first four codew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CBP tables (the first two codew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1 table for inter prediction direction and reference frame index (the first two codew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sum counters for each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bits for sum counters and 5 bits for codeword cou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 adap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p when counter[i] &gt;= counter[i-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um counter reaches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ounter shift right one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sum counter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4360" y="1557360"/>
          <a:ext cx="8064360" cy="475128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528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8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improvement without noticeable impact on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 to adopt counter base LCEC in 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1:36:55Z</dcterms:created>
  <dc:creator>Bin Li (MSR Student-Person Consulting)</dc:creator>
  <dc:description/>
  <dc:language>en-US</dc:language>
  <cp:lastModifiedBy>Ji-Zheng Xu</cp:lastModifiedBy>
  <dcterms:modified xsi:type="dcterms:W3CDTF">2011-03-16T16:50:20Z</dcterms:modified>
  <cp:revision>9</cp:revision>
  <dc:subject/>
  <dc:title>CE5: Counter based adaption for LCEC</dc:title>
</cp:coreProperties>
</file>