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FB1A-3825-45DE-8D1D-D75173A86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4B8A-C8C7-4920-98BA-D3A0009C001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77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597E-BB0D-4FE9-8C2F-D96913AC2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80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BE2B-30BB-447F-80EF-18E802A1A8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83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C144-B988-4B5B-8387-655504F52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53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6EA1-F74B-4E45-9323-6F049C042E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56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8C80-6246-4FD9-B2A3-6A68DC1F6F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59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BA50-A3DC-45C7-8413-0071D6B8C1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62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BFCE-BB27-4BB3-B755-45DDE4498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65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73F2-CB1E-4B9D-ADA9-017E2F819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68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CF6A-0431-4530-AE94-5DF18AA63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71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4EF1-3922-4071-82F6-73F351FBA3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74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8890-CDDD-4880-86B4-F5ECDBD966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F318-2157-445A-8A0D-D6599ED7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6EA8-FC3E-403F-BB34-FDB2A946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364A0-8E3B-4113-B293-F3A76E94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5533C-46D5-40E3-A56F-FA32059D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87378-80D0-460D-82A9-44464802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C7F5C-B927-4B37-98E1-3896507D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7AF53-EDE4-4EDF-8CF5-9782BE40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15A81-F31A-474B-8C9D-D47C14B1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BB5A6-37F7-4B8B-BCFE-5CA73475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40761-920F-4E13-8CDA-662EEC53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9BC13-03DF-471C-B87F-2EA09523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11E55-4240-4AF8-BC39-CD3D6669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4B51-F060-4EF9-B49A-1C593EB7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AF212-44BE-47D7-B1F3-D625DC37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6249B-8A22-445C-B285-3B23E20A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9E8CA-0B38-44CB-88A4-8A26DAC3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9E209-80B7-42C8-A0A3-7497FC0B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0C16E-5AC1-4785-B9EC-FCEACFB4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AE162-331D-433C-883A-696A4A9A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E2A2D-5844-47D7-B02A-DBB57B11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F7B12-A8A3-46CB-ADEA-543F097A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51108-F4A1-4909-B3B0-96DE103E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919FD-3D0A-47EE-A08F-000BDF9B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B39-BDDD-47B0-BAE9-E8B5E639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E94FE-495D-41ED-9513-2B7741C7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65792-DC9E-439C-88AA-E5C362F3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FB980-6035-40FF-B8FB-E43E2086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9F3A4-B923-4F59-99B3-6D557B90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5A448-51D2-4F52-9C97-DFFEB5EA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7A027-C56B-40A6-B671-82722037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826B5-AAEA-45A2-8666-FB660A57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40BD4-EAD1-4F0E-A20B-9B7E0FFA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0B5F5-2B1E-4E46-B865-9090E878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FB799-C62E-4B51-B8F0-8ADFC679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517D2-6D82-44A0-A219-0D36256F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C99CB-FBF6-47CF-9033-8F950AA6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A2AF8-5F32-4BDE-9BAC-0E4EBDCF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C92F4-2C34-40CB-806B-329525C5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8CC1C-DDC3-46D3-98D0-17B73500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3C8FC-9F1B-4F6C-8467-9881E804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1DB4D-B096-47A6-B106-2DF1872A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229D9-23AC-4917-B346-A9453714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B328F-FEDD-427B-B28C-92F13158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0DB01-9945-4D1B-8CF9-0DBDD7D8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58A4C-4C3D-4342-BECC-BEE47EB7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00131-C731-47DF-BB06-11E7E3D4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8575D-26C4-4BB6-83C7-559DCB91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FEC2C-C8CF-4D27-84AE-1AC93151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8DA50-5FF9-4444-B065-541E69F5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0412-1A37-4022-A784-5AA77F8E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E2E67-843E-49DF-A824-E492DDA5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09B88-D56A-42FB-B3EE-2A2FB572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0E0DA-E0A8-4952-9FAC-83FC0C69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CF5C0-2EDF-40A3-9E29-6A9FA054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1197B-93CB-4306-9C76-264C171C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B6E0-6F8E-4220-BFC7-B68CF092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4387A-87D0-4A72-BD15-238E0A53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6047E-ACB2-4FF1-A07D-0526655C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52197-0C46-492C-8A38-B5E0F419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821B0-C1FB-4E01-8FCC-87EDB88F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8AE60-3FE1-4B12-BF1B-3CFB85AA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44BA7-BD96-4ED4-A2AB-A74A4CFF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08D4C-6F97-4914-B70E-496AD762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E43A7-5E02-4682-80B6-21432A59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7C5AA-4E9C-42E5-B20D-77B7CC95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7CD86-3A21-49AF-A7DF-EE15A531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EE11-F9EA-49F0-80CC-8EAB0085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51BCD-9148-4062-B0C4-2CFD4048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D584B-E1D4-4342-8911-F2A3E6A0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C1DF1-10D0-4EA8-969A-E398E2E3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24FAE-BC5D-4C9E-8A96-4CE1293C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7FAB7-09B2-402F-B7F6-51EF1ECE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084A2-1382-4086-81ED-61B68A0E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CD070-D168-483B-8EAA-AA55AC0A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E53F0-F76B-4006-A77E-0208FCF7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32534-1669-4C7B-AA0A-5A33A7E2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2BE96-1BA2-4A6E-A343-81E20140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1EBA-4C65-46C1-A04D-92993E52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C1830-C633-4AA4-9BCE-65E26AC5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E496A-5D18-4A8C-BBE7-AF740E03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B1B93-332E-4BA4-89B2-79A12581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5D080-17D4-4F64-8794-C8A59C7E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F2FE5-1510-4CD3-B599-38C736E3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B9B41-3335-4F6B-9BF4-6B94401F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D5B71-40B8-42EF-9FFD-058C8938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D2488-275A-432C-8891-7602122B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57840-6C70-48CF-9CA0-8C69EFD0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BE026-4F54-4F9A-ABB0-75BC4B1B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0BC7-AB64-4FD1-818C-21615573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FA860-5C20-4CEE-86CE-A5803194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3BA0A-28A5-4F27-ADF3-B2224A1F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19AC6-A684-4B90-A453-1E39F924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4AC62-A2E3-43BC-B615-52FCCE1C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C8640-1665-40EA-9B6B-8647DAF4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5F69C-A3C5-444F-8AC4-98D635F7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F9D03-1E56-4270-9A14-4E66EEED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DA424-08F4-4DCB-9828-0F42E887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B8F7E-4D6F-4C94-87B6-126E0B40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032DC-F869-4E43-8D9D-CBD2EC43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3422-7BC3-4B39-97C4-7E2D6D01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9A824-2CE4-4A3B-A69C-F657A7E6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A7A29-91F7-47EB-B8B4-DED41295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40FB6-CE5F-4669-8E29-B9119F78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9BB14-72D9-4835-B94E-4079F69A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07C99-555E-499D-8B74-BAFFDD36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C8D58-21CD-45D1-8E2E-6BE783CD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E2DC6-C260-4757-9D26-A95C93F8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37471-9125-45CF-8E1D-AE86944B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17CF8-5D2D-4EF9-81AC-77571044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27C72-CEC2-4CD7-A4A6-5EF334E2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D23F-5588-40E9-B535-D9F16CED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42F75-82E2-4333-A52B-D156E9B5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0AD22-0637-4467-BAF7-9AE56AB7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D69AC-1DEA-4B6B-814B-35DEA9B7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7B39B-4FDD-4D81-A2E7-5D8CC1BD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C017F-F7B0-4D7C-957A-70CD25E9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6D433-B5C0-47EC-BB93-A9A15F684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506E6-501B-4795-A151-96B2EF12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61E92-F81C-414D-9648-AB646CAD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DFEE5-8225-4F16-AB97-5DF6B9C0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34758-D6D2-46DE-9AA8-B5645A7C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0870-724D-481B-AE45-0705AF74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39552-08D5-4D9D-995B-537C1578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5B06E-B8B2-4885-B900-C19D6A64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A15AD-BF0E-46DF-BA54-3883735A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24EC9-9617-428E-AA51-3C2AEAE4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BCBB7-A91B-491E-812D-8326C1AA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78D92-1557-4116-A6EF-5A60D677B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FDCE0-D43B-4AAE-ADC5-F9661F2A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30B68-9E4E-491A-B17B-31219828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96D82-1C4A-402D-BF3C-61C6122C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96A27-EB78-4BA5-87EE-A71CF5BE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EF7A-7376-4C71-B4A6-7AFF1EC87DDA}" type="slidenum">
              <a: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正方形/長方形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正方形/長方形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518F-00A6-456D-9B59-AB3339D2C79C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0D5E-6CBA-4268-8A5D-13B2FAE7D8AA}" type="slidenum">
              <a: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正方形/長方形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正方形/長方形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2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9F67-2747-4481-B7FC-4EEEDE8EB6D3}" type="slidenum">
              <a: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正方形/長方形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正方形/長方形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6"/>
          <p:cNvPicPr/>
          <p:nvPr/>
        </p:nvPicPr>
        <p:blipFill>
          <a:blip r:embed="rId2"/>
          <a:stretch/>
        </p:blipFill>
        <p:spPr>
          <a:xfrm>
            <a:off x="0" y="6515280"/>
            <a:ext cx="9182160" cy="342720"/>
          </a:xfrm>
          <a:prstGeom prst="rect">
            <a:avLst/>
          </a:prstGeom>
          <a:ln w="0">
            <a:noFill/>
          </a:ln>
        </p:spPr>
      </p:pic>
      <p:sp>
        <p:nvSpPr>
          <p:cNvPr id="86" name="テキスト ボックス 10"/>
          <p:cNvSpPr/>
          <p:nvPr/>
        </p:nvSpPr>
        <p:spPr>
          <a:xfrm>
            <a:off x="7853400" y="9036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CTVC-E1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AD4D-670D-4431-B987-D86989A709F5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JCTVC-D116 / m188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正方形/長方形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正方形/長方形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9049-3E9C-45F1-BB15-2B9B4318BAE1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8A45-17E1-41C8-9683-0144C8CBE6B3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EF78-0457-42FD-9D78-05A8B117830A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2388-BC38-4020-A9AE-96E6CF063E61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2C53-C5EA-4E04-89E8-8D7C8980DFD3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正方形/長方形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正方形/長方形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5DFE-AA4E-472A-8EDC-9A1F5B2C7D36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440" y="1571760"/>
            <a:ext cx="8077320" cy="10000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gion-based adaptive loop filter using two-dimensional featur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(JCTVC-E141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357520" y="3212640"/>
            <a:ext cx="3405240" cy="16160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omohiro Ika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kanori Yamazak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ARP Corpo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571680" y="6429240"/>
            <a:ext cx="4937040" cy="285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1000"/>
          </a:bodyPr>
          <a:p>
            <a:pPr marL="29160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5th JCT-VC Meeting, Geneva, Switzerland, March 201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xperimental result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1296-B075-4B5E-B435-32C0ED1E9B0E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テキスト ボックス 5"/>
          <p:cNvSpPr/>
          <p:nvPr/>
        </p:nvSpPr>
        <p:spPr>
          <a:xfrm>
            <a:off x="5219640" y="6611760"/>
            <a:ext cx="20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ference: HM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2009880" y="760320"/>
          <a:ext cx="5226120" cy="5851440"/>
        </p:xfrm>
        <a:graphic>
          <a:graphicData uri="http://schemas.openxmlformats.org/drawingml/2006/table">
            <a:tbl>
              <a:tblPr/>
              <a:tblGrid>
                <a:gridCol w="1415880"/>
                <a:gridCol w="973080"/>
                <a:gridCol w="128880"/>
                <a:gridCol w="1290600"/>
                <a:gridCol w="126720"/>
                <a:gridCol w="1290960"/>
              </a:tblGrid>
              <a:tr h="182880">
                <a:tc rowSpan="2"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7160" rIns="471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n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47160" rIns="471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3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7160" rIns="471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6 %(Linux) | 88 %(Wi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rowSpan="2"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7160" rIns="471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ndom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47160" rIns="471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4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7160" rIns="471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8 %(Linux) | 90 % (Wi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47160" rIns="471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w de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47160" rIns="471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4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7160" rIns="471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7160" rIns="471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9 %(Linux) | 90 %(Wi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lock size compariso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maller block size is the better coding efficiency, while the encoding time and decoding time increa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F2C6-8AFF-4EB4-9DE4-7E37EA6EB697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1" name=""/>
          <p:cNvGraphicFramePr/>
          <p:nvPr/>
        </p:nvGraphicFramePr>
        <p:xfrm>
          <a:off x="1187280" y="1355760"/>
          <a:ext cx="7016760" cy="5121360"/>
        </p:xfrm>
        <a:graphic>
          <a:graphicData uri="http://schemas.openxmlformats.org/drawingml/2006/table">
            <a:tbl>
              <a:tblPr/>
              <a:tblGrid>
                <a:gridCol w="1722600"/>
                <a:gridCol w="1058760"/>
                <a:gridCol w="1059120"/>
                <a:gridCol w="1058760"/>
                <a:gridCol w="1058760"/>
                <a:gridCol w="1058760"/>
              </a:tblGrid>
              <a:tr h="243720">
                <a:tc rowSpan="2"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n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x4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x2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c Time[ 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3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6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2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4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5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6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6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3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8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 rowSpan="2"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ndom ac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x4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x2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4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5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7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7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6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8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8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3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4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14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457200" y="78588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62000"/>
          </a:bodyPr>
          <a:p>
            <a:pPr marL="223200" indent="-1494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-based adaptive loop fil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85560" indent="-16236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ck adaptation (B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500760" indent="-11484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x4 block(or 4x2 block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500760" indent="-11484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-level activity and 3-level dir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500760" indent="-11484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erarchical region represen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85560" indent="-16236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i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500760" indent="-114840">
              <a:spcBef>
                <a:spcPts val="400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O / RA / LD =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0.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% /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0.5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% /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0.6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% in 4x4 bloc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609120" indent="-108000">
              <a:spcBef>
                <a:spcPts val="400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c Time: 83%, 94%, 94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609120" indent="-108000">
              <a:spcBef>
                <a:spcPts val="400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c TIme: 96%, 98%, 99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723240" indent="-113760">
              <a:spcBef>
                <a:spcPts val="400"/>
              </a:spcBef>
              <a:buClr>
                <a:srgbClr val="4ea5d8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 Windows 88%, 90%, 9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500760" indent="-114840">
              <a:spcBef>
                <a:spcPts val="400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O / RA / LD =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0.4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% /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0.8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% /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.0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% in 2x2 bloc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609120" indent="-108000">
              <a:spcBef>
                <a:spcPts val="400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c Time: 94%, 97%, 97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609120" indent="-108000">
              <a:spcBef>
                <a:spcPts val="400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c TIme: 103%, 104%, 106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723240" indent="-113760">
              <a:spcBef>
                <a:spcPts val="349"/>
              </a:spcBef>
              <a:buClr>
                <a:srgbClr val="4ea5d8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Windows 93%, 95%, 96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500760" indent="-11484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200" indent="-1494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se to adopt 4x4 BA into 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85560" indent="-16236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D2 base drafted text has been prepa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5560" indent="-16236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3200" indent="-1494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3200" indent="-1494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3200" indent="-1494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3200" indent="-1494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85560" indent="-162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3B28-CC96-4516-B4A0-A9E3B7C47087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テキスト ボックス 4"/>
          <p:cNvSpPr/>
          <p:nvPr/>
        </p:nvSpPr>
        <p:spPr>
          <a:xfrm>
            <a:off x="5435640" y="2814480"/>
            <a:ext cx="276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#All HE case, negative value is be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1925-077B-433C-9237-B00C60B1B1F3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テキスト ボックス 4"/>
          <p:cNvSpPr/>
          <p:nvPr/>
        </p:nvSpPr>
        <p:spPr>
          <a:xfrm>
            <a:off x="2771640" y="249228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verall Summary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78588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5000"/>
          </a:bodyPr>
          <a:p>
            <a:pPr marL="306000" indent="-2048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-based adaptive loop fil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28840" indent="-2224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ck adaptation (B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86880" indent="-15768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x4 block(or 4x2 block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686880" indent="-15768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-level activity and 3-level dir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686880" indent="-15768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erarchical region represen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28840" indent="-2224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i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86880" indent="-157680">
              <a:spcBef>
                <a:spcPts val="400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O / RA / LD =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0.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% /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0.5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% /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0.6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835200" indent="-148320">
              <a:spcBef>
                <a:spcPts val="400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c Time: 83%, 94%, 94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835200" indent="-148320">
              <a:spcBef>
                <a:spcPts val="400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c Time: 96%, 98%, 99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991440" indent="-156240">
              <a:spcBef>
                <a:spcPts val="451"/>
              </a:spcBef>
              <a:buClr>
                <a:srgbClr val="4ea5d8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6000" indent="-2048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se to adopt 4x4 BA into 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28840" indent="-2224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D2 base drafted text has been prepa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28840" indent="-222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C48A-82C0-4F3A-A7DF-AEB782323355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テキスト ボックス 4"/>
          <p:cNvSpPr/>
          <p:nvPr/>
        </p:nvSpPr>
        <p:spPr>
          <a:xfrm>
            <a:off x="5435640" y="2814480"/>
            <a:ext cx="276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#All HE case, negative value is be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sed techni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imental res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ock size compari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E712-8B2F-4877-93DD-9B7D60641756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oposed techniqu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785520"/>
            <a:ext cx="8147160" cy="4822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-dimensional fea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MxN block is classified into up-to eighteen regions using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wo-dimensional featur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-level activity and 3-level dir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erarchical region divi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rst split and second split is used for region divi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ion-based AL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divided region is filtered with the associated filter coefficients which are sent in the bitstre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1819-2152-4E0B-A3DA-66594777985C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正方形/長方形 81"/>
          <p:cNvSpPr/>
          <p:nvPr/>
        </p:nvSpPr>
        <p:spPr>
          <a:xfrm>
            <a:off x="0" y="6400800"/>
            <a:ext cx="1476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wo-dimensional feature divis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age is divided into up to 18 reg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00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 a 4x4 block accurac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00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pending the block’s two-dimensional fea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00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Activit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up to 6 leve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00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Direc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up to 3 ki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CB2D-491E-4CE7-9EA9-ADB17BEBFED1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グループ化 20"/>
          <p:cNvGrpSpPr/>
          <p:nvPr/>
        </p:nvGrpSpPr>
        <p:grpSpPr>
          <a:xfrm>
            <a:off x="5076720" y="2882880"/>
            <a:ext cx="2952720" cy="2879640"/>
            <a:chOff x="5076720" y="2882880"/>
            <a:chExt cx="2952720" cy="2879640"/>
          </a:xfrm>
        </p:grpSpPr>
        <p:sp>
          <p:nvSpPr>
            <p:cNvPr id="542" name="テキスト ボックス 21"/>
            <p:cNvSpPr/>
            <p:nvPr/>
          </p:nvSpPr>
          <p:spPr>
            <a:xfrm>
              <a:off x="5148720" y="3469680"/>
              <a:ext cx="54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low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正方形/長方形 22"/>
            <p:cNvSpPr/>
            <p:nvPr/>
          </p:nvSpPr>
          <p:spPr>
            <a:xfrm>
              <a:off x="6156000" y="3530520"/>
              <a:ext cx="43308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正方形/長方形 23"/>
            <p:cNvSpPr/>
            <p:nvPr/>
          </p:nvSpPr>
          <p:spPr>
            <a:xfrm>
              <a:off x="6589440" y="3530520"/>
              <a:ext cx="43164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正方形/長方形 24"/>
            <p:cNvSpPr/>
            <p:nvPr/>
          </p:nvSpPr>
          <p:spPr>
            <a:xfrm>
              <a:off x="6156000" y="3674880"/>
              <a:ext cx="43308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正方形/長方形 25"/>
            <p:cNvSpPr/>
            <p:nvPr/>
          </p:nvSpPr>
          <p:spPr>
            <a:xfrm>
              <a:off x="6589440" y="3674880"/>
              <a:ext cx="43164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正方形/長方形 26"/>
            <p:cNvSpPr/>
            <p:nvPr/>
          </p:nvSpPr>
          <p:spPr>
            <a:xfrm>
              <a:off x="6156000" y="3458880"/>
              <a:ext cx="433080" cy="7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正方形/長方形 27"/>
            <p:cNvSpPr/>
            <p:nvPr/>
          </p:nvSpPr>
          <p:spPr>
            <a:xfrm>
              <a:off x="6589440" y="3962160"/>
              <a:ext cx="43164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正方形/長方形 28"/>
            <p:cNvSpPr/>
            <p:nvPr/>
          </p:nvSpPr>
          <p:spPr>
            <a:xfrm>
              <a:off x="6589440" y="4826160"/>
              <a:ext cx="431640" cy="936360"/>
            </a:xfrm>
            <a:prstGeom prst="rect">
              <a:avLst/>
            </a:prstGeom>
            <a:solidFill>
              <a:srgbClr val="89c3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正方形/長方形 29"/>
            <p:cNvSpPr/>
            <p:nvPr/>
          </p:nvSpPr>
          <p:spPr>
            <a:xfrm>
              <a:off x="6156000" y="3962160"/>
              <a:ext cx="43308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正方形/長方形 30"/>
            <p:cNvSpPr/>
            <p:nvPr/>
          </p:nvSpPr>
          <p:spPr>
            <a:xfrm>
              <a:off x="6156000" y="4826160"/>
              <a:ext cx="433080" cy="93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2" name="直線矢印コネクタ 31"/>
            <p:cNvCxnSpPr/>
            <p:nvPr/>
          </p:nvCxnSpPr>
          <p:spPr>
            <a:xfrm flipH="1">
              <a:off x="5940000" y="3458520"/>
              <a:ext cx="2160" cy="2304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53" name="テキスト ボックス 32"/>
            <p:cNvSpPr/>
            <p:nvPr/>
          </p:nvSpPr>
          <p:spPr>
            <a:xfrm>
              <a:off x="5076720" y="4250520"/>
              <a:ext cx="864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Activ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 level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4" name="直線矢印コネクタ 33"/>
            <p:cNvCxnSpPr/>
            <p:nvPr/>
          </p:nvCxnSpPr>
          <p:spPr>
            <a:xfrm>
              <a:off x="6155640" y="3241440"/>
              <a:ext cx="12978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55" name="テキスト ボックス 34"/>
            <p:cNvSpPr/>
            <p:nvPr/>
          </p:nvSpPr>
          <p:spPr>
            <a:xfrm>
              <a:off x="6373080" y="2882880"/>
              <a:ext cx="1656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Direc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(3 kinds)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テキスト ボックス 35"/>
            <p:cNvSpPr/>
            <p:nvPr/>
          </p:nvSpPr>
          <p:spPr>
            <a:xfrm>
              <a:off x="5076720" y="5474520"/>
              <a:ext cx="5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high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正方形/長方形 36"/>
            <p:cNvSpPr/>
            <p:nvPr/>
          </p:nvSpPr>
          <p:spPr>
            <a:xfrm>
              <a:off x="6156000" y="3386160"/>
              <a:ext cx="865080" cy="7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正方形/長方形 37"/>
            <p:cNvSpPr/>
            <p:nvPr/>
          </p:nvSpPr>
          <p:spPr>
            <a:xfrm>
              <a:off x="6156000" y="3386160"/>
              <a:ext cx="433080" cy="72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正方形/長方形 38"/>
            <p:cNvSpPr/>
            <p:nvPr/>
          </p:nvSpPr>
          <p:spPr>
            <a:xfrm>
              <a:off x="7021440" y="3530520"/>
              <a:ext cx="43164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正方形/長方形 39"/>
            <p:cNvSpPr/>
            <p:nvPr/>
          </p:nvSpPr>
          <p:spPr>
            <a:xfrm>
              <a:off x="7021440" y="3674880"/>
              <a:ext cx="431640" cy="287280"/>
            </a:xfrm>
            <a:prstGeom prst="rect">
              <a:avLst/>
            </a:prstGeom>
            <a:solidFill>
              <a:srgbClr val="f2ce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正方形/長方形 40"/>
            <p:cNvSpPr/>
            <p:nvPr/>
          </p:nvSpPr>
          <p:spPr>
            <a:xfrm>
              <a:off x="7021440" y="3962160"/>
              <a:ext cx="43164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正方形/長方形 41"/>
            <p:cNvSpPr/>
            <p:nvPr/>
          </p:nvSpPr>
          <p:spPr>
            <a:xfrm>
              <a:off x="7021440" y="4826160"/>
              <a:ext cx="431640" cy="93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正方形/長方形 42"/>
            <p:cNvSpPr/>
            <p:nvPr/>
          </p:nvSpPr>
          <p:spPr>
            <a:xfrm>
              <a:off x="7021440" y="3386160"/>
              <a:ext cx="43164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正方形/長方形 43"/>
            <p:cNvSpPr/>
            <p:nvPr/>
          </p:nvSpPr>
          <p:spPr>
            <a:xfrm>
              <a:off x="7021440" y="3386160"/>
              <a:ext cx="431640" cy="7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テキスト ボックス 51"/>
          <p:cNvSpPr/>
          <p:nvPr/>
        </p:nvSpPr>
        <p:spPr>
          <a:xfrm>
            <a:off x="5818320" y="251316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D featur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テキスト ボックス 59"/>
          <p:cNvSpPr/>
          <p:nvPr/>
        </p:nvSpPr>
        <p:spPr>
          <a:xfrm>
            <a:off x="5553000" y="5897520"/>
            <a:ext cx="283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ctivity         x no directional 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正方形/長方形 69"/>
          <p:cNvSpPr/>
          <p:nvPr/>
        </p:nvSpPr>
        <p:spPr>
          <a:xfrm>
            <a:off x="5364000" y="5967360"/>
            <a:ext cx="144720" cy="136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正方形/長方形 70"/>
          <p:cNvSpPr/>
          <p:nvPr/>
        </p:nvSpPr>
        <p:spPr>
          <a:xfrm>
            <a:off x="5364000" y="6532560"/>
            <a:ext cx="144720" cy="136440"/>
          </a:xfrm>
          <a:prstGeom prst="rect">
            <a:avLst/>
          </a:prstGeom>
          <a:solidFill>
            <a:srgbClr val="89c3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正方形/長方形 71"/>
          <p:cNvSpPr/>
          <p:nvPr/>
        </p:nvSpPr>
        <p:spPr>
          <a:xfrm>
            <a:off x="5364000" y="6237360"/>
            <a:ext cx="142920" cy="136440"/>
          </a:xfrm>
          <a:prstGeom prst="rect">
            <a:avLst/>
          </a:prstGeom>
          <a:solidFill>
            <a:srgbClr val="f2ce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テキスト ボックス 72"/>
          <p:cNvSpPr/>
          <p:nvPr/>
        </p:nvSpPr>
        <p:spPr>
          <a:xfrm>
            <a:off x="5553000" y="6464160"/>
            <a:ext cx="283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ctivity        x horizontal 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テキスト ボックス 73"/>
          <p:cNvSpPr/>
          <p:nvPr/>
        </p:nvSpPr>
        <p:spPr>
          <a:xfrm>
            <a:off x="5553000" y="6165720"/>
            <a:ext cx="257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 activity  x vertical 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正方形/長方形 74"/>
          <p:cNvSpPr/>
          <p:nvPr/>
        </p:nvSpPr>
        <p:spPr>
          <a:xfrm>
            <a:off x="4753080" y="2502000"/>
            <a:ext cx="3933720" cy="424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正方形/長方形 48"/>
          <p:cNvSpPr/>
          <p:nvPr/>
        </p:nvSpPr>
        <p:spPr>
          <a:xfrm>
            <a:off x="1619280" y="2997360"/>
            <a:ext cx="72072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正方形/長方形 49"/>
          <p:cNvSpPr/>
          <p:nvPr/>
        </p:nvSpPr>
        <p:spPr>
          <a:xfrm>
            <a:off x="2340000" y="2997360"/>
            <a:ext cx="719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正方形/長方形 50"/>
          <p:cNvSpPr/>
          <p:nvPr/>
        </p:nvSpPr>
        <p:spPr>
          <a:xfrm>
            <a:off x="3059280" y="2997360"/>
            <a:ext cx="72072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正方形/長方形 52"/>
          <p:cNvSpPr/>
          <p:nvPr/>
        </p:nvSpPr>
        <p:spPr>
          <a:xfrm>
            <a:off x="1619280" y="371628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正方形/長方形 53"/>
          <p:cNvSpPr/>
          <p:nvPr/>
        </p:nvSpPr>
        <p:spPr>
          <a:xfrm>
            <a:off x="2340000" y="3716280"/>
            <a:ext cx="719280" cy="720720"/>
          </a:xfrm>
          <a:prstGeom prst="rect">
            <a:avLst/>
          </a:prstGeom>
          <a:solidFill>
            <a:srgbClr val="89c3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正方形/長方形 54"/>
          <p:cNvSpPr/>
          <p:nvPr/>
        </p:nvSpPr>
        <p:spPr>
          <a:xfrm>
            <a:off x="3059280" y="3716280"/>
            <a:ext cx="720720" cy="720720"/>
          </a:xfrm>
          <a:prstGeom prst="rect">
            <a:avLst/>
          </a:prstGeom>
          <a:solidFill>
            <a:srgbClr val="f2ce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正方形/長方形 56"/>
          <p:cNvSpPr/>
          <p:nvPr/>
        </p:nvSpPr>
        <p:spPr>
          <a:xfrm>
            <a:off x="1619280" y="4437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正方形/長方形 57"/>
          <p:cNvSpPr/>
          <p:nvPr/>
        </p:nvSpPr>
        <p:spPr>
          <a:xfrm>
            <a:off x="2340000" y="4437000"/>
            <a:ext cx="719280" cy="720720"/>
          </a:xfrm>
          <a:prstGeom prst="rect">
            <a:avLst/>
          </a:prstGeom>
          <a:solidFill>
            <a:srgbClr val="89c3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正方形/長方形 58"/>
          <p:cNvSpPr/>
          <p:nvPr/>
        </p:nvSpPr>
        <p:spPr>
          <a:xfrm>
            <a:off x="3059280" y="4437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正方形/長方形 60"/>
          <p:cNvSpPr/>
          <p:nvPr/>
        </p:nvSpPr>
        <p:spPr>
          <a:xfrm>
            <a:off x="1619280" y="515772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正方形/長方形 61"/>
          <p:cNvSpPr/>
          <p:nvPr/>
        </p:nvSpPr>
        <p:spPr>
          <a:xfrm>
            <a:off x="2340000" y="515772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正方形/長方形 62"/>
          <p:cNvSpPr/>
          <p:nvPr/>
        </p:nvSpPr>
        <p:spPr>
          <a:xfrm>
            <a:off x="3059280" y="515772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正方形/長方形 67"/>
          <p:cNvSpPr/>
          <p:nvPr/>
        </p:nvSpPr>
        <p:spPr>
          <a:xfrm>
            <a:off x="900000" y="587700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正方形/長方形 68"/>
          <p:cNvSpPr/>
          <p:nvPr/>
        </p:nvSpPr>
        <p:spPr>
          <a:xfrm>
            <a:off x="1619280" y="5877000"/>
            <a:ext cx="720720" cy="720720"/>
          </a:xfrm>
          <a:prstGeom prst="rect">
            <a:avLst/>
          </a:prstGeom>
          <a:solidFill>
            <a:srgbClr val="89c3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正方形/長方形 72"/>
          <p:cNvSpPr/>
          <p:nvPr/>
        </p:nvSpPr>
        <p:spPr>
          <a:xfrm>
            <a:off x="2340000" y="5877000"/>
            <a:ext cx="719280" cy="720720"/>
          </a:xfrm>
          <a:prstGeom prst="rect">
            <a:avLst/>
          </a:prstGeom>
          <a:solidFill>
            <a:srgbClr val="89c3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正方形/長方形 73"/>
          <p:cNvSpPr/>
          <p:nvPr/>
        </p:nvSpPr>
        <p:spPr>
          <a:xfrm>
            <a:off x="3059280" y="5877000"/>
            <a:ext cx="720720" cy="720720"/>
          </a:xfrm>
          <a:prstGeom prst="rect">
            <a:avLst/>
          </a:prstGeom>
          <a:solidFill>
            <a:srgbClr val="89c3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テキスト ボックス 51"/>
          <p:cNvSpPr/>
          <p:nvPr/>
        </p:nvSpPr>
        <p:spPr>
          <a:xfrm>
            <a:off x="2050920" y="2492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44" descr="C:\Users\s124087\AppData\Local\Microsoft\Windows\Temporary Internet Files\Content.IE5\LPQA75QK\MC900027244[1].wmf"/>
          <p:cNvPicPr/>
          <p:nvPr/>
        </p:nvPicPr>
        <p:blipFill>
          <a:blip r:embed="rId1"/>
          <a:stretch/>
        </p:blipFill>
        <p:spPr>
          <a:xfrm>
            <a:off x="2576520" y="3133800"/>
            <a:ext cx="482760" cy="503280"/>
          </a:xfrm>
          <a:prstGeom prst="rect">
            <a:avLst/>
          </a:prstGeom>
          <a:ln w="0">
            <a:noFill/>
          </a:ln>
        </p:spPr>
      </p:pic>
      <p:sp>
        <p:nvSpPr>
          <p:cNvPr id="591" name="正方形/長方形 47"/>
          <p:cNvSpPr/>
          <p:nvPr/>
        </p:nvSpPr>
        <p:spPr>
          <a:xfrm>
            <a:off x="900000" y="2997360"/>
            <a:ext cx="71928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正方形/長方形 51"/>
          <p:cNvSpPr/>
          <p:nvPr/>
        </p:nvSpPr>
        <p:spPr>
          <a:xfrm>
            <a:off x="900000" y="371628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正方形/長方形 55"/>
          <p:cNvSpPr/>
          <p:nvPr/>
        </p:nvSpPr>
        <p:spPr>
          <a:xfrm>
            <a:off x="900000" y="443700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正方形/長方形 59"/>
          <p:cNvSpPr/>
          <p:nvPr/>
        </p:nvSpPr>
        <p:spPr>
          <a:xfrm>
            <a:off x="900000" y="5157720"/>
            <a:ext cx="719280" cy="719280"/>
          </a:xfrm>
          <a:prstGeom prst="rect">
            <a:avLst/>
          </a:prstGeom>
          <a:solidFill>
            <a:srgbClr val="f2ce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37" descr="C:\Users\s124087\AppData\Local\Microsoft\Windows\Temporary Internet Files\Content.IE5\ENJYUH2B\MC900222862[1].wmf"/>
          <p:cNvPicPr/>
          <p:nvPr/>
        </p:nvPicPr>
        <p:blipFill>
          <a:blip r:embed="rId2"/>
          <a:stretch/>
        </p:blipFill>
        <p:spPr>
          <a:xfrm>
            <a:off x="900000" y="3962520"/>
            <a:ext cx="374328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46" descr="C:\Users\s124087\AppData\Local\Microsoft\Windows\Temporary Internet Files\Content.IE5\FUKPGA8R\MC900013142[1].wmf"/>
          <p:cNvPicPr/>
          <p:nvPr/>
        </p:nvPicPr>
        <p:blipFill>
          <a:blip r:embed="rId3"/>
          <a:stretch/>
        </p:blipFill>
        <p:spPr>
          <a:xfrm>
            <a:off x="843120" y="3832200"/>
            <a:ext cx="1265040" cy="2427480"/>
          </a:xfrm>
          <a:prstGeom prst="rect">
            <a:avLst/>
          </a:prstGeom>
          <a:ln w="0">
            <a:noFill/>
          </a:ln>
        </p:spPr>
      </p:pic>
      <p:sp>
        <p:nvSpPr>
          <p:cNvPr id="597" name="正方形/長方形 83"/>
          <p:cNvSpPr/>
          <p:nvPr/>
        </p:nvSpPr>
        <p:spPr>
          <a:xfrm>
            <a:off x="3798720" y="5473800"/>
            <a:ext cx="863640" cy="12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正方形/長方形 80"/>
          <p:cNvSpPr/>
          <p:nvPr/>
        </p:nvSpPr>
        <p:spPr>
          <a:xfrm>
            <a:off x="660240" y="2502000"/>
            <a:ext cx="3480120" cy="424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正方形/長方形 82"/>
          <p:cNvSpPr/>
          <p:nvPr/>
        </p:nvSpPr>
        <p:spPr>
          <a:xfrm>
            <a:off x="900000" y="2997360"/>
            <a:ext cx="2880000" cy="360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線コネクタ 89"/>
          <p:cNvSpPr/>
          <p:nvPr/>
        </p:nvSpPr>
        <p:spPr>
          <a:xfrm>
            <a:off x="3564000" y="3386160"/>
            <a:ext cx="1800000" cy="264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直線コネクタ 90"/>
          <p:cNvSpPr/>
          <p:nvPr/>
        </p:nvSpPr>
        <p:spPr>
          <a:xfrm>
            <a:off x="3564000" y="4076640"/>
            <a:ext cx="1800000" cy="22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直線コネクタ 92"/>
          <p:cNvSpPr/>
          <p:nvPr/>
        </p:nvSpPr>
        <p:spPr>
          <a:xfrm>
            <a:off x="3419640" y="6464160"/>
            <a:ext cx="1944360" cy="13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左右矢印 44"/>
          <p:cNvSpPr/>
          <p:nvPr/>
        </p:nvSpPr>
        <p:spPr>
          <a:xfrm>
            <a:off x="4211640" y="4387680"/>
            <a:ext cx="504720" cy="277920"/>
          </a:xfrm>
          <a:prstGeom prst="leftRightArrow">
            <a:avLst>
              <a:gd name="adj1" fmla="val 50000"/>
              <a:gd name="adj2" fmla="val 499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右中かっこ 98"/>
          <p:cNvSpPr/>
          <p:nvPr/>
        </p:nvSpPr>
        <p:spPr>
          <a:xfrm>
            <a:off x="7608960" y="3395520"/>
            <a:ext cx="164880" cy="2367000"/>
          </a:xfrm>
          <a:custGeom>
            <a:avLst/>
            <a:gdLst>
              <a:gd name="textAreaLeft" fmla="*/ 0 w 164880"/>
              <a:gd name="textAreaRight" fmla="*/ 59400 w 164880"/>
              <a:gd name="textAreaTop" fmla="*/ 4320 h 2367000"/>
              <a:gd name="textAreaBottom" fmla="*/ 2362680 h 236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3"/>
                  <a:pt x="10800" y="126"/>
                </a:cubicBezTo>
                <a:lnTo>
                  <a:pt x="10800" y="10674"/>
                </a:lnTo>
                <a:cubicBezTo>
                  <a:pt x="10800" y="10737"/>
                  <a:pt x="16200" y="10800"/>
                  <a:pt x="21600" y="10800"/>
                </a:cubicBezTo>
                <a:cubicBezTo>
                  <a:pt x="16200" y="10800"/>
                  <a:pt x="10800" y="10863"/>
                  <a:pt x="10800" y="10926"/>
                </a:cubicBezTo>
                <a:lnTo>
                  <a:pt x="10800" y="21474"/>
                </a:lnTo>
                <a:cubicBezTo>
                  <a:pt x="10800" y="215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テキスト ボックス 99"/>
          <p:cNvSpPr/>
          <p:nvPr/>
        </p:nvSpPr>
        <p:spPr>
          <a:xfrm>
            <a:off x="7843680" y="4448160"/>
            <a:ext cx="109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テキスト ボックス 75"/>
          <p:cNvSpPr/>
          <p:nvPr/>
        </p:nvSpPr>
        <p:spPr>
          <a:xfrm>
            <a:off x="4284720" y="1882800"/>
            <a:ext cx="404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ximum number of regions is 18 = 6 x 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右中かっこ 76"/>
          <p:cNvSpPr/>
          <p:nvPr/>
        </p:nvSpPr>
        <p:spPr>
          <a:xfrm>
            <a:off x="4067280" y="1954080"/>
            <a:ext cx="144360" cy="466920"/>
          </a:xfrm>
          <a:custGeom>
            <a:avLst/>
            <a:gdLst>
              <a:gd name="textAreaLeft" fmla="*/ 0 w 144360"/>
              <a:gd name="textAreaRight" fmla="*/ 52200 w 144360"/>
              <a:gd name="textAreaTop" fmla="*/ 3600 h 466920"/>
              <a:gd name="textAreaBottom" fmla="*/ 463320 h 4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9"/>
                  <a:pt x="10800" y="557"/>
                </a:cubicBezTo>
                <a:lnTo>
                  <a:pt x="10800" y="10243"/>
                </a:lnTo>
                <a:cubicBezTo>
                  <a:pt x="10800" y="10522"/>
                  <a:pt x="16200" y="10800"/>
                  <a:pt x="21600" y="10800"/>
                </a:cubicBezTo>
                <a:cubicBezTo>
                  <a:pt x="16200" y="10800"/>
                  <a:pt x="10800" y="11079"/>
                  <a:pt x="10800" y="11357"/>
                </a:cubicBezTo>
                <a:lnTo>
                  <a:pt x="10800" y="21043"/>
                </a:lnTo>
                <a:cubicBezTo>
                  <a:pt x="10800" y="2132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ctivity and Direction calculatio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features of the MxN block is calculated by the two ste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p1: ActHorz and ActVert is calcula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p 2: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tiv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re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decid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vity is decided with un-uniform threshold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25F5-7ABE-4C8C-BFB0-CE440A63C2BE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Object 1"/>
              <p:cNvSpPr txBox="1"/>
              <p:nvPr/>
            </p:nvSpPr>
            <p:spPr>
              <a:xfrm>
                <a:off x="2152800" y="2492280"/>
                <a:ext cx="303984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ctHori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tVert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Object 5"/>
              <p:cNvSpPr txBox="1"/>
              <p:nvPr/>
            </p:nvSpPr>
            <p:spPr>
              <a:xfrm>
                <a:off x="2195640" y="4437000"/>
                <a:ext cx="324000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ctivit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ctHoriz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ctVer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rection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ctVert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×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ctHoriz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eqArr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eqArr>
                                </m:e>
                                <m:e>
                                  <m:eqArr>
                                    <m:e>
                                      <m:r>
                                        <m:t xml:space="preserve">(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ActHoriz</m:t>
                                      </m:r>
                                      <m:r>
                                        <m:t xml:space="preserve">&gt;</m:t>
                                      </m:r>
                                      <m:r>
                                        <m:t xml:space="preserve">2</m:t>
                                      </m:r>
                                      <m:r>
                                        <m:t xml:space="preserve">×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ActVert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  <m:e>
                                      <m:r>
                                        <m:t xml:space="preserve">(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otherwise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eqAr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5" name="正方形/長方形 35"/>
          <p:cNvSpPr/>
          <p:nvPr/>
        </p:nvSpPr>
        <p:spPr>
          <a:xfrm>
            <a:off x="6950160" y="2925720"/>
            <a:ext cx="71892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正方形/長方形 35"/>
          <p:cNvSpPr/>
          <p:nvPr/>
        </p:nvSpPr>
        <p:spPr>
          <a:xfrm>
            <a:off x="6732720" y="2706840"/>
            <a:ext cx="1152360" cy="11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732720" y="2060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6948000" y="2349360"/>
            <a:ext cx="18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669080" y="2349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885080" y="2060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948360" y="2637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732720" y="2205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48360" y="18381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164360" y="227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7164000" y="2924280"/>
            <a:ext cx="98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164000" y="3645000"/>
            <a:ext cx="98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380000" y="2706840"/>
            <a:ext cx="115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7380000" y="3860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028000" y="29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388360" y="2708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38836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028000" y="306864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ierarchical region divisio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spl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age is divided using Activity into up to 3 reg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 split has 3 patter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gnaled with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um_first_split_minus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0936-2087-4B4A-8D6B-4ECEB4175E56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正方形/長方形 4"/>
          <p:cNvSpPr/>
          <p:nvPr/>
        </p:nvSpPr>
        <p:spPr>
          <a:xfrm>
            <a:off x="1979640" y="2781360"/>
            <a:ext cx="863640" cy="17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直線矢印コネクタ 5"/>
          <p:cNvCxnSpPr/>
          <p:nvPr/>
        </p:nvCxnSpPr>
        <p:spPr>
          <a:xfrm flipH="1">
            <a:off x="1762920" y="2781360"/>
            <a:ext cx="1080" cy="172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8" name="テキスト ボックス 6"/>
          <p:cNvSpPr/>
          <p:nvPr/>
        </p:nvSpPr>
        <p:spPr>
          <a:xfrm>
            <a:off x="1116000" y="342900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9" name="直線矢印コネクタ 7"/>
          <p:cNvCxnSpPr/>
          <p:nvPr/>
        </p:nvCxnSpPr>
        <p:spPr>
          <a:xfrm>
            <a:off x="1979280" y="2563920"/>
            <a:ext cx="9356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0" name="テキスト ボックス 8"/>
          <p:cNvSpPr/>
          <p:nvPr/>
        </p:nvSpPr>
        <p:spPr>
          <a:xfrm>
            <a:off x="2050920" y="2205000"/>
            <a:ext cx="122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右矢印 9"/>
          <p:cNvSpPr/>
          <p:nvPr/>
        </p:nvSpPr>
        <p:spPr>
          <a:xfrm>
            <a:off x="3348000" y="3500280"/>
            <a:ext cx="287280" cy="289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テキスト ボックス 10"/>
          <p:cNvSpPr/>
          <p:nvPr/>
        </p:nvSpPr>
        <p:spPr>
          <a:xfrm>
            <a:off x="2916360" y="299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irst sp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テキスト ボックス 11"/>
          <p:cNvSpPr/>
          <p:nvPr/>
        </p:nvSpPr>
        <p:spPr>
          <a:xfrm>
            <a:off x="4716360" y="220500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_of_first_split_minus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テキスト ボックス 12"/>
          <p:cNvSpPr/>
          <p:nvPr/>
        </p:nvSpPr>
        <p:spPr>
          <a:xfrm>
            <a:off x="4500720" y="249228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テキスト ボックス 13"/>
          <p:cNvSpPr/>
          <p:nvPr/>
        </p:nvSpPr>
        <p:spPr>
          <a:xfrm>
            <a:off x="6588000" y="249228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テキスト ボックス 14"/>
          <p:cNvSpPr/>
          <p:nvPr/>
        </p:nvSpPr>
        <p:spPr>
          <a:xfrm>
            <a:off x="5508720" y="249228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正方形/長方形 15"/>
          <p:cNvSpPr/>
          <p:nvPr/>
        </p:nvSpPr>
        <p:spPr>
          <a:xfrm>
            <a:off x="4140360" y="2781360"/>
            <a:ext cx="863280" cy="172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正方形/長方形 16"/>
          <p:cNvSpPr/>
          <p:nvPr/>
        </p:nvSpPr>
        <p:spPr>
          <a:xfrm>
            <a:off x="6372360" y="2781360"/>
            <a:ext cx="86364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正方形/長方形 17"/>
          <p:cNvSpPr/>
          <p:nvPr/>
        </p:nvSpPr>
        <p:spPr>
          <a:xfrm>
            <a:off x="6372360" y="3357720"/>
            <a:ext cx="863640" cy="57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正方形/長方形 18"/>
          <p:cNvSpPr/>
          <p:nvPr/>
        </p:nvSpPr>
        <p:spPr>
          <a:xfrm>
            <a:off x="6372360" y="3933720"/>
            <a:ext cx="863640" cy="57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正方形/長方形 19"/>
          <p:cNvSpPr/>
          <p:nvPr/>
        </p:nvSpPr>
        <p:spPr>
          <a:xfrm>
            <a:off x="5292720" y="2781360"/>
            <a:ext cx="86364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正方形/長方形 20"/>
          <p:cNvSpPr/>
          <p:nvPr/>
        </p:nvSpPr>
        <p:spPr>
          <a:xfrm>
            <a:off x="5292720" y="3357720"/>
            <a:ext cx="863640" cy="1150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ierarchical region divisio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spl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first splitted region is further divided using Activity and Direction into up to 6 reg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split has 8 patter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gnaled with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ond_split_typ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82E1-430B-470B-9CCD-9A468FEA08D2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正方形/長方形 4"/>
          <p:cNvSpPr/>
          <p:nvPr/>
        </p:nvSpPr>
        <p:spPr>
          <a:xfrm>
            <a:off x="3059280" y="3933720"/>
            <a:ext cx="865080" cy="57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右矢印 5"/>
          <p:cNvSpPr/>
          <p:nvPr/>
        </p:nvSpPr>
        <p:spPr>
          <a:xfrm>
            <a:off x="2519280" y="2997360"/>
            <a:ext cx="28728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テキスト ボックス 6"/>
          <p:cNvSpPr/>
          <p:nvPr/>
        </p:nvSpPr>
        <p:spPr>
          <a:xfrm>
            <a:off x="1908000" y="220500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Second sp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テキスト ボックス 7"/>
          <p:cNvSpPr/>
          <p:nvPr/>
        </p:nvSpPr>
        <p:spPr>
          <a:xfrm>
            <a:off x="3348000" y="25653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テキスト ボックス 8"/>
          <p:cNvSpPr/>
          <p:nvPr/>
        </p:nvSpPr>
        <p:spPr>
          <a:xfrm>
            <a:off x="4500720" y="234936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ond_split_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正方形/長方形 9"/>
          <p:cNvSpPr/>
          <p:nvPr/>
        </p:nvSpPr>
        <p:spPr>
          <a:xfrm>
            <a:off x="4211640" y="2852640"/>
            <a:ext cx="2890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正方形/長方形 10"/>
          <p:cNvSpPr/>
          <p:nvPr/>
        </p:nvSpPr>
        <p:spPr>
          <a:xfrm>
            <a:off x="1258920" y="2852640"/>
            <a:ext cx="86508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正方形/長方形 11"/>
          <p:cNvSpPr/>
          <p:nvPr/>
        </p:nvSpPr>
        <p:spPr>
          <a:xfrm>
            <a:off x="4500720" y="2852640"/>
            <a:ext cx="576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正方形/長方形 12"/>
          <p:cNvSpPr/>
          <p:nvPr/>
        </p:nvSpPr>
        <p:spPr>
          <a:xfrm>
            <a:off x="5867280" y="2852640"/>
            <a:ext cx="2890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正方形/長方形 13"/>
          <p:cNvSpPr/>
          <p:nvPr/>
        </p:nvSpPr>
        <p:spPr>
          <a:xfrm>
            <a:off x="5292720" y="2852640"/>
            <a:ext cx="5745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テキスト ボックス 14"/>
          <p:cNvSpPr/>
          <p:nvPr/>
        </p:nvSpPr>
        <p:spPr>
          <a:xfrm>
            <a:off x="4500720" y="256536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テキスト ボックス 15"/>
          <p:cNvSpPr/>
          <p:nvPr/>
        </p:nvSpPr>
        <p:spPr>
          <a:xfrm>
            <a:off x="5580000" y="25653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正方形/長方形 16"/>
          <p:cNvSpPr/>
          <p:nvPr/>
        </p:nvSpPr>
        <p:spPr>
          <a:xfrm>
            <a:off x="6372360" y="2852640"/>
            <a:ext cx="287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正方形/長方形 17"/>
          <p:cNvSpPr/>
          <p:nvPr/>
        </p:nvSpPr>
        <p:spPr>
          <a:xfrm>
            <a:off x="6659640" y="2852640"/>
            <a:ext cx="288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正方形/長方形 18"/>
          <p:cNvSpPr/>
          <p:nvPr/>
        </p:nvSpPr>
        <p:spPr>
          <a:xfrm>
            <a:off x="6948360" y="2852640"/>
            <a:ext cx="28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直線コネクタ 19"/>
          <p:cNvSpPr/>
          <p:nvPr/>
        </p:nvSpPr>
        <p:spPr>
          <a:xfrm flipV="1">
            <a:off x="3058560" y="4220640"/>
            <a:ext cx="865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テキスト ボックス 20"/>
          <p:cNvSpPr/>
          <p:nvPr/>
        </p:nvSpPr>
        <p:spPr>
          <a:xfrm>
            <a:off x="6659640" y="25653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正方形/長方形 21"/>
          <p:cNvSpPr/>
          <p:nvPr/>
        </p:nvSpPr>
        <p:spPr>
          <a:xfrm>
            <a:off x="4211640" y="3933720"/>
            <a:ext cx="28908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正方形/長方形 22"/>
          <p:cNvSpPr/>
          <p:nvPr/>
        </p:nvSpPr>
        <p:spPr>
          <a:xfrm>
            <a:off x="4500720" y="3933720"/>
            <a:ext cx="57600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正方形/長方形 23"/>
          <p:cNvSpPr/>
          <p:nvPr/>
        </p:nvSpPr>
        <p:spPr>
          <a:xfrm>
            <a:off x="5867280" y="3933720"/>
            <a:ext cx="28908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正方形/長方形 24"/>
          <p:cNvSpPr/>
          <p:nvPr/>
        </p:nvSpPr>
        <p:spPr>
          <a:xfrm>
            <a:off x="5292720" y="3933720"/>
            <a:ext cx="57456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テキスト ボックス 25"/>
          <p:cNvSpPr/>
          <p:nvPr/>
        </p:nvSpPr>
        <p:spPr>
          <a:xfrm>
            <a:off x="4500720" y="3645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テキスト ボックス 26"/>
          <p:cNvSpPr/>
          <p:nvPr/>
        </p:nvSpPr>
        <p:spPr>
          <a:xfrm>
            <a:off x="5580000" y="3645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正方形/長方形 27"/>
          <p:cNvSpPr/>
          <p:nvPr/>
        </p:nvSpPr>
        <p:spPr>
          <a:xfrm>
            <a:off x="6372360" y="3933720"/>
            <a:ext cx="28728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正方形/長方形 28"/>
          <p:cNvSpPr/>
          <p:nvPr/>
        </p:nvSpPr>
        <p:spPr>
          <a:xfrm>
            <a:off x="6659640" y="3933720"/>
            <a:ext cx="288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正方形/長方形 29"/>
          <p:cNvSpPr/>
          <p:nvPr/>
        </p:nvSpPr>
        <p:spPr>
          <a:xfrm>
            <a:off x="6948360" y="3933720"/>
            <a:ext cx="28764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テキスト ボックス 30"/>
          <p:cNvSpPr/>
          <p:nvPr/>
        </p:nvSpPr>
        <p:spPr>
          <a:xfrm>
            <a:off x="6659640" y="3645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テキスト ボックス 31"/>
          <p:cNvSpPr/>
          <p:nvPr/>
        </p:nvSpPr>
        <p:spPr>
          <a:xfrm>
            <a:off x="3348000" y="3645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直線コネクタ 32"/>
          <p:cNvSpPr/>
          <p:nvPr/>
        </p:nvSpPr>
        <p:spPr>
          <a:xfrm flipV="1">
            <a:off x="4210920" y="4220640"/>
            <a:ext cx="865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直線コネクタ 33"/>
          <p:cNvSpPr/>
          <p:nvPr/>
        </p:nvSpPr>
        <p:spPr>
          <a:xfrm flipV="1">
            <a:off x="5292000" y="4220640"/>
            <a:ext cx="863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直線コネクタ 34"/>
          <p:cNvSpPr/>
          <p:nvPr/>
        </p:nvSpPr>
        <p:spPr>
          <a:xfrm flipV="1">
            <a:off x="6371640" y="4220640"/>
            <a:ext cx="863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正方形/長方形 35"/>
          <p:cNvSpPr/>
          <p:nvPr/>
        </p:nvSpPr>
        <p:spPr>
          <a:xfrm>
            <a:off x="3059280" y="2852640"/>
            <a:ext cx="86508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正方形/長方形 36"/>
          <p:cNvSpPr/>
          <p:nvPr/>
        </p:nvSpPr>
        <p:spPr>
          <a:xfrm>
            <a:off x="4211640" y="3933720"/>
            <a:ext cx="865080" cy="57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正方形/長方形 37"/>
          <p:cNvSpPr/>
          <p:nvPr/>
        </p:nvSpPr>
        <p:spPr>
          <a:xfrm>
            <a:off x="5292720" y="2852640"/>
            <a:ext cx="86364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正方形/長方形 38"/>
          <p:cNvSpPr/>
          <p:nvPr/>
        </p:nvSpPr>
        <p:spPr>
          <a:xfrm>
            <a:off x="6372360" y="2852640"/>
            <a:ext cx="86364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正方形/長方形 39"/>
          <p:cNvSpPr/>
          <p:nvPr/>
        </p:nvSpPr>
        <p:spPr>
          <a:xfrm>
            <a:off x="5292720" y="3933720"/>
            <a:ext cx="863640" cy="57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正方形/長方形 40"/>
          <p:cNvSpPr/>
          <p:nvPr/>
        </p:nvSpPr>
        <p:spPr>
          <a:xfrm>
            <a:off x="6372360" y="3933720"/>
            <a:ext cx="863640" cy="57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正方形/長方形 42"/>
          <p:cNvSpPr/>
          <p:nvPr/>
        </p:nvSpPr>
        <p:spPr>
          <a:xfrm>
            <a:off x="4502160" y="2852640"/>
            <a:ext cx="5745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正方形/長方形 41"/>
          <p:cNvSpPr/>
          <p:nvPr/>
        </p:nvSpPr>
        <p:spPr>
          <a:xfrm>
            <a:off x="4211640" y="2852640"/>
            <a:ext cx="86508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直線コネクタ 44"/>
          <p:cNvSpPr/>
          <p:nvPr/>
        </p:nvSpPr>
        <p:spPr>
          <a:xfrm flipH="1">
            <a:off x="1115640" y="3284640"/>
            <a:ext cx="57636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テキスト ボックス 45"/>
          <p:cNvSpPr/>
          <p:nvPr/>
        </p:nvSpPr>
        <p:spPr>
          <a:xfrm>
            <a:off x="324000" y="4037040"/>
            <a:ext cx="24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 split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xample of hierarchical region divisio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First spl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300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age is divided into 3 regions in first spl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249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ow activity, medium activity and high activity region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Verdana"/>
              </a:rPr>
              <a:t>Second spl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300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activity region is divided into 2 regions by Activ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300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dium activity region is divided into 4 regions by Activity and Dir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300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 activity region is divided into 3 regions by Dir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resul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300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age is divided into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(=2 + 4 + 3) reg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306C-E18E-4703-AB90-585E6A1D4B71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正方形/長方形 10"/>
          <p:cNvSpPr/>
          <p:nvPr/>
        </p:nvSpPr>
        <p:spPr>
          <a:xfrm>
            <a:off x="1332000" y="3789360"/>
            <a:ext cx="865080" cy="17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1" name="直線矢印コネクタ 11"/>
          <p:cNvCxnSpPr/>
          <p:nvPr/>
        </p:nvCxnSpPr>
        <p:spPr>
          <a:xfrm flipH="1">
            <a:off x="1115640" y="3789360"/>
            <a:ext cx="2160" cy="172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2" name="テキスト ボックス 12"/>
          <p:cNvSpPr/>
          <p:nvPr/>
        </p:nvSpPr>
        <p:spPr>
          <a:xfrm>
            <a:off x="468360" y="443700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3" name="直線矢印コネクタ 13"/>
          <p:cNvCxnSpPr/>
          <p:nvPr/>
        </p:nvCxnSpPr>
        <p:spPr>
          <a:xfrm>
            <a:off x="1331640" y="3571920"/>
            <a:ext cx="937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4" name="テキスト ボックス 14"/>
          <p:cNvSpPr/>
          <p:nvPr/>
        </p:nvSpPr>
        <p:spPr>
          <a:xfrm>
            <a:off x="1405080" y="32130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右矢印 15"/>
          <p:cNvSpPr/>
          <p:nvPr/>
        </p:nvSpPr>
        <p:spPr>
          <a:xfrm>
            <a:off x="2700360" y="4508640"/>
            <a:ext cx="289080" cy="288720"/>
          </a:xfrm>
          <a:prstGeom prst="rightArrow">
            <a:avLst>
              <a:gd name="adj1" fmla="val 50000"/>
              <a:gd name="adj2" fmla="val 5006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テキスト ボックス 16"/>
          <p:cNvSpPr/>
          <p:nvPr/>
        </p:nvSpPr>
        <p:spPr>
          <a:xfrm>
            <a:off x="2340000" y="400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irst sp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正方形/長方形 22"/>
          <p:cNvSpPr/>
          <p:nvPr/>
        </p:nvSpPr>
        <p:spPr>
          <a:xfrm>
            <a:off x="3924360" y="3789360"/>
            <a:ext cx="86364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正方形/長方形 23"/>
          <p:cNvSpPr/>
          <p:nvPr/>
        </p:nvSpPr>
        <p:spPr>
          <a:xfrm>
            <a:off x="3924360" y="4365720"/>
            <a:ext cx="863640" cy="57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正方形/長方形 24"/>
          <p:cNvSpPr/>
          <p:nvPr/>
        </p:nvSpPr>
        <p:spPr>
          <a:xfrm>
            <a:off x="3924360" y="4941720"/>
            <a:ext cx="863640" cy="57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右矢印 28"/>
          <p:cNvSpPr/>
          <p:nvPr/>
        </p:nvSpPr>
        <p:spPr>
          <a:xfrm>
            <a:off x="5300640" y="4508640"/>
            <a:ext cx="287280" cy="288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テキスト ボックス 30"/>
          <p:cNvSpPr/>
          <p:nvPr/>
        </p:nvSpPr>
        <p:spPr>
          <a:xfrm>
            <a:off x="4976640" y="3995640"/>
            <a:ext cx="18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Second sp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正方形/長方形 31"/>
          <p:cNvSpPr/>
          <p:nvPr/>
        </p:nvSpPr>
        <p:spPr>
          <a:xfrm>
            <a:off x="6516720" y="4941720"/>
            <a:ext cx="28728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正方形/長方形 32"/>
          <p:cNvSpPr/>
          <p:nvPr/>
        </p:nvSpPr>
        <p:spPr>
          <a:xfrm>
            <a:off x="6804000" y="4941720"/>
            <a:ext cx="28908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正方形/長方形 33"/>
          <p:cNvSpPr/>
          <p:nvPr/>
        </p:nvSpPr>
        <p:spPr>
          <a:xfrm>
            <a:off x="7093080" y="4941720"/>
            <a:ext cx="28728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正方形/長方形 34"/>
          <p:cNvSpPr/>
          <p:nvPr/>
        </p:nvSpPr>
        <p:spPr>
          <a:xfrm>
            <a:off x="6516720" y="4941720"/>
            <a:ext cx="863640" cy="57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正方形/長方形 39"/>
          <p:cNvSpPr/>
          <p:nvPr/>
        </p:nvSpPr>
        <p:spPr>
          <a:xfrm>
            <a:off x="6516720" y="3798720"/>
            <a:ext cx="86364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直線コネクタ 40"/>
          <p:cNvSpPr/>
          <p:nvPr/>
        </p:nvSpPr>
        <p:spPr>
          <a:xfrm flipV="1">
            <a:off x="6516000" y="4086360"/>
            <a:ext cx="863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正方形/長方形 46"/>
          <p:cNvSpPr/>
          <p:nvPr/>
        </p:nvSpPr>
        <p:spPr>
          <a:xfrm>
            <a:off x="7093080" y="4375080"/>
            <a:ext cx="28728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正方形/長方形 47"/>
          <p:cNvSpPr/>
          <p:nvPr/>
        </p:nvSpPr>
        <p:spPr>
          <a:xfrm>
            <a:off x="6516720" y="4375080"/>
            <a:ext cx="57636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直線コネクタ 48"/>
          <p:cNvSpPr/>
          <p:nvPr/>
        </p:nvSpPr>
        <p:spPr>
          <a:xfrm flipV="1">
            <a:off x="6516000" y="4662000"/>
            <a:ext cx="863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正方形/長方形 49"/>
          <p:cNvSpPr/>
          <p:nvPr/>
        </p:nvSpPr>
        <p:spPr>
          <a:xfrm>
            <a:off x="6516720" y="4375080"/>
            <a:ext cx="863640" cy="57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テキスト ボックス 272"/>
          <p:cNvSpPr/>
          <p:nvPr/>
        </p:nvSpPr>
        <p:spPr>
          <a:xfrm>
            <a:off x="4011480" y="3857760"/>
            <a:ext cx="92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テキスト ボックス 272"/>
          <p:cNvSpPr/>
          <p:nvPr/>
        </p:nvSpPr>
        <p:spPr>
          <a:xfrm>
            <a:off x="4011480" y="4432320"/>
            <a:ext cx="92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テキスト ボックス 272"/>
          <p:cNvSpPr/>
          <p:nvPr/>
        </p:nvSpPr>
        <p:spPr>
          <a:xfrm>
            <a:off x="4011480" y="4950000"/>
            <a:ext cx="92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テキスト ボックス 53"/>
          <p:cNvSpPr/>
          <p:nvPr/>
        </p:nvSpPr>
        <p:spPr>
          <a:xfrm>
            <a:off x="7812000" y="3933720"/>
            <a:ext cx="6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テキスト ボックス 54"/>
          <p:cNvSpPr/>
          <p:nvPr/>
        </p:nvSpPr>
        <p:spPr>
          <a:xfrm>
            <a:off x="7812000" y="4462560"/>
            <a:ext cx="6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テキスト ボックス 55"/>
          <p:cNvSpPr/>
          <p:nvPr/>
        </p:nvSpPr>
        <p:spPr>
          <a:xfrm>
            <a:off x="7812000" y="5033880"/>
            <a:ext cx="6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テキスト ボックス 56"/>
          <p:cNvSpPr/>
          <p:nvPr/>
        </p:nvSpPr>
        <p:spPr>
          <a:xfrm>
            <a:off x="7662960" y="3213000"/>
            <a:ext cx="94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 of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右中かっこ 57"/>
          <p:cNvSpPr/>
          <p:nvPr/>
        </p:nvSpPr>
        <p:spPr>
          <a:xfrm>
            <a:off x="7567560" y="3798720"/>
            <a:ext cx="144360" cy="474840"/>
          </a:xfrm>
          <a:custGeom>
            <a:avLst/>
            <a:gdLst>
              <a:gd name="textAreaLeft" fmla="*/ 0 w 144360"/>
              <a:gd name="textAreaRight" fmla="*/ 52200 w 144360"/>
              <a:gd name="textAreaTop" fmla="*/ 3600 h 474840"/>
              <a:gd name="textAreaBottom" fmla="*/ 47124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4"/>
                  <a:pt x="10800" y="548"/>
                </a:cubicBezTo>
                <a:lnTo>
                  <a:pt x="10800" y="10252"/>
                </a:lnTo>
                <a:cubicBezTo>
                  <a:pt x="10800" y="10526"/>
                  <a:pt x="16200" y="10800"/>
                  <a:pt x="21600" y="10800"/>
                </a:cubicBezTo>
                <a:cubicBezTo>
                  <a:pt x="16200" y="10800"/>
                  <a:pt x="10800" y="11074"/>
                  <a:pt x="10800" y="11348"/>
                </a:cubicBezTo>
                <a:lnTo>
                  <a:pt x="10800" y="21052"/>
                </a:lnTo>
                <a:cubicBezTo>
                  <a:pt x="10800" y="2132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右中かっこ 60"/>
          <p:cNvSpPr/>
          <p:nvPr/>
        </p:nvSpPr>
        <p:spPr>
          <a:xfrm>
            <a:off x="7567560" y="4394160"/>
            <a:ext cx="144360" cy="474840"/>
          </a:xfrm>
          <a:custGeom>
            <a:avLst/>
            <a:gdLst>
              <a:gd name="textAreaLeft" fmla="*/ 0 w 144360"/>
              <a:gd name="textAreaRight" fmla="*/ 52200 w 144360"/>
              <a:gd name="textAreaTop" fmla="*/ 3600 h 474840"/>
              <a:gd name="textAreaBottom" fmla="*/ 47124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4"/>
                  <a:pt x="10800" y="548"/>
                </a:cubicBezTo>
                <a:lnTo>
                  <a:pt x="10800" y="10252"/>
                </a:lnTo>
                <a:cubicBezTo>
                  <a:pt x="10800" y="10526"/>
                  <a:pt x="16200" y="10800"/>
                  <a:pt x="21600" y="10800"/>
                </a:cubicBezTo>
                <a:cubicBezTo>
                  <a:pt x="16200" y="10800"/>
                  <a:pt x="10800" y="11074"/>
                  <a:pt x="10800" y="11348"/>
                </a:cubicBezTo>
                <a:lnTo>
                  <a:pt x="10800" y="21052"/>
                </a:lnTo>
                <a:cubicBezTo>
                  <a:pt x="10800" y="2132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右中かっこ 61"/>
          <p:cNvSpPr/>
          <p:nvPr/>
        </p:nvSpPr>
        <p:spPr>
          <a:xfrm>
            <a:off x="7567560" y="4941720"/>
            <a:ext cx="144360" cy="473400"/>
          </a:xfrm>
          <a:custGeom>
            <a:avLst/>
            <a:gdLst>
              <a:gd name="textAreaLeft" fmla="*/ 0 w 144360"/>
              <a:gd name="textAreaRight" fmla="*/ 52200 w 144360"/>
              <a:gd name="textAreaTop" fmla="*/ 3600 h 473400"/>
              <a:gd name="textAreaBottom" fmla="*/ 469800 h 47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5"/>
                  <a:pt x="10800" y="550"/>
                </a:cubicBezTo>
                <a:lnTo>
                  <a:pt x="10800" y="10250"/>
                </a:lnTo>
                <a:cubicBezTo>
                  <a:pt x="10800" y="10525"/>
                  <a:pt x="16200" y="10800"/>
                  <a:pt x="21600" y="10800"/>
                </a:cubicBezTo>
                <a:cubicBezTo>
                  <a:pt x="16200" y="10800"/>
                  <a:pt x="10800" y="11075"/>
                  <a:pt x="10800" y="11350"/>
                </a:cubicBezTo>
                <a:lnTo>
                  <a:pt x="10800" y="21050"/>
                </a:lnTo>
                <a:cubicBezTo>
                  <a:pt x="10800" y="2132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テキスト ボックス 62"/>
          <p:cNvSpPr/>
          <p:nvPr/>
        </p:nvSpPr>
        <p:spPr>
          <a:xfrm>
            <a:off x="7812000" y="566100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テキスト ボックス 63"/>
          <p:cNvSpPr/>
          <p:nvPr/>
        </p:nvSpPr>
        <p:spPr>
          <a:xfrm rot="5400000">
            <a:off x="7805520" y="5362200"/>
            <a:ext cx="29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1:38:00Z</dcterms:created>
  <dc:creator/>
  <dc:description/>
  <dc:language>en-US</dc:language>
  <cp:lastModifiedBy/>
  <dcterms:modified xsi:type="dcterms:W3CDTF">2011-03-17T19:31:56Z</dcterms:modified>
  <cp:revision>14</cp:revision>
  <dc:subject/>
  <dc:title>Region-based adaptive loop filter using two-dimensional feature  (JCTVC-D116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31033</vt:lpwstr>
  </property>
</Properties>
</file>