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ACAB-C949-4DF3-BCCF-4FC71ECBA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18B2-695D-436E-A25F-D5EC58D7D9C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01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FC1D-E8D6-42E6-9EB3-2AAD5C00D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83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4467-8377-42E0-9294-7D008BF3E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86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C3E9-CCD9-4262-AC24-9B75E4AF9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89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98F3-3072-4572-A75A-8C63326C7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92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44A8-DCA0-4B92-A972-3669803F3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95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E335-47B0-4113-B450-E5CAB0BA8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98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FFBD-3CBF-453D-868C-7A83ACFA8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7E7-BBC5-414D-8390-B1336BF6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C44-D013-498F-9AC9-B5C76A5C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89CFC-74F2-4880-9AFB-458A1AF4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6E925-CEE0-44E4-A82D-6B0F340D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5E60B-966B-48C3-8043-6524AA3F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15552-E7B8-46C7-ABD2-ADDD162A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19B83-84BA-44FE-B06E-D7E0D19F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CEFEA-3BE7-4C01-8A6D-90374E26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86E29-9524-43D3-A698-E43765CF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0C056-0E50-405D-A8E8-AC50808A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A0AD5-90F3-4EF6-AF7E-97568224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7A1A2-7A8A-47F2-84C4-DC46C18F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C94-FD05-497B-9654-1E8A85CD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B79A3-954C-4915-A137-2711DA3A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2C0AE-C21E-485F-B275-20E834B2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9DF43-F853-4CD3-BF4C-DD2B647C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42ECB-7BCE-4799-BF8F-1E64CA30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3E1AF-FE8A-43F1-8BFC-50DBCBCF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0C60C-0EEB-4E9F-89EE-A3E9A657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93DCA-E482-4F41-812D-B375B599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1539A-FE5B-4A7E-814D-3D6A2234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BB240-4D69-47B2-89CD-471C5051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9A9D2-AD05-42A8-9ED2-928D6B29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4FF-E0F1-4D21-AA70-74B7635A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AD1C3-6B9C-4D73-9079-8DD0462E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1D484-C017-4B5A-85AF-AFCAD3B9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B6166-D202-4E2F-9E25-582673A4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C42D7-C978-45CD-9E5A-EC599512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7822C-2A55-4DE2-A1D1-E57F20E7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575A2-1A60-4290-B8E3-A33B5AD8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AAA34-E572-497D-86C9-CFA4AAC4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F899B-B3BE-40B1-B356-25A2D687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8DDFC-58DA-4AE0-BF6F-054FE261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E7453-F4E4-4160-82D8-AF0DA6DB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4B1DB-FE15-4CF6-BA2C-1655A302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FC27A-391F-4210-BE01-4EC35A2A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067EF-8115-49BC-AA37-527E2544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8A65C-2EAE-4771-A847-005AA491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3295F-23EA-478E-A585-B3B62354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71719-0E45-4BCF-A05E-4704050C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0DFB3-CCD8-49D7-A698-9C4E9AF6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483D3-241C-404A-AB61-FEFED7E4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45CAA-11D5-4887-A0CE-6AB75900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E8604-B4A1-49BA-90E4-2B10D301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2A14C-502F-4A47-85C8-48710832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6F2B0-C34D-446C-9662-50FFB10D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6001C-0389-47C0-AD26-94B52437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E7399-1CEF-4E3E-8BEB-515A6E10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CF50B-909E-4558-802A-7D11EF6D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3AC-2B24-47FB-98F2-60A9C631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E02B-6C09-49FE-9C9D-643758ED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7578-EE09-4AE0-883F-7A3E2BD2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E414-9561-4288-A08F-3BF19032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13BC-9327-4571-83AD-4E8BF6F8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E3B9-4BE2-4586-8FA1-F579F1AB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3A4-1FF7-4A82-B7C0-50380825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2682-9895-43A7-AEDB-30FF5093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600F-8D55-44B8-BFBB-7A6560BC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37EB-9BC6-40F4-B5F8-FD5FA651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5C3C-AEC8-4101-BF19-E5AB7FC6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6BDF-FA6A-45C4-9BCF-E5AAF53C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8BEC-D5A1-4161-B6C3-C21B2C4C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3FA6-1D09-4DCA-B946-D2828739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02BAF-EBE7-433A-A2F5-2A5143A0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5B91A-9EA5-4BDE-A7DC-09359D58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F52D8-45FC-4D34-A865-1F9F21D1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8C9-45CE-421A-81CE-8269CAA6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680C3-C989-4D43-AA1F-31477D64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F1071-5BF6-433C-A4E3-48ED1FD1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EB406-2DAE-4FBE-91E4-F7EAF069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B4F73-A8BA-4D09-A1F5-50165745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D5D7F-5173-43A8-9FD0-3C96DEF6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621A3-C630-40B6-ACBB-AE660024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D9A06-9F4A-4045-8D14-4E18446D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025E6-7AEC-4342-A4D5-B876C33D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A1A8C-D6DA-4934-9972-2C95ED62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20178-977B-4595-B1CB-21295AB4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609-65BC-4A63-8A0F-39E4F288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D7897-B86B-4334-A45A-2DE7B521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6DF3A-A9B7-4DE2-A22E-E2105CDC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37287-5CAC-461D-B6EA-2A481661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9993D-CA10-41AD-9FF8-881BBBF2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FC160-C3FF-4278-9CFF-D1701254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5565E-FD91-4594-BC55-1DE2BE86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317BD-3325-4304-BD68-E066A7DC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4705E-CB45-44E2-AB55-5DF2502E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A6F33-F30C-4C10-91E0-2E62E2F8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03AC8-5813-4528-B954-72ADA49E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5F3-0177-4496-A55E-C425AD0F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4E9E2-CC58-48A9-B1D5-C63FF984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0C1AF-5CFE-4E9B-8339-28BED3A7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72A0B-F055-42B3-8ED2-5E92C9C7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2E659-CD28-48BE-8664-BDE3F339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B48D8-9E68-4ADB-A755-0BDD5427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53466-6086-448A-80B9-B1277447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11BD3-FAFC-4DBB-94EC-B863FF77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90FBD-E07D-4EF6-8463-2A2A6445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0C4B7-F2EB-4EA6-9B79-C8248B58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29F1C-34A6-4663-B4C5-2740DA0E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9C5-AB20-459D-81D6-CB3E2EC5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04002-4ED8-457E-ACBB-35A4A9BC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D8426-64D5-4EF2-B6ED-333FB706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EB6C9-DEEC-4AEC-AF78-1B89CD74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390C5-03FC-43E4-B98E-44364079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714CE-85AA-44DD-AD5C-D0518FE8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FD7EA-6537-4466-8A62-D64B8FC1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1708F-7CB5-4FFC-B0FA-07CFC06E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635DA-ACC0-4E61-A24F-93E1F392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49E9D-95E6-4A39-A634-AC8847E2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F5085-1ABA-41A1-8A8C-3B17F415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10B-3056-4C60-B2C4-D2E07592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FE833-9BCB-4568-87DE-95AD8C21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F7B05-C8D8-4051-AA72-C331F195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06AEB-A42D-4AEF-A5BB-11A24255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077EE-D0D6-4817-8CB2-628B7548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8116A-8E76-4188-9EEF-39F62708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BCF7A-D3E3-4434-96A3-8C25BC8D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E185A-A443-44CA-8617-757F4B44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6CC38-5228-4633-99CB-56135692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51FE8-A7DB-4DD4-8782-2EBAA5B1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30AEE-B664-433D-AED9-C08D1A93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5105-99A4-4196-A5D8-C66C4D94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95902-F43C-4191-BBC5-5EB356D6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D1FDA-59F0-4358-99AA-718C37F3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00456-ED78-4CF0-827F-8E348EF2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AD680-0BC6-4F18-8B69-865CB9F4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1F66C-E658-478F-8037-2DC79668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A8A1E-6320-46CD-9880-1A0C3262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CF051-F674-467C-9206-B89A2AFE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D1D15-E083-47E6-B6A9-AE949448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39541-9658-4F68-86A3-3268AE04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6186A-5364-4D10-B38C-F0EA120A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3723-DB03-4206-B4E5-A6DAD52BD110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正方形/長方形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正方形/長方形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55A2-029B-49E9-8481-FE95637F87FF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3AB1-782D-4232-9B8D-5527DCF5630E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正方形/長方形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正方形/長方形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2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588E-FE7E-450D-80CB-A15768F34876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正方形/長方形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6"/>
          <p:cNvPicPr/>
          <p:nvPr/>
        </p:nvPicPr>
        <p:blipFill>
          <a:blip r:embed="rId2"/>
          <a:stretch/>
        </p:blipFill>
        <p:spPr>
          <a:xfrm>
            <a:off x="0" y="6515280"/>
            <a:ext cx="9182160" cy="34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5913-2718-4C40-BE53-9CB39AAE856E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正方形/長方形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D904-494B-49CB-A81B-7021C14E6440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37EC-93D1-4EDB-A468-56BEA990E6DD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D12C-6777-47CE-AB92-91E4F24DAA29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9382-76EC-48B5-8DF6-A4C8A69DDA92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7CCF-2591-45BE-B274-CE7AC98FDBA4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正方形/長方形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正方形/長方形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B7D9-E0DB-4381-82E5-D6592095AF50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1571760"/>
            <a:ext cx="8077320" cy="10000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F-combined adaptive loop filte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(JCTVC-E140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357520" y="3212640"/>
            <a:ext cx="3405240" cy="16160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omohiro Ika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kanori Yamazak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P Corpo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571320" y="6429240"/>
            <a:ext cx="4786200" cy="285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1000"/>
          </a:bodyPr>
          <a:p>
            <a:pPr marL="29160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5th JCT-VC Meeting, Geneva, Switzerland, March 201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yntax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6" name="コンテンツ プレースホルダ 4" descr=""/>
          <p:cNvPicPr/>
          <p:nvPr/>
        </p:nvPicPr>
        <p:blipFill>
          <a:blip r:embed="rId1"/>
          <a:stretch/>
        </p:blipFill>
        <p:spPr>
          <a:xfrm>
            <a:off x="1981080" y="1268280"/>
            <a:ext cx="4608720" cy="4900680"/>
          </a:xfrm>
          <a:prstGeom prst="rect">
            <a:avLst/>
          </a:prstGeom>
          <a:ln w="0">
            <a:noFill/>
          </a:ln>
        </p:spPr>
      </p:pic>
      <p:sp>
        <p:nvSpPr>
          <p:cNvPr id="577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D20D-63D4-4A9A-AA55-520BC2B9149C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verall Summary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7858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73000"/>
          </a:bodyPr>
          <a:p>
            <a:pPr marL="262800" indent="-1760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resul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D gai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589680" indent="-1353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1%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.7%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.7%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non-parallel case, beta = -0.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589680" indent="-1353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3%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.7%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.5%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parallel case, beta = 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 time are 99 % to 103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 Time are 104% to 105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1760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F-combine techni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good coding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asily applic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any other ALF techniques due to adding-only-one-pixel fe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1760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 to adopt this tool into 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D2 base drafted text has been prepa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1760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A294-AD23-443A-A1D6-B4C841776BCA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8 experi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F-combined A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BC64-0547-489F-A9CC-DFBD8972879C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F-combined ALF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39640" y="83628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two input in luma filt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-DF samples and post-DF samples are u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umber of inputs is signaled a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f_num_input_minus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parallel m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n-parallel m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post-DF samples to apply spatial fil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llel m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pre-DF samples to apply spatial fil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699C-348F-4F15-B649-47BE2F4B7A4C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7" descr=""/>
          <p:cNvPicPr/>
          <p:nvPr/>
        </p:nvPicPr>
        <p:blipFill>
          <a:blip r:embed="rId1"/>
          <a:stretch/>
        </p:blipFill>
        <p:spPr>
          <a:xfrm>
            <a:off x="2556000" y="3429000"/>
            <a:ext cx="3051000" cy="747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8" descr=""/>
          <p:cNvPicPr/>
          <p:nvPr/>
        </p:nvPicPr>
        <p:blipFill>
          <a:blip r:embed="rId2"/>
          <a:stretch/>
        </p:blipFill>
        <p:spPr>
          <a:xfrm>
            <a:off x="2556000" y="5445000"/>
            <a:ext cx="3051000" cy="743040"/>
          </a:xfrm>
          <a:prstGeom prst="rect">
            <a:avLst/>
          </a:prstGeom>
          <a:ln w="0">
            <a:noFill/>
          </a:ln>
        </p:spPr>
      </p:pic>
      <p:sp>
        <p:nvSpPr>
          <p:cNvPr id="537" name="テキスト ボックス 6"/>
          <p:cNvSpPr/>
          <p:nvPr/>
        </p:nvSpPr>
        <p:spPr>
          <a:xfrm>
            <a:off x="6443640" y="626760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直線コネクタ 8"/>
          <p:cNvSpPr/>
          <p:nvPr/>
        </p:nvSpPr>
        <p:spPr>
          <a:xfrm>
            <a:off x="3924360" y="3933720"/>
            <a:ext cx="2519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直線コネクタ 9"/>
          <p:cNvSpPr/>
          <p:nvPr/>
        </p:nvSpPr>
        <p:spPr>
          <a:xfrm>
            <a:off x="3708360" y="5972040"/>
            <a:ext cx="2519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テキスト ボックス 10"/>
          <p:cNvSpPr/>
          <p:nvPr/>
        </p:nvSpPr>
        <p:spPr>
          <a:xfrm>
            <a:off x="6443640" y="417996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blocking parameter adjustment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achieve maximum performance,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blocking parameter is adjus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 parallel 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a = -0.6 (const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allel 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a =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a value is sent in the slice header as AVC/H.26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8150-8152-4A37-A79C-8EC85C29414C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E8 Experimental resul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B674-763F-47FD-8897-C557F0E2D9AB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79280" y="692280"/>
          <a:ext cx="4233960" cy="5959440"/>
        </p:xfrm>
        <a:graphic>
          <a:graphicData uri="http://schemas.openxmlformats.org/drawingml/2006/table">
            <a:tbl>
              <a:tblPr/>
              <a:tblGrid>
                <a:gridCol w="1109880"/>
                <a:gridCol w="1041120"/>
                <a:gridCol w="1041480"/>
                <a:gridCol w="1041480"/>
              </a:tblGrid>
              <a:tr h="182880">
                <a:tc rowSpan="2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3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7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rowSpan="2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dom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7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7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w 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04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4572000" y="692280"/>
          <a:ext cx="4233960" cy="5959440"/>
        </p:xfrm>
        <a:graphic>
          <a:graphicData uri="http://schemas.openxmlformats.org/drawingml/2006/table">
            <a:tbl>
              <a:tblPr/>
              <a:tblGrid>
                <a:gridCol w="1109520"/>
                <a:gridCol w="1041480"/>
                <a:gridCol w="1041480"/>
                <a:gridCol w="1041480"/>
              </a:tblGrid>
              <a:tr h="182880">
                <a:tc rowSpan="2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3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7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rowSpan="2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dom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7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7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w 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04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emory acces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79020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ory access does’nt increased much when DF and ALF perform simultaneous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0818-59B9-47D7-823A-A3F748674AAF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正方形/長方形 4"/>
          <p:cNvSpPr/>
          <p:nvPr/>
        </p:nvSpPr>
        <p:spPr>
          <a:xfrm>
            <a:off x="888840" y="4581360"/>
            <a:ext cx="1314720" cy="56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GｺﾞｼｯｸM"/>
              </a:rPr>
              <a:t>Wiener-based filter ( ALF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正方形/長方形 5"/>
          <p:cNvSpPr/>
          <p:nvPr/>
        </p:nvSpPr>
        <p:spPr>
          <a:xfrm>
            <a:off x="907920" y="3807000"/>
            <a:ext cx="1295640" cy="564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GｺﾞｼｯｸM"/>
              </a:rPr>
              <a:t>De-blocking filter ( DF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直線矢印コネクタ 8"/>
          <p:cNvCxnSpPr>
            <a:endCxn id="552" idx="3"/>
          </p:cNvCxnSpPr>
          <p:nvPr/>
        </p:nvCxnSpPr>
        <p:spPr>
          <a:xfrm flipH="1" flipV="1">
            <a:off x="2203200" y="4088520"/>
            <a:ext cx="11340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4" name="直線矢印コネクタ 10"/>
          <p:cNvCxnSpPr>
            <a:stCxn id="552" idx="2"/>
            <a:endCxn id="551" idx="0"/>
          </p:cNvCxnSpPr>
          <p:nvPr/>
        </p:nvCxnSpPr>
        <p:spPr>
          <a:xfrm flipH="1">
            <a:off x="1545480" y="4371840"/>
            <a:ext cx="1044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5" name="直線矢印コネクタ 13"/>
          <p:cNvCxnSpPr/>
          <p:nvPr/>
        </p:nvCxnSpPr>
        <p:spPr>
          <a:xfrm>
            <a:off x="2182680" y="5003280"/>
            <a:ext cx="11548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6" name="正方形/長方形 26"/>
          <p:cNvSpPr/>
          <p:nvPr/>
        </p:nvSpPr>
        <p:spPr>
          <a:xfrm>
            <a:off x="5132520" y="4646520"/>
            <a:ext cx="1314360" cy="561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GｺﾞｼｯｸM"/>
              </a:rPr>
              <a:t>Wiener-based filter ( ALF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正方形/長方形 27"/>
          <p:cNvSpPr/>
          <p:nvPr/>
        </p:nvSpPr>
        <p:spPr>
          <a:xfrm>
            <a:off x="5151600" y="3871800"/>
            <a:ext cx="1295280" cy="565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GｺﾞｼｯｸM"/>
              </a:rPr>
              <a:t>De-blocking filter ( DF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直線矢印コネクタ 29"/>
          <p:cNvCxnSpPr>
            <a:stCxn id="557" idx="2"/>
            <a:endCxn id="556" idx="0"/>
          </p:cNvCxnSpPr>
          <p:nvPr/>
        </p:nvCxnSpPr>
        <p:spPr>
          <a:xfrm flipH="1">
            <a:off x="5788800" y="4437000"/>
            <a:ext cx="1044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9" name="カギ線コネクタ 37"/>
          <p:cNvCxnSpPr>
            <a:stCxn id="552" idx="3"/>
            <a:endCxn id="551" idx="3"/>
          </p:cNvCxnSpPr>
          <p:nvPr/>
        </p:nvCxnSpPr>
        <p:spPr>
          <a:xfrm>
            <a:off x="2203560" y="4089240"/>
            <a:ext cx="2160" cy="774000"/>
          </a:xfrm>
          <a:prstGeom prst="bentConnector3">
            <a:avLst>
              <a:gd name="adj1" fmla="val 1438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0" name="正方形/長方形 41"/>
          <p:cNvSpPr/>
          <p:nvPr/>
        </p:nvSpPr>
        <p:spPr>
          <a:xfrm>
            <a:off x="457200" y="3429000"/>
            <a:ext cx="216072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Intern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正方形/長方形 43"/>
          <p:cNvSpPr/>
          <p:nvPr/>
        </p:nvSpPr>
        <p:spPr>
          <a:xfrm>
            <a:off x="3336840" y="3429000"/>
            <a:ext cx="115272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Extern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正方形/長方形 44"/>
          <p:cNvSpPr/>
          <p:nvPr/>
        </p:nvSpPr>
        <p:spPr>
          <a:xfrm>
            <a:off x="4788000" y="3429000"/>
            <a:ext cx="216036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Intern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正方形/長方形 45"/>
          <p:cNvSpPr/>
          <p:nvPr/>
        </p:nvSpPr>
        <p:spPr>
          <a:xfrm>
            <a:off x="7596360" y="3414600"/>
            <a:ext cx="1152360" cy="20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Extern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4" name="直線矢印コネクタ 47"/>
          <p:cNvCxnSpPr/>
          <p:nvPr/>
        </p:nvCxnSpPr>
        <p:spPr>
          <a:xfrm flipH="1" flipV="1">
            <a:off x="6446160" y="4144680"/>
            <a:ext cx="1135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直線矢印コネクタ 48"/>
          <p:cNvCxnSpPr/>
          <p:nvPr/>
        </p:nvCxnSpPr>
        <p:spPr>
          <a:xfrm>
            <a:off x="6426360" y="4941360"/>
            <a:ext cx="11563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テキスト ボックス 14"/>
          <p:cNvSpPr/>
          <p:nvPr/>
        </p:nvSpPr>
        <p:spPr>
          <a:xfrm>
            <a:off x="4815000" y="2349360"/>
            <a:ext cx="1631880" cy="70380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テキスト ボックス 15"/>
          <p:cNvSpPr/>
          <p:nvPr/>
        </p:nvSpPr>
        <p:spPr>
          <a:xfrm>
            <a:off x="457200" y="2349360"/>
            <a:ext cx="1609560" cy="70380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直線コネクタ 52"/>
          <p:cNvSpPr/>
          <p:nvPr/>
        </p:nvSpPr>
        <p:spPr>
          <a:xfrm>
            <a:off x="2340000" y="4862520"/>
            <a:ext cx="853920" cy="123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テキスト ボックス 24"/>
          <p:cNvSpPr/>
          <p:nvPr/>
        </p:nvSpPr>
        <p:spPr>
          <a:xfrm>
            <a:off x="3193920" y="5945040"/>
            <a:ext cx="281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memor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7858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73000"/>
          </a:bodyPr>
          <a:p>
            <a:pPr marL="262800" indent="-1760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resul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D gai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589680" indent="-1353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1%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.7%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.7%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non-parallel case, beta = -0.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589680" indent="-1353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3%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.7%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.5%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parallel case, beta = 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 time are 99 % to 103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 Time are 104% to 105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1760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F-combine techni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good coding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asily applic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any other ALF techniques due to adding-only-one-pixel fe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1760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 to adopt this tool into 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4320" indent="-19116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D2 base drafted text has been prepa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17604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4901-D557-4AA9-9725-758FE4D85E5D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AABF-ACAA-4A30-9C1B-67E24769BF3E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テキスト ボックス 4"/>
          <p:cNvSpPr/>
          <p:nvPr/>
        </p:nvSpPr>
        <p:spPr>
          <a:xfrm>
            <a:off x="2771640" y="249228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1:38:00Z</dcterms:created>
  <dc:creator/>
  <dc:description/>
  <dc:language>en-US</dc:language>
  <cp:lastModifiedBy/>
  <dcterms:modified xsi:type="dcterms:W3CDTF">2011-03-17T16:41:02Z</dcterms:modified>
  <cp:revision>8</cp:revision>
  <dc:subject/>
  <dc:title>DF-combined adaptive loop filter (D115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31033</vt:lpwstr>
  </property>
</Properties>
</file>