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11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-VC E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2"/>
          <p:cNvSpPr/>
          <p:nvPr/>
        </p:nvSpPr>
        <p:spPr>
          <a:xfrm>
            <a:off x="289080" y="247680"/>
            <a:ext cx="1440" cy="247680"/>
          </a:xfrm>
          <a:prstGeom prst="line">
            <a:avLst/>
          </a:prstGeom>
          <a:ln w="47520">
            <a:solidFill>
              <a:srgbClr val="d0d8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7635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11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485720"/>
            <a:ext cx="8459640" cy="24015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E130 - CE6.b.2: Report on Combined Intra Prediction with Parallel Intra Coding by BBC and Sharp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rta Mrak, Andrea Gabriellini (BBC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Jie Zhao, Andrew Segall (SHARP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Intra prediction in HM2.0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548820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ra prediction direction signalled on PU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ctual prediction performed at TU level, from neighbouring T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erial dependenc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mall block sizes results in more dependencies within a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lution for reducing s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rial dependenc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rallel Intra Prediction (PIP) - D074, E315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roposed for higher resolution sequences, where serial bottleneck of intra prediction is more critical issu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6084720" y="2205000"/>
            <a:ext cx="17290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eft Arrow 6"/>
          <p:cNvSpPr/>
          <p:nvPr/>
        </p:nvSpPr>
        <p:spPr>
          <a:xfrm rot="18982800">
            <a:off x="6792480" y="1468440"/>
            <a:ext cx="720720" cy="360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6696000" y="105408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on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6661080" y="414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6084720" y="1845360"/>
            <a:ext cx="863640" cy="1224720"/>
            <a:chOff x="6084720" y="1845360"/>
            <a:chExt cx="863640" cy="1224720"/>
          </a:xfrm>
        </p:grpSpPr>
        <p:sp>
          <p:nvSpPr>
            <p:cNvPr id="253" name="Rectangle 5"/>
            <p:cNvSpPr/>
            <p:nvPr/>
          </p:nvSpPr>
          <p:spPr>
            <a:xfrm>
              <a:off x="6084720" y="2205360"/>
              <a:ext cx="863640" cy="8647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eft Arrow 13"/>
            <p:cNvSpPr/>
            <p:nvPr/>
          </p:nvSpPr>
          <p:spPr>
            <a:xfrm rot="18982800">
              <a:off x="6456600" y="1944360"/>
              <a:ext cx="359640" cy="180000"/>
            </a:xfrm>
            <a:prstGeom prst="leftArrow">
              <a:avLst>
                <a:gd name="adj1" fmla="val 50000"/>
                <a:gd name="adj2" fmla="val 499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6948360" y="1845360"/>
            <a:ext cx="865440" cy="1224720"/>
            <a:chOff x="6948360" y="1845360"/>
            <a:chExt cx="865440" cy="1224720"/>
          </a:xfrm>
        </p:grpSpPr>
        <p:sp>
          <p:nvSpPr>
            <p:cNvPr id="256" name="Rectangle 16"/>
            <p:cNvSpPr/>
            <p:nvPr/>
          </p:nvSpPr>
          <p:spPr>
            <a:xfrm>
              <a:off x="6948360" y="2205360"/>
              <a:ext cx="865440" cy="8647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eft Arrow 17"/>
            <p:cNvSpPr/>
            <p:nvPr/>
          </p:nvSpPr>
          <p:spPr>
            <a:xfrm rot="18982800">
              <a:off x="7321320" y="1944720"/>
              <a:ext cx="360720" cy="180000"/>
            </a:xfrm>
            <a:prstGeom prst="leftArrow">
              <a:avLst>
                <a:gd name="adj1" fmla="val 50000"/>
                <a:gd name="adj2" fmla="val 501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6084720" y="2709000"/>
            <a:ext cx="863640" cy="1224720"/>
            <a:chOff x="6084720" y="2709000"/>
            <a:chExt cx="863640" cy="1224720"/>
          </a:xfrm>
        </p:grpSpPr>
        <p:sp>
          <p:nvSpPr>
            <p:cNvPr id="259" name="Rectangle 19"/>
            <p:cNvSpPr/>
            <p:nvPr/>
          </p:nvSpPr>
          <p:spPr>
            <a:xfrm>
              <a:off x="6084720" y="3069000"/>
              <a:ext cx="863640" cy="8647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eft Arrow 20"/>
            <p:cNvSpPr/>
            <p:nvPr/>
          </p:nvSpPr>
          <p:spPr>
            <a:xfrm rot="18982800">
              <a:off x="6456600" y="2808000"/>
              <a:ext cx="359640" cy="180000"/>
            </a:xfrm>
            <a:prstGeom prst="leftArrow">
              <a:avLst>
                <a:gd name="adj1" fmla="val 50000"/>
                <a:gd name="adj2" fmla="val 499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6948360" y="2709000"/>
            <a:ext cx="865440" cy="1224720"/>
            <a:chOff x="6948360" y="2709000"/>
            <a:chExt cx="865440" cy="1224720"/>
          </a:xfrm>
        </p:grpSpPr>
        <p:sp>
          <p:nvSpPr>
            <p:cNvPr id="262" name="Rectangle 22"/>
            <p:cNvSpPr/>
            <p:nvPr/>
          </p:nvSpPr>
          <p:spPr>
            <a:xfrm>
              <a:off x="6948360" y="3069000"/>
              <a:ext cx="865440" cy="8647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eft Arrow 23"/>
            <p:cNvSpPr/>
            <p:nvPr/>
          </p:nvSpPr>
          <p:spPr>
            <a:xfrm rot="18982800">
              <a:off x="7321320" y="2808360"/>
              <a:ext cx="360720" cy="180000"/>
            </a:xfrm>
            <a:prstGeom prst="leftArrow">
              <a:avLst>
                <a:gd name="adj1" fmla="val 50000"/>
                <a:gd name="adj2" fmla="val 501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5"/>
          <p:cNvGrpSpPr/>
          <p:nvPr/>
        </p:nvGrpSpPr>
        <p:grpSpPr>
          <a:xfrm>
            <a:off x="6084720" y="2205000"/>
            <a:ext cx="1944720" cy="2233080"/>
            <a:chOff x="6084720" y="2205000"/>
            <a:chExt cx="1944720" cy="2233080"/>
          </a:xfrm>
        </p:grpSpPr>
        <p:sp>
          <p:nvSpPr>
            <p:cNvPr id="265" name="Straight Connector 10"/>
            <p:cNvSpPr/>
            <p:nvPr/>
          </p:nvSpPr>
          <p:spPr>
            <a:xfrm>
              <a:off x="6949080" y="2205000"/>
              <a:ext cx="0" cy="17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2"/>
            <p:cNvSpPr/>
            <p:nvPr/>
          </p:nvSpPr>
          <p:spPr>
            <a:xfrm>
              <a:off x="6084720" y="3069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24"/>
            <p:cNvSpPr/>
            <p:nvPr/>
          </p:nvSpPr>
          <p:spPr>
            <a:xfrm>
              <a:off x="6949080" y="4131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4 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Parallel Intra Prediction (PIP) - E315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909720"/>
            <a:ext cx="59914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ere the focus is on 2x parallelism from E315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ables parallel processing for the smallest P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pplied on Parallel Prediction Block (PPB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8 x 8 PUs, when parallelism is useful (partitioning into 4 TUs), 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ur 4 x 4 PUs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each case there are serial dependencies between 4 x 4 TUs for intra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fines 2 sets of blocks (TUs) </a:t>
            </a:r>
            <a:br>
              <a:rPr sz="1800"/>
            </a:br>
            <a:br>
              <a:rPr sz="500"/>
            </a:b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     Set 1: uses reconstructed pixels from outside PPB</a:t>
            </a:r>
            <a:br>
              <a:rPr sz="1800"/>
            </a:br>
            <a:br>
              <a:rPr sz="500"/>
            </a:b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     Set 2: uses any available pixels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locks from each set are predicted in parall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rediction from outside PPB can be poorer compared to the original HM design </a:t>
            </a:r>
            <a:br>
              <a:rPr sz="1800"/>
            </a:br>
            <a:r>
              <a:rPr b="0" lang="en-GB" sz="1800" spc="-1" strike="noStrike">
                <a:solidFill>
                  <a:srgbClr val="80808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use prediction from inside the block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70" name="Group 15"/>
          <p:cNvGrpSpPr/>
          <p:nvPr/>
        </p:nvGrpSpPr>
        <p:grpSpPr>
          <a:xfrm>
            <a:off x="6948360" y="1125720"/>
            <a:ext cx="1729080" cy="2087280"/>
            <a:chOff x="6948360" y="1125720"/>
            <a:chExt cx="1729080" cy="2087280"/>
          </a:xfrm>
        </p:grpSpPr>
        <p:grpSp>
          <p:nvGrpSpPr>
            <p:cNvPr id="271" name="Group 3"/>
            <p:cNvGrpSpPr/>
            <p:nvPr/>
          </p:nvGrpSpPr>
          <p:grpSpPr>
            <a:xfrm>
              <a:off x="6948360" y="1126080"/>
              <a:ext cx="864360" cy="1223280"/>
              <a:chOff x="6948360" y="1126080"/>
              <a:chExt cx="864360" cy="1223280"/>
            </a:xfrm>
          </p:grpSpPr>
          <p:sp>
            <p:nvSpPr>
              <p:cNvPr id="272" name="Rectangle 4"/>
              <p:cNvSpPr/>
              <p:nvPr/>
            </p:nvSpPr>
            <p:spPr>
              <a:xfrm>
                <a:off x="6948360" y="1485720"/>
                <a:ext cx="864360" cy="86364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eft Arrow 5"/>
              <p:cNvSpPr/>
              <p:nvPr/>
            </p:nvSpPr>
            <p:spPr>
              <a:xfrm rot="18982800">
                <a:off x="7320960" y="1225440"/>
                <a:ext cx="360000" cy="179640"/>
              </a:xfrm>
              <a:prstGeom prst="leftArrow">
                <a:avLst>
                  <a:gd name="adj1" fmla="val 50000"/>
                  <a:gd name="adj2" fmla="val 501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"/>
            <p:cNvGrpSpPr/>
            <p:nvPr/>
          </p:nvGrpSpPr>
          <p:grpSpPr>
            <a:xfrm>
              <a:off x="7812720" y="1125720"/>
              <a:ext cx="864720" cy="1223640"/>
              <a:chOff x="7812720" y="1125720"/>
              <a:chExt cx="864720" cy="1223640"/>
            </a:xfrm>
          </p:grpSpPr>
          <p:sp>
            <p:nvSpPr>
              <p:cNvPr id="275" name="Rectangle 7"/>
              <p:cNvSpPr/>
              <p:nvPr/>
            </p:nvSpPr>
            <p:spPr>
              <a:xfrm>
                <a:off x="7812720" y="1485720"/>
                <a:ext cx="864720" cy="86364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eft Arrow 8"/>
              <p:cNvSpPr/>
              <p:nvPr/>
            </p:nvSpPr>
            <p:spPr>
              <a:xfrm rot="18982800">
                <a:off x="8184960" y="1225080"/>
                <a:ext cx="360360" cy="179640"/>
              </a:xfrm>
              <a:prstGeom prst="leftArrow">
                <a:avLst>
                  <a:gd name="adj1" fmla="val 50000"/>
                  <a:gd name="adj2" fmla="val 5015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9"/>
            <p:cNvGrpSpPr/>
            <p:nvPr/>
          </p:nvGrpSpPr>
          <p:grpSpPr>
            <a:xfrm>
              <a:off x="6948360" y="1989720"/>
              <a:ext cx="864360" cy="1223280"/>
              <a:chOff x="6948360" y="1989720"/>
              <a:chExt cx="864360" cy="1223280"/>
            </a:xfrm>
          </p:grpSpPr>
          <p:sp>
            <p:nvSpPr>
              <p:cNvPr id="278" name="Rectangle 10"/>
              <p:cNvSpPr/>
              <p:nvPr/>
            </p:nvSpPr>
            <p:spPr>
              <a:xfrm>
                <a:off x="6948360" y="2349360"/>
                <a:ext cx="864360" cy="86364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eft Arrow 11"/>
              <p:cNvSpPr/>
              <p:nvPr/>
            </p:nvSpPr>
            <p:spPr>
              <a:xfrm rot="18982800">
                <a:off x="7320960" y="2089080"/>
                <a:ext cx="360000" cy="179640"/>
              </a:xfrm>
              <a:prstGeom prst="leftArrow">
                <a:avLst>
                  <a:gd name="adj1" fmla="val 50000"/>
                  <a:gd name="adj2" fmla="val 501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2"/>
            <p:cNvGrpSpPr/>
            <p:nvPr/>
          </p:nvGrpSpPr>
          <p:grpSpPr>
            <a:xfrm>
              <a:off x="7812720" y="1989360"/>
              <a:ext cx="864720" cy="1223640"/>
              <a:chOff x="7812720" y="1989360"/>
              <a:chExt cx="864720" cy="1223640"/>
            </a:xfrm>
          </p:grpSpPr>
          <p:sp>
            <p:nvSpPr>
              <p:cNvPr id="281" name="Rectangle 13"/>
              <p:cNvSpPr/>
              <p:nvPr/>
            </p:nvSpPr>
            <p:spPr>
              <a:xfrm>
                <a:off x="7812720" y="2349360"/>
                <a:ext cx="864720" cy="86364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eft Arrow 14"/>
              <p:cNvSpPr/>
              <p:nvPr/>
            </p:nvSpPr>
            <p:spPr>
              <a:xfrm rot="18982800">
                <a:off x="8184960" y="2088720"/>
                <a:ext cx="360360" cy="179640"/>
              </a:xfrm>
              <a:prstGeom prst="leftArrow">
                <a:avLst>
                  <a:gd name="adj1" fmla="val 50000"/>
                  <a:gd name="adj2" fmla="val 5015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16"/>
          <p:cNvSpPr/>
          <p:nvPr/>
        </p:nvSpPr>
        <p:spPr>
          <a:xfrm>
            <a:off x="6805440" y="76500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M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6877080" y="343044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P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6948360" y="4078440"/>
            <a:ext cx="86544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eft Arrow 5"/>
          <p:cNvSpPr/>
          <p:nvPr/>
        </p:nvSpPr>
        <p:spPr>
          <a:xfrm rot="18982800">
            <a:off x="7321320" y="3817440"/>
            <a:ext cx="360360" cy="179640"/>
          </a:xfrm>
          <a:prstGeom prst="leftArrow">
            <a:avLst>
              <a:gd name="adj1" fmla="val 50000"/>
              <a:gd name="adj2" fmla="val 501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7"/>
          <p:cNvSpPr/>
          <p:nvPr/>
        </p:nvSpPr>
        <p:spPr>
          <a:xfrm>
            <a:off x="7813800" y="4078440"/>
            <a:ext cx="863640" cy="863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eft Arrow 28"/>
          <p:cNvSpPr/>
          <p:nvPr/>
        </p:nvSpPr>
        <p:spPr>
          <a:xfrm rot="18982800">
            <a:off x="8303760" y="3817440"/>
            <a:ext cx="360360" cy="179640"/>
          </a:xfrm>
          <a:prstGeom prst="leftArrow">
            <a:avLst>
              <a:gd name="adj1" fmla="val 50000"/>
              <a:gd name="adj2" fmla="val 501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6948360" y="4941720"/>
            <a:ext cx="865440" cy="863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eft Arrow 26"/>
          <p:cNvSpPr/>
          <p:nvPr/>
        </p:nvSpPr>
        <p:spPr>
          <a:xfrm rot="18982800">
            <a:off x="7058160" y="4312800"/>
            <a:ext cx="1380960" cy="1983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7813800" y="4941720"/>
            <a:ext cx="863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eft Arrow 24"/>
          <p:cNvSpPr/>
          <p:nvPr/>
        </p:nvSpPr>
        <p:spPr>
          <a:xfrm rot="18982800">
            <a:off x="8184960" y="4681080"/>
            <a:ext cx="360360" cy="179640"/>
          </a:xfrm>
          <a:prstGeom prst="leftArrow">
            <a:avLst>
              <a:gd name="adj1" fmla="val 50000"/>
              <a:gd name="adj2" fmla="val 501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5"/>
          <p:cNvGrpSpPr/>
          <p:nvPr/>
        </p:nvGrpSpPr>
        <p:grpSpPr>
          <a:xfrm>
            <a:off x="684360" y="3789360"/>
            <a:ext cx="276120" cy="275760"/>
            <a:chOff x="684360" y="3789360"/>
            <a:chExt cx="276120" cy="275760"/>
          </a:xfrm>
        </p:grpSpPr>
        <p:sp>
          <p:nvSpPr>
            <p:cNvPr id="294" name="Rectangle 32"/>
            <p:cNvSpPr/>
            <p:nvPr/>
          </p:nvSpPr>
          <p:spPr>
            <a:xfrm>
              <a:off x="822600" y="3789360"/>
              <a:ext cx="137880" cy="1378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3"/>
            <p:cNvSpPr/>
            <p:nvPr/>
          </p:nvSpPr>
          <p:spPr>
            <a:xfrm>
              <a:off x="684360" y="3927240"/>
              <a:ext cx="138240" cy="1378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6"/>
          <p:cNvGrpSpPr/>
          <p:nvPr/>
        </p:nvGrpSpPr>
        <p:grpSpPr>
          <a:xfrm>
            <a:off x="684360" y="4149720"/>
            <a:ext cx="276120" cy="275760"/>
            <a:chOff x="684360" y="4149720"/>
            <a:chExt cx="276120" cy="275760"/>
          </a:xfrm>
        </p:grpSpPr>
        <p:sp>
          <p:nvSpPr>
            <p:cNvPr id="297" name="Rectangle 4"/>
            <p:cNvSpPr/>
            <p:nvPr/>
          </p:nvSpPr>
          <p:spPr>
            <a:xfrm>
              <a:off x="684360" y="414972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4"/>
            <p:cNvSpPr/>
            <p:nvPr/>
          </p:nvSpPr>
          <p:spPr>
            <a:xfrm>
              <a:off x="822600" y="4287600"/>
              <a:ext cx="13788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ombined Intra Prediction (CIP) - D191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548820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t">
            <a:normAutofit/>
          </a:bodyPr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IP comprises a weighted combination of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ngular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cal mean predi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not only open-loo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eighted comb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construction process is stable and controls any noise arising from different values available on enc/dec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D-rate gain without increase of complex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sults from D191 for intra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verage 0.3 % HE, 0.7 % LC Y-BD-rate gai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arger gains for higher resolutions - Class A average results are 1.2 % HE and 2.4 L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01640" indent="-25092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igher gains when encoder's complexity increases (testing more combination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01" name="Picture 16" descr=""/>
          <p:cNvPicPr/>
          <p:nvPr/>
        </p:nvPicPr>
        <p:blipFill>
          <a:blip r:embed="rId1"/>
          <a:stretch/>
        </p:blipFill>
        <p:spPr>
          <a:xfrm>
            <a:off x="5869080" y="1197000"/>
            <a:ext cx="31399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IP + PIP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0520" y="1294920"/>
            <a:ext cx="5775480" cy="2854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92000"/>
          </a:bodyPr>
          <a:p>
            <a:pPr marL="284760" indent="-280440">
              <a:spcBef>
                <a:spcPts val="675"/>
              </a:spcBef>
              <a:buClr>
                <a:srgbClr val="62708c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oal is to improve prediction in PI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10200" indent="-230400">
              <a:spcBef>
                <a:spcPts val="675"/>
              </a:spcBef>
              <a:buClr>
                <a:srgbClr val="62708c"/>
              </a:buClr>
              <a:buFont typeface="Arial"/>
              <a:buChar char="–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ing prediction from neighboring pixels from the current block (open loop prediction component of CIP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10200" indent="-230400">
              <a:spcBef>
                <a:spcPts val="675"/>
              </a:spcBef>
              <a:buClr>
                <a:srgbClr val="62708c"/>
              </a:buClr>
              <a:buFont typeface="Arial"/>
              <a:buChar char="–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4760" indent="-280440">
              <a:spcBef>
                <a:spcPts val="675"/>
              </a:spcBef>
              <a:buClr>
                <a:srgbClr val="62708c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est include different CIP configur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10200" indent="-230400">
              <a:spcBef>
                <a:spcPts val="675"/>
              </a:spcBef>
              <a:buClr>
                <a:srgbClr val="62708c"/>
              </a:buClr>
              <a:buFont typeface="Arial"/>
              <a:buChar char="–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ncoder: adding more RD search options that include CIP increases complexity and BD-rate gai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10200" indent="-230400">
              <a:spcBef>
                <a:spcPts val="675"/>
              </a:spcBef>
              <a:buClr>
                <a:srgbClr val="62708c"/>
              </a:buClr>
              <a:buFont typeface="Arial"/>
              <a:buChar char="–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coding complexity of each configuration same as for the base (HM or HM+PIP)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10200" indent="-230400">
              <a:spcBef>
                <a:spcPts val="675"/>
              </a:spcBef>
              <a:buClr>
                <a:srgbClr val="62708c"/>
              </a:buClr>
              <a:buFont typeface="Arial"/>
              <a:buChar char="–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6805440" y="981000"/>
            <a:ext cx="17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P + CIP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6877080" y="1630440"/>
            <a:ext cx="863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Arrow 5"/>
          <p:cNvSpPr/>
          <p:nvPr/>
        </p:nvSpPr>
        <p:spPr>
          <a:xfrm rot="18982800">
            <a:off x="7249680" y="1368000"/>
            <a:ext cx="358920" cy="181080"/>
          </a:xfrm>
          <a:prstGeom prst="leftArrow">
            <a:avLst>
              <a:gd name="adj1" fmla="val 50000"/>
              <a:gd name="adj2" fmla="val 495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7740720" y="1630440"/>
            <a:ext cx="865080" cy="863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eft Arrow 7"/>
          <p:cNvSpPr/>
          <p:nvPr/>
        </p:nvSpPr>
        <p:spPr>
          <a:xfrm rot="18982800">
            <a:off x="8232840" y="1368000"/>
            <a:ext cx="360360" cy="18108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877080" y="2494080"/>
            <a:ext cx="863640" cy="863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eft Arrow 9"/>
          <p:cNvSpPr/>
          <p:nvPr/>
        </p:nvSpPr>
        <p:spPr>
          <a:xfrm rot="18982800">
            <a:off x="6986160" y="1864800"/>
            <a:ext cx="1381320" cy="198720"/>
          </a:xfrm>
          <a:prstGeom prst="leftArrow">
            <a:avLst>
              <a:gd name="adj1" fmla="val 50000"/>
              <a:gd name="adj2" fmla="val 4991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7740720" y="249408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eft Arrow 11"/>
          <p:cNvSpPr/>
          <p:nvPr/>
        </p:nvSpPr>
        <p:spPr>
          <a:xfrm rot="18982800">
            <a:off x="8113320" y="2233080"/>
            <a:ext cx="360360" cy="179640"/>
          </a:xfrm>
          <a:prstGeom prst="leftArrow">
            <a:avLst>
              <a:gd name="adj1" fmla="val 50000"/>
              <a:gd name="adj2" fmla="val 501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6805440" y="29066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7021440" y="2638440"/>
            <a:ext cx="301680" cy="2937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7"/>
          <p:cNvSpPr/>
          <p:nvPr/>
        </p:nvSpPr>
        <p:spPr>
          <a:xfrm>
            <a:off x="7740720" y="2041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7956720" y="1773360"/>
            <a:ext cx="301320" cy="2952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19"/>
          <p:cNvSpPr/>
          <p:nvPr/>
        </p:nvSpPr>
        <p:spPr>
          <a:xfrm>
            <a:off x="7740720" y="290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</a:rPr>
              <a:t>C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3"/>
          <a:stretch/>
        </p:blipFill>
        <p:spPr>
          <a:xfrm>
            <a:off x="7956720" y="2638440"/>
            <a:ext cx="301320" cy="2937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1"/>
          <p:cNvSpPr/>
          <p:nvPr/>
        </p:nvSpPr>
        <p:spPr>
          <a:xfrm>
            <a:off x="6805440" y="20415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</a:rPr>
              <a:t>C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4"/>
          <a:stretch/>
        </p:blipFill>
        <p:spPr>
          <a:xfrm>
            <a:off x="7021440" y="1773360"/>
            <a:ext cx="30168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117000"/>
            <a:ext cx="3116160" cy="11257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2708c"/>
                </a:solidFill>
                <a:latin typeface="Arial Bold"/>
              </a:rPr>
              <a:t>Results for CIP and PIP separately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62708c"/>
                </a:solidFill>
                <a:latin typeface="Arial Bold"/>
              </a:rPr>
              <a:t>Intra coding configurations </a:t>
            </a:r>
            <a:endParaRPr b="0" lang="en-US" sz="16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322" name="Content Placeholder 12"/>
          <p:cNvGraphicFramePr/>
          <p:nvPr/>
        </p:nvGraphicFramePr>
        <p:xfrm>
          <a:off x="3303720" y="119160"/>
          <a:ext cx="5648040" cy="64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Content Placeholder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3720" y="119160"/>
                    <a:ext cx="5648040" cy="64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Content Placeholder 2"/>
          <p:cNvSpPr/>
          <p:nvPr/>
        </p:nvSpPr>
        <p:spPr>
          <a:xfrm>
            <a:off x="181080" y="2205000"/>
            <a:ext cx="295092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both tools applied on luma sample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BD-rate gain/loss in chroma components taken into account using YUV BD-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derived from YUV PSN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(6 </a:t>
            </a:r>
            <a:r>
              <a:rPr b="0" lang="en-US" sz="1200" spc="-1" strike="noStrike">
                <a:solidFill>
                  <a:srgbClr val="808080"/>
                </a:solidFill>
                <a:latin typeface="Symbol"/>
                <a:ea typeface="Symbol"/>
              </a:rPr>
              <a:t>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 PSNR_Y + PSNR_U + PSNR_V) / 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6880" y="46080"/>
            <a:ext cx="3021120" cy="1224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2708c"/>
                </a:solidFill>
                <a:latin typeface="Arial Bold"/>
              </a:rPr>
              <a:t>Results for CIP + PIP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62708c"/>
                </a:solidFill>
                <a:latin typeface="Arial Bold"/>
              </a:rPr>
              <a:t>Intra coding configurations </a:t>
            </a:r>
            <a:endParaRPr b="0" lang="en-US" sz="16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326" name="Content Placeholder 3"/>
          <p:cNvGraphicFramePr/>
          <p:nvPr/>
        </p:nvGraphicFramePr>
        <p:xfrm>
          <a:off x="2760840" y="1193760"/>
          <a:ext cx="66373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0840" y="1193760"/>
                    <a:ext cx="66373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520" y="81756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We propose the application of CIP with PIP, for the HM design.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Results show that the increased parallelization comes with little loss in coding efficiency, which can be almost completely cancelled using CIP, 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without increase of complexity.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With more complex setting the CIP is capable to further improve the results of HM2.0 that uses parallel intra prediction.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Given this level of performance and the significance of parallelization for future standards, we recommend CIP +PIP to be adopted in the HM.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</dc:creator>
  <dc:description/>
  <dc:language>en-US</dc:language>
  <cp:lastModifiedBy>martam</cp:lastModifiedBy>
  <dcterms:modified xsi:type="dcterms:W3CDTF">2011-03-16T10:11:23Z</dcterms:modified>
  <cp:revision>16</cp:revision>
  <dc:subject/>
  <dc:title>jctvc</dc:title>
</cp:coreProperties>
</file>