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DFE3-DC41-4F75-AEF4-529573F0B0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7EB-A5EA-43B8-B754-D9EF34E135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B98E-A77B-4CFA-82DE-FAE9DD7EB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8BF5-F3CC-41FD-924D-26E3812E0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B1EA-AA6A-4AA6-9EA5-69445667C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AD6D-208F-4873-BAC8-72E337257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588A-6D52-4925-8332-8FC0A55EE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7C525-E7DA-42F0-9E5B-1CAC57921D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03F8-A59F-4686-8B1D-1B700B77AB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F6FC1-718B-45EA-B986-D4A7B1C192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658F-4D42-444F-9D91-94BBAAD836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585E1-B201-4234-87A6-F2D10486E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F0BA-EC94-4B76-A0D3-3228BD7315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6595-0BAB-4B36-8CD5-4CD89C0EE8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69BB9-5A1F-4987-9BFC-74233259F6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A7E80-9707-4746-998F-A30246D91E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8EA9-FAB2-4F44-8311-DF5D70E7AB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73B16-FDB7-4598-9781-FA88C42226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8CF0A-2E3C-4131-ACFA-153C188472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AE3DA-1E8B-4A33-A754-A8443B25A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9D15-78F0-4513-909A-3A6BD6BAC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DBE0-3D57-47EA-9D72-63716A76D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4682-423A-44BE-BC70-B84C30E43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DD26-B798-4429-AC39-61AAC91F2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F6C4-CF3D-4C58-B6FE-386341798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6E5A-FC71-451D-A30E-DE5F59650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E5C-805A-4560-BCC8-08385B0544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0" y="6237360"/>
            <a:ext cx="891396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0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9CFB-C8A8-4887-9338-19A2392DA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on Vector Decimation for Tempor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un Guo, Jian-Liang Lin, Yu-Wen Huang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-23 March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tion vector decimation method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bottom right 4x4 block instead of the current top lef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ference indices of the MV decimation position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replacing M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-rate reduction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RA-HE, RA-LC, LD-HE and LD-LC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lso replacing referenc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-rate reduction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RA-HE, RA-LC, LD-HE and LD-LC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and deco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to HM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EB93-472F-4680-96FC-D4BC31C2BE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 compression in HM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reduced size of MV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16x16 MV compression unit as defaul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top left 4x4 block for MV dec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match between MVs and referenc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blocks use the MVs of block 0 but their own reference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6DC-A7B6-4595-9722-E70638AB61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22"/>
          <p:cNvGrpSpPr/>
          <p:nvPr/>
        </p:nvGrpSpPr>
        <p:grpSpPr>
          <a:xfrm>
            <a:off x="3494160" y="2857680"/>
            <a:ext cx="2006640" cy="1896840"/>
            <a:chOff x="3494160" y="2857680"/>
            <a:chExt cx="2006640" cy="1896840"/>
          </a:xfrm>
        </p:grpSpPr>
        <p:sp>
          <p:nvSpPr>
            <p:cNvPr id="150" name="Rectangle 5"/>
            <p:cNvSpPr/>
            <p:nvPr/>
          </p:nvSpPr>
          <p:spPr>
            <a:xfrm>
              <a:off x="3494160" y="2857680"/>
              <a:ext cx="503280" cy="474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3997440" y="285768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3494160" y="3332160"/>
              <a:ext cx="5032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>
              <a:off x="3997440" y="333216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"/>
            <p:cNvSpPr/>
            <p:nvPr/>
          </p:nvSpPr>
          <p:spPr>
            <a:xfrm>
              <a:off x="4496040" y="285768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4997520" y="2857680"/>
              <a:ext cx="5032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496040" y="333216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4997520" y="3332160"/>
              <a:ext cx="5032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3494160" y="3807000"/>
              <a:ext cx="5032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7"/>
            <p:cNvSpPr/>
            <p:nvPr/>
          </p:nvSpPr>
          <p:spPr>
            <a:xfrm>
              <a:off x="3997440" y="3807000"/>
              <a:ext cx="5014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"/>
            <p:cNvSpPr/>
            <p:nvPr/>
          </p:nvSpPr>
          <p:spPr>
            <a:xfrm>
              <a:off x="3494160" y="4280040"/>
              <a:ext cx="5032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3997440" y="428004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4496040" y="3807000"/>
              <a:ext cx="5014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997520" y="3807000"/>
              <a:ext cx="5032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4496040" y="428004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4997520" y="4280040"/>
              <a:ext cx="5032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bottom left 4x4 block for MV dec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mismatch between MVs and referenc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ference indices of the bottom left 4x4 block for the whol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V Decimation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332-599C-4DAF-8B6C-2C7C67135A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1"/>
          <p:cNvGrpSpPr/>
          <p:nvPr/>
        </p:nvGrpSpPr>
        <p:grpSpPr>
          <a:xfrm>
            <a:off x="3489480" y="3317760"/>
            <a:ext cx="2006280" cy="1897200"/>
            <a:chOff x="3489480" y="3317760"/>
            <a:chExt cx="2006280" cy="1897200"/>
          </a:xfrm>
        </p:grpSpPr>
        <p:sp>
          <p:nvSpPr>
            <p:cNvPr id="171" name="Rectangle 5"/>
            <p:cNvSpPr/>
            <p:nvPr/>
          </p:nvSpPr>
          <p:spPr>
            <a:xfrm>
              <a:off x="3489480" y="3317760"/>
              <a:ext cx="50292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992400" y="331776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489480" y="3792240"/>
              <a:ext cx="50292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3992400" y="379224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491000" y="331776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4992840" y="3317760"/>
              <a:ext cx="50292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4491000" y="379224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5"/>
            <p:cNvSpPr/>
            <p:nvPr/>
          </p:nvSpPr>
          <p:spPr>
            <a:xfrm>
              <a:off x="4992840" y="3792240"/>
              <a:ext cx="50292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489480" y="4267080"/>
              <a:ext cx="50292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7"/>
            <p:cNvSpPr/>
            <p:nvPr/>
          </p:nvSpPr>
          <p:spPr>
            <a:xfrm>
              <a:off x="3992400" y="4267080"/>
              <a:ext cx="5014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3489480" y="4740480"/>
              <a:ext cx="50292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3992400" y="474048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4491000" y="4267080"/>
              <a:ext cx="50148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1"/>
            <p:cNvSpPr/>
            <p:nvPr/>
          </p:nvSpPr>
          <p:spPr>
            <a:xfrm>
              <a:off x="4992840" y="4267080"/>
              <a:ext cx="502920" cy="47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2"/>
            <p:cNvSpPr/>
            <p:nvPr/>
          </p:nvSpPr>
          <p:spPr>
            <a:xfrm>
              <a:off x="4491000" y="4740480"/>
              <a:ext cx="501480" cy="47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3"/>
            <p:cNvSpPr/>
            <p:nvPr/>
          </p:nvSpPr>
          <p:spPr>
            <a:xfrm>
              <a:off x="4992840" y="4740480"/>
              <a:ext cx="502920" cy="474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71680" y="1071720"/>
            <a:ext cx="80546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test conditions in JCTVC-C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configurations: RA-HE, RA-LC, LD-HE and LD-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1 – use the bottom right 4x4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2 – remove the mismatch based on experimen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403-BE2A-4EDF-B0FF-2A630AE443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Experimen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08A-9870-4DED-AB0C-3BF116AD45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63600" y="1714680"/>
          <a:ext cx="6149880" cy="4271760"/>
        </p:xfrm>
        <a:graphic>
          <a:graphicData uri="http://schemas.openxmlformats.org/drawingml/2006/table">
            <a:tbl>
              <a:tblPr/>
              <a:tblGrid>
                <a:gridCol w="1155600"/>
                <a:gridCol w="831960"/>
                <a:gridCol w="831960"/>
                <a:gridCol w="833400"/>
                <a:gridCol w="831960"/>
                <a:gridCol w="831600"/>
                <a:gridCol w="833400"/>
              </a:tblGrid>
              <a:tr h="51732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E-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-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 txBox="1"/>
          <p:nvPr/>
        </p:nvSpPr>
        <p:spPr>
          <a:xfrm>
            <a:off x="713880" y="1071720"/>
            <a:ext cx="8055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bottom right 4x4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Experimen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D9F-AE52-4F40-BBF9-422BDA061E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571680" y="1071720"/>
            <a:ext cx="805464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13880" y="1071720"/>
            <a:ext cx="8055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mismatch based on experimen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00120" y="1643040"/>
          <a:ext cx="6149880" cy="4272120"/>
        </p:xfrm>
        <a:graphic>
          <a:graphicData uri="http://schemas.openxmlformats.org/drawingml/2006/table">
            <a:tbl>
              <a:tblPr/>
              <a:tblGrid>
                <a:gridCol w="1155600"/>
                <a:gridCol w="831960"/>
                <a:gridCol w="831960"/>
                <a:gridCol w="833400"/>
                <a:gridCol w="831960"/>
                <a:gridCol w="831600"/>
                <a:gridCol w="833400"/>
              </a:tblGrid>
              <a:tr h="51768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E-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-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-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74360" y="1042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V decimation method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RA-HE, RA-LC, LD-HE and LD-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mprovement by removing the mismatch between MVs and reference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RA-HE, RA-LC, LD-HE and LD-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is almost the same to that of HM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o be accepted by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9EF-D574-4773-9114-B325377591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801-A062-4902-B506-4335736711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/>
  <dc:description/>
  <dc:language>en-US</dc:language>
  <cp:lastModifiedBy>xun guo</cp:lastModifiedBy>
  <dcterms:modified xsi:type="dcterms:W3CDTF">2011-03-19T06:39:00Z</dcterms:modified>
  <cp:revision>1531</cp:revision>
  <dc:subject/>
  <dc:title>CE8 Subtest 1: Improved Deblocking Filter (IDF)</dc:title>
</cp:coreProperties>
</file>